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7114A2-4C79-4146-BC48-AD75F54CE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F5FD31-1636-454F-93EA-DF68026253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39561C-2C0B-49A4-BFCB-4699CD0539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0ACA01-B11C-4722-B2EF-C90933E65E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043FB-B315-4759-859F-2538F7991B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0CBAA-8D33-45DD-AEE0-46BA4769FD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52964C-0DEA-41F6-BA93-3860C654768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14617-33A0-4E0A-A9FE-69E3BC3BA91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BBDE2F-70C7-4719-9386-F96AA818A2E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B47E8A-A416-4519-BF5F-46DB99503E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AD5E37-3872-4608-912C-C82356F4C84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031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881506-D679-49A6-8597-D4A0FB495BA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B542-D77B-4793-9D3B-5A69458D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1C20-BB8B-4689-B5EA-9247C7022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7F27-9C9E-4399-AC13-35D4B2967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2079-AE9E-4AD7-B1C0-0F1A93475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E018-2B99-46EE-9020-5D3A53DD7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4667-C1DE-4BE4-B338-B8B6D7377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F1FC-09F5-4204-A8DD-821B66FC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5823-DD30-457F-8418-7360B9AF1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07B-ABB6-42C1-9C88-791CF489D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406B-3AD5-4ED4-981D-44D778B0F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42BF-20A5-4F54-AB44-FEFC814B8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EEA-6E34-4FB5-BEC5-29FD409E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C1E6-609C-4C95-B6FE-03A2EF5C32D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20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Controls, Forms, part 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386080" y="5719680"/>
            <a:ext cx="456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tart Visual Studio. Open the Lecture18/19 Web si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No reading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905120" y="1905120"/>
            <a:ext cx="5398920" cy="422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, cont.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905120" y="1754280"/>
            <a:ext cx="5489280" cy="44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Inserting data, other featur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 Improve the Web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/edit the page links in the nav bar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n Offices.aspx page if you have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(h2) text on the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it website.map to include new pages created tod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his is what the ‘breadcrumb’ navigation uses as its ma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ext to Default.aspx, your hom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‘Contact us’ link; it should send em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s to the pages you created (&lt;title&gt;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rite some SQL by hand in the SQLDataSource wiz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the INSERT statement in CustomerOrders.aspx to confirm it does not have a primary key field, because the customer number is IDENTITY (auto-generat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TextBox 3"/>
          <p:cNvSpPr/>
          <p:nvPr/>
        </p:nvSpPr>
        <p:spPr>
          <a:xfrm>
            <a:off x="3351600" y="6324480"/>
            <a:ext cx="58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toolkit.ashr.transportation.org/NCHRP.aspx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in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save pages in VSW after making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 on tab means the page has not been sav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member to refresh the browser after you make a change to a Web page and are testing 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browser caches the page, and doesn’t know that you’ve changed it unless you force a refres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ack up your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py your Web site to another Web site on your computer periodicall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ummary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NET (and JEE 6, LAMP) framework allows Web site construction from contr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 connect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id, form, data, detail views for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lidation controls (we didn’t cover them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ion controls (SiteMapPath, othe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and permission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JAX: Asynchronoux Javascript and X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es the sorting in GridView, for examp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ervices: machine-to-machine contr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this in the next class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works for Web-database syste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icrosoft .NET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ndows, IIS, SQL Server, ASP.NET and C# or other langu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Java Enterprise Edition (JEE 6 or, older, J2E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y OS, Glassfish/Apache, any database, Jav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MP open source frame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ux, Apache, MySQL, ph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can essentially interoper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ices based on cost-speed-performance-security-stability tradeoff: Java -&gt; .NET -&gt; LAM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have similar features, though details va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ASP.NE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pages are .aspx pages. They have 2 par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Aspx page, which is considered a Web for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Microsoft ASP.NET server code that converts the controls on the .aspx page into XHTML that is sent back to a client (browser or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HTML code is generated dynamically based on database queries and programs that run on the server, such as optimization or design too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 sites are compiled to check for errors, just like software programs (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Debug-&gt; Build Web Site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heck for error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ent-driven model, as we’ve seen in our exercis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Inserted, DataUpdated, DataDeleted eve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en Web site Lecture18 in VS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Box 1"/>
          <p:cNvSpPr/>
          <p:nvPr/>
        </p:nvSpPr>
        <p:spPr>
          <a:xfrm>
            <a:off x="7169760" y="6581880"/>
            <a:ext cx="196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Go to next slide to finish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Display, edit, delete: part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Edit data between two tabl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3 SqlDataSources, 2 GridViews and FormVie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play and edit orders for a custom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can use this to display and edit line items in an order in homework 7/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0200" indent="-2502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eps to create CustomerOrders pag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1: select * from custom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1 on data source 1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2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customer is selected value from Gridview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Gridview2 on data source 2: enable sel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SqlDataSource3: select * from or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order is selected value from Gridview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vanced: Enable insert, delete, upd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FormView1 on data sourc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4120" indent="-1666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dd GridView2.DataBind() to events as in previous sli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42160" indent="-2084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&lt;h2&g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1447920" y="1065240"/>
            <a:ext cx="6291000" cy="55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Passing a WHERE parameter across pag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ou can get parameters for WHERE clause fr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trol (e.g., GridView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ok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QueryString (e.g., localhost/Order?ID=2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ssion variables, profiles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ercis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2.aspx with two hyper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1: SalesReps3.aspx?office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ffice 2: SalesReps3.aspx?office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reate SalesReps3.aspx. On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qlDataSource1 WHERE RepOffice= QueryString off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02880" indent="-18036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ut GridView on SQLDataSource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pen SalesReps2 in browser and click on lin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 may use this to display your catalog in homework 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8-10-06T02:50:22Z</cp:lastPrinted>
  <dcterms:modified xsi:type="dcterms:W3CDTF">2013-10-23T23:49:51Z</dcterms:modified>
  <cp:revision>217</cp:revision>
  <dc:subject/>
  <dc:title>1.264 Lecture 5</dc:title>
</cp:coreProperties>
</file>