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E600-5F61-4297-B30B-349C259E1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1BCCB-B688-4F49-9CC5-49DC07AF4A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3EAA4-2DFA-4A43-BD44-B3385F2273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14343-2E7D-4D5F-9815-0F2B712CA89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70CAC-F240-4BFA-8D52-25CAAB054A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F673A-EE8C-4789-900C-449B37DA11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EA7C-70FF-4F09-831E-C0EFF7D194A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FBF68-C182-4884-8629-E97355C7A7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F672-CB90-4D06-918F-A9DC317605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95B28-DC30-4408-B3A1-DDEFF3E876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69B0-0E90-4F4A-9B20-0695EB85BD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242B-9D8C-4C83-BC30-878025552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4FC-0DA7-424A-BC7B-EF9AFF59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2F5F-6EB4-4F90-BAD4-FB8AAE245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53C0-1CFA-4952-B84D-4845839D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4806-BD1A-414A-AC93-862C5E030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635A-3E28-4FD9-B7F3-F2C652E3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9529-B1E9-4C5A-9F79-93B981ED3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F5C6-BA5B-43EE-9388-646E89AAD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5A5F-C993-4616-BE1A-B02121A89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5737B-FF13-478C-B214-AF88BB84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5CAD-836A-416D-AB4D-9129F2F4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15B5F-DCD6-43D3-95C2-1CD603BE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61E20-FA7A-4FEE-B704-7B691B71B3F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8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key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215800" y="5719680"/>
            <a:ext cx="538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s 20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(Reading doesn’t cover same topics as lectur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 signatures are implemented using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ertific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se are the MIT certificates we all have on ou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s with digital signatu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cut and paste encrypted signature from old message to new faked mess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ne solution is for receiver to send ‘challenge phrase’ to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then encrypts with sender private key and sends to receiver, who can check if it’s what she sent initi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oofer can alter parts of th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lution is message digest functions to provide integrity che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essage digest is function run on entire message that produces short digest, often 128 bits (note that 2</a:t>
            </a:r>
            <a:r>
              <a:rPr b="1" lang="en-US" sz="1600" spc="-1" strike="noStrike" baseline="30000">
                <a:solidFill>
                  <a:srgbClr val="ffffff"/>
                </a:solidFill>
                <a:latin typeface="Arial"/>
              </a:rPr>
              <a:t>128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s a very big number of combinations!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87880" indent="-2124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 digest and message.  Receiver runs digest algorithm on message and checks if same 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SA: Rivest-Shamir-Adleman: asymmtric encryption algorith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ES: American Encryption Standard: symmetric encryption algorith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Dx, sha-x: hash or message digest functions to ensure message integr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SL: Secure Sockets Layer, protocol for entire transa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LS: Transport Layer Security, successor to SS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ymmetric or “public key” encryp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123720"/>
            <a:ext cx="769608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 pairs: public key for encryption, private key for decryp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SA: 1024-2048 bit, in common use for Web and ema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ent expired in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blem with public key algorith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eed: RSA is 1000 times slower than symmetric algorith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blem avoided by using RSA to exchange a symmetric session key and then using symmetric encryption method for the rest of the session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se a different symmetric key each session to limit damage if key is brok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5335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7339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Rectangle 10"/>
          <p:cNvSpPr/>
          <p:nvPr/>
        </p:nvSpPr>
        <p:spPr>
          <a:xfrm>
            <a:off x="6934320" y="182880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1"/>
          <p:cNvSpPr/>
          <p:nvPr/>
        </p:nvSpPr>
        <p:spPr>
          <a:xfrm>
            <a:off x="16765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12"/>
          <p:cNvSpPr/>
          <p:nvPr/>
        </p:nvSpPr>
        <p:spPr>
          <a:xfrm>
            <a:off x="4876920" y="22096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3"/>
          <p:cNvSpPr/>
          <p:nvPr/>
        </p:nvSpPr>
        <p:spPr>
          <a:xfrm>
            <a:off x="18219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4"/>
          <p:cNvSpPr/>
          <p:nvPr/>
        </p:nvSpPr>
        <p:spPr>
          <a:xfrm>
            <a:off x="5022360" y="1627200"/>
            <a:ext cx="1690200" cy="116532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’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ublic key (RSA) concep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blic key P is pair of integers (N, 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ret or private key S is pair of integers (N, 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large random prime numbers (Fermat’s Little Th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rgest is s.  Call the other two x and 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= x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= smallest integer such that (ps) mod (x-1)(y-1)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message into a series of chunks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 message chunk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 = m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p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crypt ciphertext chunk c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to plaintext m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by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c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s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 is hard to compute from N and 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knowledge of x and y, which requires factoring 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actoring is exponential time algorithm, so if the number to be factored is big enough, it takes a very long time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again, very simplifie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______________________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__, x= __, y= __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______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_____     _____     _____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de GETURL as A=01, B=02…E=05,G=07,L=12,R=18,T=20,U=21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2021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te 3 random primes: 47, 79, 97 (way too small in real life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s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9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x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7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y=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9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Verify that p= 37 us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ps) mod (x-1)(y-1) =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ute N= xy: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37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eak the message into three 4-digit chunk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12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ciphertext: raise each chunk to the p power % N: </a:t>
            </a: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(% =mo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564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64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70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564, 2021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645, 1812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3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337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trieve plaintext: raise each chunk to s power % 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0705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2021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564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0705, 1645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2021, 3378</a:t>
            </a:r>
            <a:r>
              <a:rPr b="1" lang="en-US" sz="1800" spc="-1" strike="noStrike" baseline="30000">
                <a:solidFill>
                  <a:srgbClr val="ffffff"/>
                </a:solidFill>
                <a:latin typeface="Arial"/>
              </a:rPr>
              <a:t>97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% 3713= 18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secure are AES and RSA?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Questions to ask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rrect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, though if we learn to factor large numbers, RSA is d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algorithm coded correctly, including chaining, digests, padding of short blocks, etc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: 2010 ASP.NET br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s key management correct and secure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a vulnerability; keys protected by weak passwords, revocation lists not checked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n a message be cracked by brute forc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if key is too short: 128-256 bits for symmetric is ok, 1024-2048 for RSA is o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48600" indent="-1897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ly keys for high value assets (defense, nuclear, etc.) merit the effort to crack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ipher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a message is longer than the key (the usual ca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exclusive-or (add bits without carrying) each block of plaintext with the previous block of ciphertext before encryptin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disguises any patterns in plain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eated plaintext is coded differently each time it appe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190512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343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6"/>
          <p:cNvSpPr/>
          <p:nvPr/>
        </p:nvSpPr>
        <p:spPr>
          <a:xfrm>
            <a:off x="6629400" y="51246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Line 7"/>
          <p:cNvSpPr/>
          <p:nvPr/>
        </p:nvSpPr>
        <p:spPr>
          <a:xfrm>
            <a:off x="236232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8"/>
          <p:cNvSpPr/>
          <p:nvPr/>
        </p:nvSpPr>
        <p:spPr>
          <a:xfrm>
            <a:off x="1676520" y="48196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001160" y="4524480"/>
            <a:ext cx="76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itial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213480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11"/>
          <p:cNvSpPr/>
          <p:nvPr/>
        </p:nvSpPr>
        <p:spPr>
          <a:xfrm>
            <a:off x="236232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 Box 12"/>
          <p:cNvSpPr/>
          <p:nvPr/>
        </p:nvSpPr>
        <p:spPr>
          <a:xfrm>
            <a:off x="213516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236232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 flipV="1">
            <a:off x="358128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358128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Line 16"/>
          <p:cNvSpPr/>
          <p:nvPr/>
        </p:nvSpPr>
        <p:spPr>
          <a:xfrm>
            <a:off x="474984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452232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Line 18"/>
          <p:cNvSpPr/>
          <p:nvPr/>
        </p:nvSpPr>
        <p:spPr>
          <a:xfrm>
            <a:off x="7086600" y="45910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19"/>
          <p:cNvSpPr/>
          <p:nvPr/>
        </p:nvSpPr>
        <p:spPr>
          <a:xfrm>
            <a:off x="6859080" y="43434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Line 20"/>
          <p:cNvSpPr/>
          <p:nvPr/>
        </p:nvSpPr>
        <p:spPr>
          <a:xfrm>
            <a:off x="4734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21"/>
          <p:cNvSpPr/>
          <p:nvPr/>
        </p:nvSpPr>
        <p:spPr>
          <a:xfrm>
            <a:off x="4506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22"/>
          <p:cNvSpPr/>
          <p:nvPr/>
        </p:nvSpPr>
        <p:spPr>
          <a:xfrm>
            <a:off x="4734000" y="6248520"/>
            <a:ext cx="12189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23"/>
          <p:cNvSpPr/>
          <p:nvPr/>
        </p:nvSpPr>
        <p:spPr>
          <a:xfrm flipV="1">
            <a:off x="5952960" y="4800600"/>
            <a:ext cx="0" cy="1447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Line 24"/>
          <p:cNvSpPr/>
          <p:nvPr/>
        </p:nvSpPr>
        <p:spPr>
          <a:xfrm>
            <a:off x="5952960" y="48006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5"/>
          <p:cNvSpPr/>
          <p:nvPr/>
        </p:nvSpPr>
        <p:spPr>
          <a:xfrm>
            <a:off x="7101000" y="6039000"/>
            <a:ext cx="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6"/>
          <p:cNvSpPr/>
          <p:nvPr/>
        </p:nvSpPr>
        <p:spPr>
          <a:xfrm>
            <a:off x="6873840" y="6330960"/>
            <a:ext cx="43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27"/>
          <p:cNvSpPr/>
          <p:nvPr/>
        </p:nvSpPr>
        <p:spPr>
          <a:xfrm>
            <a:off x="7086600" y="624852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" name="Group 35"/>
          <p:cNvGrpSpPr/>
          <p:nvPr/>
        </p:nvGrpSpPr>
        <p:grpSpPr>
          <a:xfrm>
            <a:off x="2314440" y="4775040"/>
            <a:ext cx="92160" cy="91800"/>
            <a:chOff x="2314440" y="4775040"/>
            <a:chExt cx="92160" cy="91800"/>
          </a:xfrm>
        </p:grpSpPr>
        <p:grpSp>
          <p:nvGrpSpPr>
            <p:cNvPr id="95" name="Group 34"/>
            <p:cNvGrpSpPr/>
            <p:nvPr/>
          </p:nvGrpSpPr>
          <p:grpSpPr>
            <a:xfrm>
              <a:off x="2314440" y="4775040"/>
              <a:ext cx="92160" cy="91800"/>
              <a:chOff x="2314440" y="4775040"/>
              <a:chExt cx="92160" cy="91800"/>
            </a:xfrm>
          </p:grpSpPr>
          <p:sp>
            <p:nvSpPr>
              <p:cNvPr id="96" name="Oval 28"/>
              <p:cNvSpPr/>
              <p:nvPr/>
            </p:nvSpPr>
            <p:spPr>
              <a:xfrm>
                <a:off x="2314440" y="477504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Line 29"/>
              <p:cNvSpPr/>
              <p:nvPr/>
            </p:nvSpPr>
            <p:spPr>
              <a:xfrm>
                <a:off x="2314440" y="482256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Line 30"/>
            <p:cNvSpPr/>
            <p:nvPr/>
          </p:nvSpPr>
          <p:spPr>
            <a:xfrm>
              <a:off x="2358720" y="477504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Group 36"/>
          <p:cNvGrpSpPr/>
          <p:nvPr/>
        </p:nvGrpSpPr>
        <p:grpSpPr>
          <a:xfrm>
            <a:off x="4699080" y="4753080"/>
            <a:ext cx="92160" cy="91800"/>
            <a:chOff x="4699080" y="4753080"/>
            <a:chExt cx="92160" cy="91800"/>
          </a:xfrm>
        </p:grpSpPr>
        <p:grpSp>
          <p:nvGrpSpPr>
            <p:cNvPr id="100" name="Group 37"/>
            <p:cNvGrpSpPr/>
            <p:nvPr/>
          </p:nvGrpSpPr>
          <p:grpSpPr>
            <a:xfrm>
              <a:off x="4699080" y="4753080"/>
              <a:ext cx="92160" cy="91800"/>
              <a:chOff x="4699080" y="4753080"/>
              <a:chExt cx="92160" cy="91800"/>
            </a:xfrm>
          </p:grpSpPr>
          <p:sp>
            <p:nvSpPr>
              <p:cNvPr id="101" name="Oval 38"/>
              <p:cNvSpPr/>
              <p:nvPr/>
            </p:nvSpPr>
            <p:spPr>
              <a:xfrm>
                <a:off x="4699080" y="4753080"/>
                <a:ext cx="9216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Line 39"/>
              <p:cNvSpPr/>
              <p:nvPr/>
            </p:nvSpPr>
            <p:spPr>
              <a:xfrm>
                <a:off x="4699080" y="4800600"/>
                <a:ext cx="76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" name="Line 40"/>
            <p:cNvSpPr/>
            <p:nvPr/>
          </p:nvSpPr>
          <p:spPr>
            <a:xfrm>
              <a:off x="474336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" name="Group 41"/>
          <p:cNvGrpSpPr/>
          <p:nvPr/>
        </p:nvGrpSpPr>
        <p:grpSpPr>
          <a:xfrm>
            <a:off x="7039080" y="4753080"/>
            <a:ext cx="91800" cy="91800"/>
            <a:chOff x="7039080" y="4753080"/>
            <a:chExt cx="91800" cy="91800"/>
          </a:xfrm>
        </p:grpSpPr>
        <p:grpSp>
          <p:nvGrpSpPr>
            <p:cNvPr id="105" name="Group 42"/>
            <p:cNvGrpSpPr/>
            <p:nvPr/>
          </p:nvGrpSpPr>
          <p:grpSpPr>
            <a:xfrm>
              <a:off x="7039080" y="4753080"/>
              <a:ext cx="91800" cy="91800"/>
              <a:chOff x="7039080" y="4753080"/>
              <a:chExt cx="91800" cy="91800"/>
            </a:xfrm>
          </p:grpSpPr>
          <p:sp>
            <p:nvSpPr>
              <p:cNvPr id="106" name="Oval 43"/>
              <p:cNvSpPr/>
              <p:nvPr/>
            </p:nvSpPr>
            <p:spPr>
              <a:xfrm>
                <a:off x="7039080" y="4753080"/>
                <a:ext cx="91800" cy="918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44"/>
              <p:cNvSpPr/>
              <p:nvPr/>
            </p:nvSpPr>
            <p:spPr>
              <a:xfrm>
                <a:off x="7039080" y="4800600"/>
                <a:ext cx="75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8" name="Line 45"/>
            <p:cNvSpPr/>
            <p:nvPr/>
          </p:nvSpPr>
          <p:spPr>
            <a:xfrm>
              <a:off x="7083000" y="4753080"/>
              <a:ext cx="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essage diges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ic hashes are a one-way function that creates a short number (128 to 160 bits, often) that is very unlikely to be generated by any other mess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shes are the last (chained) block cipher of a message, so it depends on the entire mess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’s used to verify that the message has not been alte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on message diges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4: 3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D5: 4 rounds, 128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1: 5 rounds, 160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256: 64 rounds, 256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a512: 80 rounds, 512 bit ha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gital signatures/certific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251424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public/private key in opposite fashion from message encryption to provide sender authent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er signs document with her private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he decryption is correct, message must have been sent by sen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cryp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encrypts message with receiver public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receiver’s private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sender to send secure messages to any 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ure Sockets Layer(SSL) distributes public keys– covered n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12640" indent="-1969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gital signa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 signs message with own private key and sen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 decrypts with sender’s public 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788400" indent="-15768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is allows any receiver to verify the sender of any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" name="Group 4"/>
          <p:cNvGrpSpPr/>
          <p:nvPr/>
        </p:nvGrpSpPr>
        <p:grpSpPr>
          <a:xfrm>
            <a:off x="685800" y="1142640"/>
            <a:ext cx="7162920" cy="1219320"/>
            <a:chOff x="685800" y="1142640"/>
            <a:chExt cx="7162920" cy="1219320"/>
          </a:xfrm>
        </p:grpSpPr>
        <p:sp>
          <p:nvSpPr>
            <p:cNvPr id="114" name="Rectangle 5"/>
            <p:cNvSpPr/>
            <p:nvPr/>
          </p:nvSpPr>
          <p:spPr>
            <a:xfrm>
              <a:off x="68580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6"/>
            <p:cNvSpPr/>
            <p:nvPr/>
          </p:nvSpPr>
          <p:spPr>
            <a:xfrm>
              <a:off x="37339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igital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7"/>
            <p:cNvSpPr/>
            <p:nvPr/>
          </p:nvSpPr>
          <p:spPr>
            <a:xfrm>
              <a:off x="6705720" y="1523880"/>
              <a:ext cx="1143000" cy="762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ignat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8"/>
            <p:cNvSpPr/>
            <p:nvPr/>
          </p:nvSpPr>
          <p:spPr>
            <a:xfrm>
              <a:off x="1828800" y="1904760"/>
              <a:ext cx="1905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9"/>
            <p:cNvSpPr/>
            <p:nvPr/>
          </p:nvSpPr>
          <p:spPr>
            <a:xfrm>
              <a:off x="4876920" y="1904760"/>
              <a:ext cx="1828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22096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rivat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1"/>
            <p:cNvSpPr/>
            <p:nvPr/>
          </p:nvSpPr>
          <p:spPr>
            <a:xfrm>
              <a:off x="5410080" y="1447560"/>
              <a:ext cx="914400" cy="9144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’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ublic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ke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12"/>
            <p:cNvSpPr/>
            <p:nvPr/>
          </p:nvSpPr>
          <p:spPr>
            <a:xfrm>
              <a:off x="855720" y="114264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Sende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Text Box 13"/>
            <p:cNvSpPr/>
            <p:nvPr/>
          </p:nvSpPr>
          <p:spPr>
            <a:xfrm>
              <a:off x="6688080" y="1142640"/>
              <a:ext cx="109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ipi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2-12-30T00:03:03Z</cp:lastPrinted>
  <dcterms:modified xsi:type="dcterms:W3CDTF">2013-11-17T22:07:09Z</dcterms:modified>
  <cp:revision>161</cp:revision>
  <dc:subject/>
  <dc:title>1.264 Lecture 5</dc:title>
</cp:coreProperties>
</file>