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10918B-EA09-4158-B2B1-8B0B99318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2CE07-FCF7-424B-A732-A95CADB826C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F5BA6E-05D3-4AE4-AB2B-80C39764D0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169A6-449C-410D-AB28-93D2DA68B8C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1A47F1-64B8-4A04-BCCF-28BA4344924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2BA48A-A45F-4133-B44D-9E624EC4A1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560F2-9405-4169-8559-8B86651E36A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6C230F-EE9C-491C-8F43-6542349816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877537-6182-4189-B3AD-1FC36E9404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865C14-1164-48E7-9118-C9FF910273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140702-B3B7-488A-9EB3-B68A5F19AC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EB3876-9EB2-44ED-B553-5A9B4EF4773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F1030-02CA-4BAB-BEF4-1D9422EC8B2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38E62-E9A1-4A9F-88DE-FF5E8088FE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2412D540-25E0-4434-831E-24A9215E0A6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3C429838-D844-410C-9AFF-91894952D01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43543E6-4C37-4086-97ED-57E874BEFB7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6B57DE35-25A6-4393-8381-051DFAA0F0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ABE82715-8C58-4990-84E5-920107F5549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0B33DF46-4916-4BA0-A297-A647C03C6E8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05FA-A40D-43AC-A9DC-A1C45BB93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755F-516F-4EE6-914F-7BB7397C6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854-FC8D-474B-93DF-08B55F62D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367A-9C06-47B3-B885-23CF628D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816-D004-47E2-BAE3-4D73CB5EA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80B-3F17-41E7-A9FB-70C491C9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21D8-FC1D-40E7-A76F-E614DE38A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417C-D1B9-4800-AD8B-9DC5B06E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D4C5-C9F9-4EAE-A598-411CB9B3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9CE8-CECF-4E90-8FF6-C3B373E04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F06-BE45-4D41-A1A0-BC18542A8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7D41-005B-4D04-9533-49B72FA21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D86F4-DBA1-46BE-974C-3A557A6234E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2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292120" y="5562720"/>
            <a:ext cx="4780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s.  Exercise due after</a:t>
            </a: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Use same Web site today that we started in Lecture 21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lso open SQL Server Management Studio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6: More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have XML columns in a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query, update and index th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at a time, ru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1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2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3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4.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at does each 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s is a nice way to store highly variable information where standard columns don’t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5600520" y="6253200"/>
            <a:ext cx="359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XML1-4 code from Kiessig, Ultra-Fast ASP.NET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: Exercise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1: Creates XML schema and Products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d by Products table to validate XML colum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2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all columns from all row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props where width exi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width where color of top part is blac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id, name, first color where color of legs is chro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3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ange leg color to sil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arm with color wh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ve first color (ar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4: creates index on XML column, path, properties and valu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e indexes on Products table in SSMS explor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idpoint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: snippet of database being sent from one Web server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ains tags defined by business, hyperlink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ew from HTML but defines content, not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and/or XSD: contains business rules (1-1, 1-many, null/not null, etc) to validate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transforms and styles and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ke change to sent or received XML to meet business nee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query language used for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me role as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Simple Object Access Protocol: SOAP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XML and 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nt is to use no extra technology for distributed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some headers to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adds new MIME type: text/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s agreed definitions of data types, mandatory valu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TTP POST and XML replace complex progra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text rather than binary, so it’s much easier to interoperate across machines and debug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inary transmissions are not human-read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AP can send binary objects like pictures (that are human readabl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AP is sufficiently efficient for most machine-machine communic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AP is the key component in Web services, or Service Oriented Architectures (S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eb Services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 provides information in an XML format to be used by a cl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does not display the data in a user interfa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is not tied to a specific Web page or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in .NET are on pages with a .asmx extension (not .aspx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SW and .NET make writing simple Web services eas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 is generally used to generate the XML paylo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 accept parameters, such as customer number or order number, to return only data requir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rameters are used in the WHERE clause in SQ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ices Description Language (WSDL) describes a Web serv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omatically created by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7: Web Services in VSW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ll create a Web service in a regular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rmally we create a separate project/site for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open previous Web site, or create new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 -&gt; New File -&gt; Web Service: TemperatureService.asm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U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‘place code in separate file’. No master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 the following co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ouble toCelsius(double t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(5.0 / 9.0) * (tf - 32.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view in browser: a WSDL page is show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TemperatureService.asmx HTTP/1.1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30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ToCelsius" 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oCelsius xmlns="http://tempuri.org/"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F&gt; 32.0&lt;/TF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ToCelsius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: respon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HTTP/1.1 200 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Type: text/xml; charset=utf-8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Content-Length: 250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?xml version="1.0" encoding="utf-8"?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ponse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ToCelsiusResult&gt; 0.0&lt;/ToCelsiusResul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ToCelsiusResponse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Body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  <a:ea typeface="Courier New"/>
              </a:rPr>
              <a:t>&lt;/soap:Envelope&gt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database que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wish to query the Parts table for all parts of a given ven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vendor will be a parameter to the Web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Web service will use a database connection to execute the SQL qu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t will return an XML document as its res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code is in your Lecture 22 download as ProductService.asm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eb service example 2: reques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OST /mit1264lecture22/ProductsService.asmx HTTP/1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Host: localho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Type: text/xml; charset=utf-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ontent-Length: leng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OAPAction: "http://tempuri.org/GetProducts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Envelope xmlns:xsi="http://www.w3.org/2001/XMLSchema-instance" xmlns:xsd="http://www.w3.org/2001/XMLSchema" xmlns:soap="http://schemas.xmlsoap.org/soap/envelope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etProducts xmlns="http://tempuri.org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Vendor&gt;</a:t>
            </a:r>
            <a:r>
              <a:rPr b="1" lang="en-US" sz="1600" spc="-1" strike="noStrike">
                <a:solidFill>
                  <a:srgbClr val="ffff00"/>
                </a:solidFill>
                <a:latin typeface="Lucida Console"/>
              </a:rPr>
              <a:t>string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Vendo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etProducts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soap:Envelop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Recap of XML Basic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hold self-describing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erarchies, objects, database table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flexible, decided by industry groups, partn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documents can transform or styl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SS isn’t enough because we want to display tags h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 files can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has the DTD that server or client can u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TDs are limited: can’t define data typ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chema (XSD) files preferred to validate XML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structured, more extensible than DT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s can read and write X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ers can send and receive XML as payload in HTTP, much like HTML p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crosoft has made XML the markup language in Off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utting a disruptive technology in place to automate commerc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roductService.asm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6094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WebService Language="C#" Class="ProductService"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ing System;  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nd other ‘using’ directiv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(Namespace = "http://tempuri.org/"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ServiceBinding(ConformsTo = WsiProfiles.BasicProfile1_1)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class ProductService  : System.Web.Services.WebServic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[WebMethod]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 DataSet GetProducts(string Vendor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Connection con1264= new SqlConnection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onnect to d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"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SqlDataAdapter dad1264= new SqlDataAdapter("SELECT * FROM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arts WHERE Vendor= @Vendor", con1264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SelectCommand.Parameters.Add(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Add parame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ew SqlParameter("@Vendor", Vendor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Set dstProducts= new DataSet(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Create output obje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d1264.Fill(dstProducts, "Products");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ffff"/>
                </a:solidFill>
                <a:latin typeface="Lucida Console"/>
              </a:rPr>
              <a:t>// Run qu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return dstProducts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2284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eb service example 2: respons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3" descr="WebSvcOutput"/>
          <p:cNvPicPr/>
          <p:nvPr/>
        </p:nvPicPr>
        <p:blipFill>
          <a:blip r:embed="rId1"/>
          <a:stretch/>
        </p:blipFill>
        <p:spPr>
          <a:xfrm>
            <a:off x="228600" y="914400"/>
            <a:ext cx="878508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8: Web servic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the connection string in ProductService as need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 Source=.\\SQLEXPRESS; Password=xxx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User ID=yyy;Initial Catalog=MIT126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dify the Web service to return parts and vendors only if the part ID is 1000 or gre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y the connection string to log into your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SELECT * FROM Parts WHERE Vendor= @Vendor AND partID &gt; 1000"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mlDataSource: BookMIT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9907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DataSource control on page, config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wse for Books.x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Path: //booklist/boo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[Forward slashes, not backward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DataList onto Xm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XmlData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51"/>
              </a:spcBef>
              <a:buClr>
                <a:srgbClr val="00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(View in browser—MS tools only show attributes, not element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o to source view, delete all text in &lt;ItemTemplate&gt; and replace wi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p&gt; &lt;%# XPath("author/first-name")%&gt;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author/last-name")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ric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topic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publicationdate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@ISB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ave and test (BookMIT2.aspx has nicer format—see downloa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SLT: XML Stylesheet Language/Transform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 is a language to transform and style XML documents from one form to anot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for display, especially to show tags, which CSS does not 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o convert an XML document from one format to another, in passing it from one organization to anoth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 on next page transforms Books.xml into Authors.xml by selecting just the author ta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SLT has loops, if statements and is a mini-programming language to select and transform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don’t need to understand the details of XS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AuthorXSLT.aspx applies Books.xslt to Books.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e download and example run in cla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XSLT: Books.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440" y="167652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utf-8" 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stylesheet xmlns:xsl="http://www.w3.org/1999/XSL/Transform" version="1.0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/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s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apply-templates select="//book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mplate match="book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element name="Autho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fir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text&gt; &lt;/xsl:tex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xsl:value-of select="author/last-name"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elemen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xsl:styleshee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228600" y="644364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un BookAuthorXSLT.aspx to apply Books.xslt to Books.xml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Simple XSL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Web Form: BookMIT3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Xml control on page from the Standard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Not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 XMLDataSource contr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gure it by typing two properties in Source view, or by using the Properties window to select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umentSource="Books.xml"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Source="Books.xsl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XML control will display the authors from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a simple illustration of trans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ll of these exercises are illustrative. XML still requires some programming, often simple, which is beyond the scope of this clas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4: Blogs are XML: Blog.aspx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6094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@ Page Language="C#“ (details omitted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DOCTYPE html … (details omitted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 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 id="Head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XmlDataSource Blog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id="form1" runat="server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DataList ID="D1" Runat="server“ DataSourceID="XmlData1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titl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pubDate") %&gt;&lt;br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%# XPath("description") %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ItemTemplat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Data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asp:XmlDataSource ID="XmlData1" Runat="server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DataFile="http://www.hanselman.com/blog/feed"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XPath="rss/channel/item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asp:XmlDataSourc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Box 3"/>
          <p:cNvSpPr/>
          <p:nvPr/>
        </p:nvSpPr>
        <p:spPr>
          <a:xfrm>
            <a:off x="671400" y="6519960"/>
            <a:ext cx="87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ecute Blog.aspx. Compare with www.hanselman.com in browse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5: Databases and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SQL Server Mgt Studio, use MIT1264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yp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attribu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FOR XML AUTO,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enerates XML with data as ele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a root tag (e.g., &lt;Customerlist&gt;) and end tag around the SQL result set, and we have a valid XML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generate the root and end tags with SQL, C#, Java, 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 also INSERT, UPDATE, DELETE with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database insert examp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REATE PROCEDURE xmlOrderInsert @order ntext 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DECLARE @docHandle int, @OID in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preparedocument @docHandle OUTPUT, @ord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BEGIN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Orders( CustomerID, EmployeeID, OrderDate, RequiredDate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CustomerID, EmployeeID, OrderDate, RequiredDat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', 3) WITH ( CustomerID nchar(5)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mployeeID int,   OrderDate datetime, RequiredDate datetime   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0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T @OID = SCOPE_IDENTITY(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NSERT INTO [Order Details] ( OrderID, ProductID, UnitPrice, Quantity, Discount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SELECT @OID AS [PO ID], ProductID, UnitPrice, Quantity, Discount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FROM OpenXml( @docHandle, '/Order/OrderDetails', 1)   WITH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( ProductID int, UnitPrice money, Quantity smallint, Discount real   )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IF @@ERROR&lt;&gt;0 BEGIN ROLLBACK TRANSACTION RETURN -101 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COMMIT TRANSAC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EXEC sp_xml_removedocument @docHandle SELECT @OID AS [Order ID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7094880" y="6431040"/>
            <a:ext cx="1826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rom codeproject.com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1-09-22T22:04:20Z</cp:lastPrinted>
  <dcterms:modified xsi:type="dcterms:W3CDTF">2013-10-31T14:02:11Z</dcterms:modified>
  <cp:revision>277</cp:revision>
  <dc:subject/>
  <dc:title>1.264 Lecture 5</dc:title>
</cp:coreProperties>
</file>