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63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720" rIns="9072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832600"/>
            <a:ext cx="2971800" cy="46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5ABECB-6847-468F-A80F-FE218034A8B3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3A75114-D10C-4F94-B5FA-5494642D70C8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9E807E4-D361-4172-BE7D-08165F233C7F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4889D8-036E-47D9-A3C3-1B869A1D2B4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54E9BFA-F951-497A-B3FB-239E93BFADCE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AB6772D-E19E-49FC-A58C-7CAFD527AED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DED138-AC7E-48A4-926D-A0A06E2B6E36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2FA5D8-FC81-4CB2-9614-5462585023CD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02E6C67-0452-46B6-970C-8CDFA6A0876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0AF68B-E70C-4538-8C0E-954B07F270D1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7466C5-BDF0-49D4-BF13-E8B234E71407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8E8452-F0C6-45EA-B413-DFBAF727AE10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62EEAA8-CB54-4CA5-9DD0-EABF1E180E32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1031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4A0AC4-D1D1-4817-B3EB-BBF6F53DD7E9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15840" y="441612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6200" y="8832960"/>
            <a:ext cx="29718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6748D85-5165-4CF8-86DD-A234D5E0718A}" type="slidenum">
              <a:rPr b="0" lang="en-US" sz="11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4F5-EDAC-4973-9705-2A1CB5147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BAF-1C6C-413B-9B54-841714C18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EA842-C887-4D77-AA67-E0067AA5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838E-7AFD-4DCF-996D-B3DDD01B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7CDB-9659-44A3-ACE9-3EA96B2DC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1ED9-0162-407B-BF73-E2621B0E3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55F1-B612-4E0D-AA69-E70A5A886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C6FB9-B172-40F4-9C10-58DC844F6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8972-9689-4D44-8DEC-D78B6578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64C3-7521-4A25-B138-62524323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F2D7-5C7A-4B80-9516-9ECDE275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EB29-2983-4C28-B586-AE0A75B47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8FE8C-F987-4259-BB6E-524C343BEBE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1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3560" y="5719680"/>
            <a:ext cx="649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uiz 1 review 7pm on either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Wednesday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next week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Download and unzip Lecture21Download. Put in Lecture21 Web site.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 chapter 10, pages  337-348: Web services only. 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ocument Type Declaration (DT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CTYPE: class (type) of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laced in XML file, refers to DTD file to be used to vali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LEMENT: object in docu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ither all valid values are given in a list in (), 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e element is defined later in the DTD fi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mbols: +: 1 or more, *: 0 or more, ?:0 or 1, none: exactly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TLIST: valid attribute list for ele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CDATA: charac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PCDATA: parsed character data (can’t have &lt; &gt; &amp;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REQUIRED: element must be pres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IMPLIED: element optional, no default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#FIXED: attribute value is fix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ITY: a constant val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| means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2: DTD fil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list (book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book (title, author+, pric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book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topic (software|UML|database) "U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publicationdate CDATA #IMPLI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ISBN CDATA #IMPLI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titl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author (first-name, last-name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fir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last-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pric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NTITY currentyear "2013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796880" y="645804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dt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85440" y="17524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rite a DTD file that states these business rul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1.264 class has one to many grou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group has a name, a number, and has one to two (many) student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DTD file specifies the elements and attributes present in the XML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the exercise 1 XML file as the basis for your DT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no DTD file type in VSW any m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n html file, rename it to Classlist.dtd or similar, go to Source view and delete all the html so you have just a blank f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Box 1"/>
          <p:cNvSpPr/>
          <p:nvPr/>
        </p:nvSpPr>
        <p:spPr>
          <a:xfrm>
            <a:off x="6957720" y="6477120"/>
            <a:ext cx="20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how Exercise 1 solution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- DTD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?xml version="1.0" encoding="iso-8859-1"?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classlist (group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classli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class (1264|ESD264) “1264“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 (groupname, grouplist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ATTLIST gro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number1 CDATA #REQUIRE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list (name+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!ELEMENT groupname (#PCDATA)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TextBox 1"/>
          <p:cNvSpPr/>
          <p:nvPr/>
        </p:nvSpPr>
        <p:spPr>
          <a:xfrm>
            <a:off x="5905440" y="6418440"/>
            <a:ext cx="303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rder of statements may vary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documents can b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fined by anyone: tags and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nt and received by databases using SQL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ed by DTD or XSD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nsformed and styled by XSLT fi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d on a server for clients to attach to, such as blo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files are little pieces of a database that can be shared. Typically they represen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a single table, 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ws from two tables in a many-to-one relationshi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arbitrary set of tables/relationships can be 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3C: World Wide Web Consortium (standar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TD: Document Type Declaration ( XML validat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Schema or XSD: XML valid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SLT: XML Stylesheet Language/Tra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difies or queries XML docu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Path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Query: XSLT query sublangu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What is XML?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sible Markup Language (XML)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World Wide Web Consortium (W3C) standard fo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 file format to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ily and cheaply distribute electronic documents on the World Wide We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nsible, not frozen like 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rich structure, like objects or hierarchies or relationshi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validation and well-formed proper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voiding applets, scripts, plug-in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parating form (how it looks) from content (what it i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XML Concep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is self-describing and can be validated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document contains the business rules to which its data must con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ules can be reused in other documents: documents can be more specialized types (inheritance) of a base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interchange format between comp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ing Web server as data channel between databa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utomated processing of documents ex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on format for Web, electronic, paper documents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as a general markup langu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used for manuals, CDs, help and other text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ndled by standard browsers (IE, Firefox, Chrome,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mote procedure call/invocation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60120" indent="-1918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ecutes Web services or processes on other compu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Document Struc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predefined in HTML (or XHTML) stand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how the page should be display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lo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ML declaration (defines vers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cument type declaration (defines tags): DTD  or XS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describe data elements, not how to display th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ags are defined in DTD or XSchema document, which anyone can cre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1: XML fil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456840"/>
            <a:ext cx="8001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?xml version='1.0'?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!-- The 1.264 reading list --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software" publicationdate="1996" ISBN="1-55615-900-5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Rapid Development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Steve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McConnell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Brya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Syverson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48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book topic="UML" publicationdate="2004" ISBN="0-321-19368-7"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title&gt;UML Distilled&lt;/titl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first-name&gt;Martin&lt;/fir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last-name&gt;Fowler&lt;/last-na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autho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price&gt;34.99&lt;/pric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0852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&lt;/booklist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482960" y="624852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ooks.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rt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new Web site in VSW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 New Web Site -&gt; Lecture21 (or other nam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the lecture 21 files from Stell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ve/copy them to the Web site you just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is Web site, write an XML file that describes the 1.264 class, two groups in the class, and the students in the grou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le-&gt; New File -&gt; XML File in VS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appropriate elements and/or attributes for the class, groups and stud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display it in your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- X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classlist class=“1264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1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Rapid Development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Bell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McDuff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 number=“2”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name&gt;UML Forever&lt;/group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Steve Smith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name&gt;Jo Brown&lt;/nam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group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classlist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XML Language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ways to express business rules/valida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T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Document type declaration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t XML itself (oddly), being replaced by XML Sche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should understand how to write DTDs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ML Schema or XSD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business r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SD is XML subset, verbose but power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You don’t need to understand the details of XSD in 1.26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re are user-friendly tools to manage th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would be one more download for you; we will just look at them manual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to format and transform XML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XSL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extensible stylesheet language/transform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form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ats XML docum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68680" indent="-173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Path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or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XQuer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) sublanguage for quer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0640" indent="-260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nd many others for specialized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Link, XPointer, RDF, XForms, …  see www.w3c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alidation 1: XSchema Definition (XSD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33520" y="685800"/>
            <a:ext cx="8610480" cy="601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?xml version="1.0" encoding="utf-8"?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chema  (details omitted) 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booklist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maxOccurs="unbounded" name="book"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titl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author“ maxOccurs=“unbounded”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fir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last-name" type="xs:string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element name="price" type="xs:decimal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topic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publicationdate" type="xs:unsignedShort" use="required"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xs:attribute name="ISBN" type="xs:string" use="required" /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equenc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complexType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element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Lucida Console"/>
              </a:rPr>
              <a:t>&lt;/xs:schema&gt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775640" y="6461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ooks.xs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2013-10-25T13:16:14Z</cp:lastPrinted>
  <dcterms:modified xsi:type="dcterms:W3CDTF">2013-10-27T21:21:56Z</dcterms:modified>
  <cp:revision>468</cp:revision>
  <dc:subject/>
  <dc:title>1.264 Lecture 5</dc:title>
</cp:coreProperties>
</file>