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DF44E-E7B7-4F59-B464-7F1E4EDE73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758BC-E3BA-4A2C-BAAC-F2C2FCFC2D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EF7A-136A-4058-881E-6A0527C8432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51926-EDBB-43EA-BCDE-D0E92111C0F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C0E3-A86D-4081-AFE1-62737B8874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993E-1552-4CE6-B923-A09C86E380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39F34-6DA4-47A1-BF63-545BB562BC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BCF51-375B-4707-8C84-DA103DD6A57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B197B-0863-48DA-8BCD-C0AB84427D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7FF7A-B6D4-456F-8960-F2323142C4E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0A52D-97A2-4A14-8C7E-1CD86586DB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EDFD0-3E8F-45C3-8270-76D77D6B8C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8D67D-8DD1-4C10-B8F9-E1D2E482B1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39F7A-D369-4E2F-B15B-6EC18561F9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8E3F-D92F-4604-849F-B55032A3C56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586B-83C4-4D58-B5D8-863CCF847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85D9-2410-47BA-874E-92FCD5C9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56DA-ABD6-41C5-B723-7D94E643B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3AB9-FB0E-4AE2-B319-C6A6070B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B537-42C2-41E4-B4ED-C4C1890C3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5CB0D-79D9-464C-A7E3-034CE3DB4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FD99-D1EC-48D7-A15D-E520B984A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01BE-E49E-48E3-94E7-5C13314B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397C-25C5-4097-8EFE-34DE7BA50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984E-ABE6-4E55-A7AB-BB9C7410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D4A7-8595-43BE-B4E7-DDA21E3D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6577-364D-4CC6-8BED-58EA0D5F4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C755-8BD8-4DFA-8D0B-06642643949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7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toc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metric cryptograph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4720" y="5719680"/>
            <a:ext cx="51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 10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ryptography iss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yptography protects against eavesdropping, tampering (cut and paste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does not protect against replay (need freshness for that) or necessarily against man-in-the-midd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hing protects against denial of service attacks except shutting down the attack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aging network risks: Cryptograph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i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intext: original mess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iphertext: encrypted mess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yptographic algorithm: function converting plaintext to ciphert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y: number used by algorithm to encrypt and/or decryp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 the same as a database key (primary or foreign!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cryption pro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mmetric: sender and receiver use same secret ke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ymmetric: sender and receiver use different, but related keys. Receiver key public, used by all senders to that receiv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914400" y="449568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3962520" y="449568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pher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6934320" y="4495680"/>
            <a:ext cx="1143000" cy="762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lain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Line 7"/>
          <p:cNvSpPr/>
          <p:nvPr/>
        </p:nvSpPr>
        <p:spPr>
          <a:xfrm>
            <a:off x="2057400" y="487692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Line 8"/>
          <p:cNvSpPr/>
          <p:nvPr/>
        </p:nvSpPr>
        <p:spPr>
          <a:xfrm>
            <a:off x="5105520" y="48769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Oval 9"/>
          <p:cNvSpPr/>
          <p:nvPr/>
        </p:nvSpPr>
        <p:spPr>
          <a:xfrm>
            <a:off x="2438280" y="4419720"/>
            <a:ext cx="9144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Oval 10"/>
          <p:cNvSpPr/>
          <p:nvPr/>
        </p:nvSpPr>
        <p:spPr>
          <a:xfrm>
            <a:off x="5638680" y="4419720"/>
            <a:ext cx="914400" cy="9144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ke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ymmetric encryp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metric algorithms use same key to encrypt and decryp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 (Data Encryption Standard): 56 bit ke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plits data into pieces, reshuffl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acked in 1998 after 30 years of use: faster hardwa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ple DES: encrypt/decrypt/encrypt with 3 DES keys: 168 bit effective key leng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ackward compatible with DES in banking, et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C2, RC4, RC5: 40-2048 bit keys, in common use by encrypting Web servers and brow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ES: Current US government standard, uses Rijndael algorith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s with symmetric key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st be exchanged in advance, via secure metho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-way communication not supported effectively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many users must communicate with server, compromising any one can compromise al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(very simplified from real thing!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7362849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y: 3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1= 3, k2= 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der algorithm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left. (Wrap around as needed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tract k2 from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phertext: 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eiver algorith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k2 to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right. (Wrap around as needed.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 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Real symmetric algorithms chop, shift, add/subtract in complex patterns to remove statistical patterns in data—see text: S-boxe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7362849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y: 31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1= 3, k2= 1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der algorithm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lef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ubtract k2 from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phertext:  28495736 -&gt;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1738462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ceiver algorithm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k2 to each dig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ift digits by k1 to the righ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intext:  62517384 -&gt;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7362849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Real symmetric algorithms chop, shift, add/subtract in complex patterns to remove statistical patterns in data---see text: S-boxe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 Box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85" name="Picture 8" descr="SBox"/>
          <p:cNvPicPr/>
          <p:nvPr/>
        </p:nvPicPr>
        <p:blipFill>
          <a:blip r:embed="rId1"/>
          <a:stretch/>
        </p:blipFill>
        <p:spPr>
          <a:xfrm>
            <a:off x="990720" y="1828800"/>
            <a:ext cx="7311960" cy="4114800"/>
          </a:xfrm>
          <a:prstGeom prst="rect">
            <a:avLst/>
          </a:prstGeom>
          <a:ln w="0">
            <a:noFill/>
          </a:ln>
        </p:spPr>
      </p:pic>
      <p:sp>
        <p:nvSpPr>
          <p:cNvPr id="86" name="TextBox 1"/>
          <p:cNvSpPr/>
          <p:nvPr/>
        </p:nvSpPr>
        <p:spPr>
          <a:xfrm>
            <a:off x="7834320" y="655308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Anders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7394040" y="6172200"/>
            <a:ext cx="182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lso see AES Wiki en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hotel key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protocol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attacks are possibl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t and pas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is the effect of encryption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112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hotel key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762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tocol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 (card) -&gt; D (door) : N1, N2, </a:t>
            </a:r>
            <a:r>
              <a:rPr b="1" i="1" lang="en-US" sz="2000" spc="-1" strike="noStrike">
                <a:solidFill>
                  <a:srgbClr val="00ffff"/>
                </a:solidFill>
                <a:latin typeface="Arial"/>
              </a:rPr>
              <a:t>N3, N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 N1 is the current co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2, </a:t>
            </a:r>
            <a:r>
              <a:rPr b="1" i="1" lang="en-US" sz="1800" spc="-1" strike="noStrike">
                <a:solidFill>
                  <a:srgbClr val="00ffff"/>
                </a:solidFill>
                <a:latin typeface="Arial"/>
              </a:rPr>
              <a:t>N3 and N4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re previous codes </a:t>
            </a:r>
            <a:r>
              <a:rPr b="1" i="1" lang="en-US" sz="1800" spc="-1" strike="noStrike">
                <a:solidFill>
                  <a:srgbClr val="00ffff"/>
                </a:solidFill>
                <a:latin typeface="Arial"/>
              </a:rPr>
              <a:t>(if they can fit)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45640" indent="-168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 is the number of days the room is reserv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N2 is correct, N1 is written to door unit, door ope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N1 is correct and days&lt;T, door ope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t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ied card can be used. No protection in this protocol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acker can change value of T. Works unless another guest is given the room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 is possible. Attacker can intercept card-door interaction, write it to new card, and enter room.  Mag stripe readers emit radiation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cryption doesn’t prevent copy or replay; it makes cut and paste hard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expected problem: unused rooms/key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asic key management examp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and Bob wish to communic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 is a trusted third party (shares keys with Alice and Bob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key is a secret number that both encrypts and decryp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calls Sam, asks for key to talk with Bo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-&gt; S: A, B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(A and B are principals or 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name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m sends Alice pair of certificates (ciphertex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contains copy of ke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rst is encrypted so only Alice can read it: K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A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cond is encrypted so only Bob can read it: K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B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 -&gt; A: {A, B, K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, T}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A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, {A, B, K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, T}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B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(T is tim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retrieves her key, sends Bob the second certifica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he then sends him a message that he can decryp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51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A -&gt; B: {A, B, K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, T}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BS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, {M} </a:t>
            </a:r>
            <a:r>
              <a:rPr b="1" lang="en-US" sz="18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1800" spc="-1" strike="noStrike" baseline="-50000">
                <a:solidFill>
                  <a:srgbClr val="ffff00"/>
                </a:solidFill>
                <a:latin typeface="Arial"/>
              </a:rPr>
              <a:t>A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Can be replayed; no freshnes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erbero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trusted server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hentication server to which users log 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icket-granting server, which gives access to files and programs (authorization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more scalable than a single serv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asks ticket server for access to Bo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 -&gt; S: A, 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 sends ticket, encrypted with A’s password (key), granting access to B at time T for lifetime L of tick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 -&gt; A: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L, K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B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B,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L, K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B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A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BS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A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ice sends timestamp to resource B, which confirms it’s al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 -&gt; B: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L, K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B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A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BS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, {A, 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A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b sends timestamp incremented by on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57160" indent="-171360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 -&gt; A: {T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A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+1}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2000" spc="-1" strike="noStrike" baseline="-50000">
                <a:solidFill>
                  <a:srgbClr val="ffff00"/>
                </a:solidFill>
                <a:latin typeface="Arial"/>
              </a:rPr>
              <a:t>AB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Kerberos, con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avoids replay attacks and compromised keys by using timestamp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romised keys are a problem only for their lifetime L, typically measured in hou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clocks must now be synchroniz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erberos is used for Microsoft security and many single login syste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y don’t we use Kerberos for Internet and Web securit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rberos requires a central key server trusted by all par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it is broken, all communications are expos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it is down, no one can initiate secure conne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o would such a trusted party be on the Internet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 would be expensiv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use a different protocol, SSL (next lectur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sswords as a protocol: issu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simplest security protocol is a username and pass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the most vulnerable piece of secu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ften used to protect other security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r browser SSL certificate is protected by a passwo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rberos/Microsoft security key is your passwor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r issu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cial enginee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s disclose passwords to third parti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96000" indent="-185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y accident, on purpose, or through decept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296000" indent="-185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ception common in health care, insurance, banking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able password ent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s mistype passwords; password rese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embering pass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s write down passwords, choose weak password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asswords: solutio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are 26 letters, 10 digits: 36 possible characters at each location in a pass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should be about 5 bits (2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32 combination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ecause of patterns, it’s usually only 1.5-2 bits/ch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 8 character password is less than a 16 bit ke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ily broken (see the book for many attack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u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ssphra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rdware password genera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ometrics (which can also be attacked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ryptographic primitiv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mmetric key encryp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encrypt sess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ymmetric (public) key encryp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distribute symmetric key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is for digital signat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ream or block ciph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apply key to messa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ssage digests (hashe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verify message integ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gital signatures (certificate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to verify identity of principa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vered as part of Secure Sockets Layer (SS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08T15:50:20Z</cp:lastPrinted>
  <dcterms:modified xsi:type="dcterms:W3CDTF">2013-11-12T17:45:46Z</dcterms:modified>
  <cp:revision>195</cp:revision>
  <dc:subject/>
  <dc:title>1.264 Lecture 5</dc:title>
</cp:coreProperties>
</file>