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8CB88D-AC9E-4F0D-BEBA-E1C11E28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FF7A96-579B-4EFE-9926-9ABF749646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279E86-9FA2-49F9-8A76-97DEEEB92C3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901D0D-F781-497A-A0C6-0A9E78A0BC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F9C57B-CD94-4C0D-8FEA-0393ABE984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C8A3F1-C456-4CA5-8B13-A7D499319E8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B31996-F53D-40CB-8D13-651F1E1AEC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B6772-9EF4-4211-8F17-A11C55D5F1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76EC39-0600-406B-B619-8957DC62919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41C64-7DDE-4EDB-8C41-EB213DE4D8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505FA4-86E2-4406-9023-1C932F8DCF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A90A6-A8B0-4838-A307-9EAE41F111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22D1-C34D-477B-AEF5-E09F24648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DA05-FBD7-447B-994F-CA9B0384F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9A0B-379A-4969-9C64-3BA41A214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A057-198B-4A9E-9505-36D54B06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3E47-76DE-4A21-9B1A-310A798AA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C99A-EE66-4E1F-90AD-45497253B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37CB1-7063-498B-8D64-78527C64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EEAD-B8A4-47C6-BD34-B26FD135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700F-5574-4AB3-82DE-6CC0B912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A8C-6F50-418F-BDCF-33CC7104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6371-864B-4D97-93C2-277392282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3912-B191-4D3E-9907-F2EEED90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1F7B-0066-4F00-968A-C886236014B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3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, co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197720" y="5719680"/>
            <a:ext cx="649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</a:t>
            </a:r>
            <a:r>
              <a:rPr b="1" lang="en-US" sz="1400" spc="-1" strike="noStrike" u="sng">
                <a:solidFill>
                  <a:srgbClr val="ff0000"/>
                </a:solidFill>
                <a:uFillTx/>
                <a:latin typeface="Arial"/>
              </a:rPr>
              <a:t>before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 (case study on Stellar)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owse catalog, with many parameters/arguments to narrow by product typ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order, with parameters on carriers/modes, split/backorder preferenc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 stat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cel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/shipment/payment hi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tting users find the services, making sure they are almost always running, transactions/rollback, performance, security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440" y="6858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d XML documents as request and response between Web servers and/or clients using HTTP. (SOA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text-based, and avoid differences in Web server hardware, operating system, programming language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validated using XSD (XSchema Definition) (or DT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discovered through WSDL regist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11440" indent="-1620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ow they are called and what they return is defined in WSD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be used as data sources (ObjectDataSource) from remote datab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 relatively easy to imp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ow data to be liberated from databases and sha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urrent develop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SON (JavaScript Object Notation) is being substituted for XML: less verbose.  Still standards-based, text-bas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CF (Windows Communications Framework) supersedes simple Web services (.asmx), more flexible (Web 2.0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Description Language: WSD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1.1 (current version) contai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cription of XML data (types) that can be passed in &lt;types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st of messages in &lt;message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 and response mess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rection and pairing of message passing in &lt;portType&gt;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est-only, request-response, response-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ssage encoding in &lt;binding&gt; element (literal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tion where service is offered in &lt;service&gt;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ay example in 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Bay deploys 300 features per quarter and 600,000 lines of code per quar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SDL 2.0 in limited u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ocum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228600" y="1468440"/>
            <a:ext cx="3935520" cy="3921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190760" y="1371600"/>
            <a:ext cx="4800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 rate: 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plex types defined w/ XS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essage: RateRequest(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s, respon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rtType: matches   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quest/respon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put message: RateRequest(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utput message: RateResponse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ration: request-respon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rvice: Truck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ress: http://www.aaa.com/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2400480" y="2033640"/>
            <a:ext cx="4343400" cy="401004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4809600" y="6477120"/>
            <a:ext cx="419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Kumar, Narayan, Ng: Implementing SOA Using Java EE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DL discov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25480" y="1981080"/>
            <a:ext cx="3530520" cy="4114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enerate WSD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blish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scover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derstand Web service seman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oke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Registering a Web service on a Web server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6765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Web site from lecture 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t up the Web service on 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 as follow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ight click Web site name in Solution Explor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dd Service Refer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Discover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link to ProductServic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default namespace (ServiceReferen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O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reference placed in f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ok at the WSDL file, which describes the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: Using a Web service on a clien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685800" y="14479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use/consume the service on the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clie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Parts.aspx page (File-&gt;New File-&gt; Web Fo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ake sure Parts.aspx is in the main folder of the Web si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ag ObjectDataSource from toolkit onto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figure data source: select  Product Service, and GetProducts() metho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 default value= 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rop Gridview control on page, set its data source. T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 usually have a vendor GridView and use the selected field instead of a default value—this is a shortcut ex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4400" indent="-2844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customer would normally build this Parts.aspx page on its Web site. Not you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16680" indent="-2372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 would drop several ObjectDataSources on the page, one for each of the parts/products manufacturers/distributors (including yours) that it uses. It would then have a query or logic to choose the vendor based on availability, price, quality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gistries: UDDI, eb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DDI: Universal Description, Discovery and Integ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-based registry for businesses and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DDI contains information about the business that publishes Web services, and the Web services themsel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ample: http://soapclient.com/uddisearch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bXML: Competing standard (IS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dividual organizations or industries typically use private regis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gistries provided by MS Biztalk, IBM WebSphere, Software AG WebMethods,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st the Web services you would include in your homework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se would be registered and available for your customers to use in their systems that check your catalog, place orders, check status, and make pay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st, if not all, will essentially be database quer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problems would you anticipate with these Web service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6T00:44:01Z</dcterms:modified>
  <cp:revision>285</cp:revision>
  <dc:subject/>
  <dc:title>1.264 Lecture 5</dc:title>
</cp:coreProperties>
</file>