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7164CE6-D5B2-4122-923C-B8624B33AF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23CF70-CC9F-493C-B4D8-B4AFD92374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1A95EF7-664C-42BB-8344-7D387AD2BB3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8E6AB8B-1B8C-4317-96FB-2575641E7E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9D95B63-D16F-4D28-BA29-6A0C5C50D8A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0A1B9F8D-3480-48B5-9A6E-95E068B32B3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0398405-BFF0-411C-8DFA-6CA1979323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165C065-808E-44EA-B641-1DFA583157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C42F73F-3957-49BB-ADC2-1B24AFE3F4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80D78F-A6E1-485C-B74F-96E073A7E3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A1F04BC-CED2-4EF1-85A9-7A5A9D7F2E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50D3FBBB-7FCB-4415-9FF7-64EE922A10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C3C643F2-1CD9-40CB-BC1C-F78D773666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73D0D37-6D9A-4C87-9332-F41A166F15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FE68D4C-74DF-489F-860B-795C2FA5DBB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6CAF-CAAE-4AE1-8A76-BFBD8E1A4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C697-F2A2-4749-BC4C-7A92D432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4B8E-4197-40E8-910F-495123850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B97-AB6D-40A6-A2E2-FC4AAAE67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A2DD-4A9D-487C-8B02-55F1462E7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CAEC-9D21-4818-9F32-E51A7CE18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28A-F860-494D-A444-40741A66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7581-4025-4AD4-8680-54361313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9F60-FD81-4B7E-B085-CCE13AC7F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8D8-1B70-4119-96A6-1ECE72DD9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377-4C4D-40BB-B71E-F5D9C1F4F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560C-8889-4922-92EC-F5205287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5313F-5A81-4A27-BCBC-9303234E999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Wired LAN, W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836000" y="5719680"/>
            <a:ext cx="517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8, 3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ocal area network (LA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 speed, privately owned, short range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EEE 802.3 or Ethernet is nearly univers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s of 10Mbps to 1Gbps (1000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ange: building or campus (1-5 km typical length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permission for right of way on stree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s can extend Ethernet over metro area using Carrier Ethernet, a metro-area network (M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technology is not Ethernet per se, but it looks like and is managed like Ethernet from the customer’s point of vie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MANs la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15192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Repeater, bridge/hub, router, gateway at customer sit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855720" y="1044720"/>
            <a:ext cx="7221600" cy="57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thernet (initial wired, current wireless version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136440" y="762120"/>
            <a:ext cx="8931240" cy="53308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7"/>
          <p:cNvSpPr/>
          <p:nvPr/>
        </p:nvSpPr>
        <p:spPr>
          <a:xfrm>
            <a:off x="1017360" y="6172200"/>
            <a:ext cx="71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tocol is carrier sense multiple access/collision detection (CSMA/CD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arliest wired Ethernet used this protocol also, now supersed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1"/>
          <p:cNvSpPr/>
          <p:nvPr/>
        </p:nvSpPr>
        <p:spPr>
          <a:xfrm>
            <a:off x="4582440" y="4495680"/>
            <a:ext cx="45194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n frame= 512 bi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 sender sends 512 bits and has heard 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ming signal, it can continue w/o interruptio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orst case is farthest station collides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m signal, which must reach sender before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s more than 512 bit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- Maximum traditional LAN leng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’ll see the 1 Gb/sec LAN isn’t feasible with traditional LAN. 1 Gb/sec LAN u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l duplex (two wires per station, one to send, one to receiv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witches only, no repeaters or bridges, and no collisi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ber optics (often), with 500 to 5000 meter seg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istance limited by signal fading, etc. (more on this late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LAN length: L= ct/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ed of signal: c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2 x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/sec, 2/3 speed of 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thernet speed: 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.g.,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its/sec, or 100Mb/se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lot time t: 512/s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min Ethernet frame size=512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00 M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2 meters= 0.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L for a 1 Gb/sec LAN (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660960" indent="-3052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= (2x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8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* 512/10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)/2 = 51.2 meters= 0.05 k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 though collisions are avoided in full duplex, switched LANs, signal attenuation and other losses are limi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s typically are 5 km or l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AN: Telecom carrier network faciliti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 area networks (W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ver same physical facilities as voice (next lectu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loop, local switch, tandem switch, trun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d on permanent circuits of much higher bandwidth than for a single voice call;  no swi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tocols based on ISO 7-layer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ly HTTP (Web services), tcp, and i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gulated by routers and data switch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sessions are highly variable compared to voice,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brow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nk ATM mach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base backu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 interconn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addresses are Ethernet addresses or IP ad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phone numb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data network speeds 56 kbps to 40 Gbps per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voice network secure without en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7925760" y="632448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ide area networks (WAN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fferences from metro-area (MAN) or local-area (LAN) n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Globa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sco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provided by multiple carriers (one is lea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gacy WANs are present but usually not good choices for new data comm need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(point to point) circuits: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alup circuits: low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rame relay: still viable, being superseded by IP (cost, rea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drop 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d for bank ATMs, point-of-sale (POS) terminals, lottery termin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w that banks, stores have general Internet access, encrypted ATM and POS traffic often goes over the general ac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cket networks (X.25): expensive, limited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SAT (satellite): widely dispersed, low bandwidth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-based networks becoming domina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 over a business-only, carrier-provided infrastructure separate from the open Inter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rrier/public network: major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656560" cy="538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7"/>
          <p:cNvSpPr/>
          <p:nvPr/>
        </p:nvSpPr>
        <p:spPr>
          <a:xfrm>
            <a:off x="7601040" y="222876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7581960" y="4164120"/>
            <a:ext cx="57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rar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925760" y="65833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Box 6"/>
          <p:cNvSpPr/>
          <p:nvPr/>
        </p:nvSpPr>
        <p:spPr>
          <a:xfrm>
            <a:off x="2980440" y="4191120"/>
            <a:ext cx="1206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 or IP-PBX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Box 7"/>
          <p:cNvSpPr/>
          <p:nvPr/>
        </p:nvSpPr>
        <p:spPr>
          <a:xfrm>
            <a:off x="3821400" y="1676520"/>
            <a:ext cx="229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pper, becoming fiber or wireles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ervice area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6" name="Picture 4" descr="Lec20a"/>
          <p:cNvPicPr/>
          <p:nvPr/>
        </p:nvPicPr>
        <p:blipFill>
          <a:blip r:embed="rId1"/>
          <a:stretch/>
        </p:blipFill>
        <p:spPr>
          <a:xfrm>
            <a:off x="1130400" y="1076400"/>
            <a:ext cx="694692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NET uses time division multiplexing (TD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locks in the network sync to a master clo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er/demultiplexers start/end a SONET circu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drop multiplexers insert/extract subset of sign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 signal is 51.84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voice call is 64 kbits/sec, or 0.064 Mbits/se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capacity= 51.84/0.064, or 810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 it has about 15% overhead (framing, contro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actually carries 672 voice chann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7 to 28 video channels (1.5 Mbps to 6 Mbp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OC-192 signal is 192 times higher capac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imum SONET rate (though fiber can go high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ree types of network; name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is highest on the pole?  Why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are point to point connection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are shared (point to many)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dat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of these can carry voi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have competitive (open) acces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ber optic (SONET) ring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1220760" y="701640"/>
            <a:ext cx="6170760" cy="608004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7849800" y="647712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SO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are a large airline with a single server site that handles all your reserv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erage transaction is 10,000 bytes (80,000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ust handle 2,000 transactio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re can you locate your servers on the network in the previous sli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central office A, in a telco colocation sit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SONET hub on one of the OC-12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 multiplexer on one of the OC-3 ring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ute the server bandwidth and compare to the network bandwid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C-3 is 3 * OC-1; OC-12 is 12 * OC-1; OC-48 is 48 * OC-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80,000 * 2,000= 160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 is 51 Mbits/se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3 is 155 Mbits/sec. Not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-12 is 622 Mbits/sec.  Clearly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need to be at central office A or at a SONET hub on one of the OC-12 rin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he full OC-12 or OC-48 capacity. Carriers will sell you an appropriate 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peater: layer 1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dge: layer 2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: layer 3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ateway: layer 7 LAN de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SAT: Very Small Aperture Terminal (satelli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.25: Packet service, pre-Internet (replaced by I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BX: Private branch exchange, to switch voice calls in an office (now mostly IP-PB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TA: Local access and transport area, defines service areas for regulatory, pricing iss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’s on a telephone pol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 T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is highest on pole? Wh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high voltage/curr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of these are point-to-point connection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 onl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shared (point-to-many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, c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data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can carry voi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, cable, electr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have competitive acces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unbundled to CLE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not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distribution monopoly, generation competitiv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type(s) of wiring does each u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hone: copper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ble: coax, fib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lectric: copp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systems manage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440" y="12193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project/system must estimate the amount of data to be exchanged with partners/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RFID example from last l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appropriate technolog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d: higher bandwidth/reliability (~gigabits/sec/circui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: mobile, flexible, low bandwidth (~megabits/sec/cel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between build, lease, or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pends on right of way, sca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will interconnect different network typ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(LAN), metro area (MAN), wide area (WA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r networks will be standards ba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must choose carriers, bandwidths, service levels, costs, etc., similar to physical trans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are likely to need a lot of bandwid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bandwidth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5238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ndwidth is a key iss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data carried over analog (continuous) circuits at the physical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ne were designed for data: telecom circuits for voice, broadcast and CATV for radio and T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been repurposed to carry data while retaining their historic physical structure ($$$ existing capi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og bandwidth measured in Hz: cycle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less communications can carry 2 bits/Hz in 5 GHz b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ired communications have vastly more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 for digital bandwidth based on signal/noise rat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factors determine the building blocks you’ll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hannels have more bandwidth than 1 user nee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users are multiplexed (shared) on comm chann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network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4479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 travels over different network seg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N at your site: cheap, high bandwidth (1 Gbps+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from your site to local switch/cable headen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pper: ~5 Mbps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TV: ~20 Mbps, 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: essentially unlimited, cost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 or CATV network: fiber, high bandwidth, chea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nchronous optical network (SONET) r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ry high availability (99.999%),  recover from many fa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ircuits are permanent, unlike voice cal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packet flow over the permanent network is vari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IP networks handle most voice, data and vid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 routers exist at carrier switch facilities for IP traff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rrier networks are generally not encrypted; rely on physical 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ata communication protocol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752480" y="1295280"/>
            <a:ext cx="5667480" cy="5220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TCP/IP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Lec20d"/>
          <p:cNvPicPr/>
          <p:nvPr/>
        </p:nvPicPr>
        <p:blipFill>
          <a:blip r:embed="rId1"/>
          <a:stretch/>
        </p:blipFill>
        <p:spPr>
          <a:xfrm>
            <a:off x="2057400" y="1066680"/>
            <a:ext cx="5064120" cy="5615280"/>
          </a:xfrm>
          <a:prstGeom prst="rect">
            <a:avLst/>
          </a:prstGeom>
          <a:ln w="0">
            <a:noFill/>
          </a:ln>
        </p:spPr>
      </p:pic>
      <p:sp>
        <p:nvSpPr>
          <p:cNvPr id="66" name="Text Box 6"/>
          <p:cNvSpPr/>
          <p:nvPr/>
        </p:nvSpPr>
        <p:spPr>
          <a:xfrm>
            <a:off x="7849800" y="6507000"/>
            <a:ext cx="122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[TE] Chapter 6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LANs and WA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8" name="Picture 4" descr="Lec20b"/>
          <p:cNvPicPr/>
          <p:nvPr/>
        </p:nvPicPr>
        <p:blipFill>
          <a:blip r:embed="rId1"/>
          <a:stretch/>
        </p:blipFill>
        <p:spPr>
          <a:xfrm>
            <a:off x="838080" y="2209680"/>
            <a:ext cx="7772400" cy="3198960"/>
          </a:xfrm>
          <a:prstGeom prst="rect">
            <a:avLst/>
          </a:prstGeom>
          <a:ln w="0">
            <a:noFill/>
          </a:ln>
        </p:spPr>
      </p:pic>
      <p:sp>
        <p:nvSpPr>
          <p:cNvPr id="69" name="TextBox 1"/>
          <p:cNvSpPr/>
          <p:nvPr/>
        </p:nvSpPr>
        <p:spPr>
          <a:xfrm>
            <a:off x="2453760" y="5943600"/>
            <a:ext cx="426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/or MAN if within a metro are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0" name="Straight Arrow Connector 3"/>
          <p:cNvCxnSpPr/>
          <p:nvPr/>
        </p:nvCxnSpPr>
        <p:spPr>
          <a:xfrm flipH="1" flipV="1">
            <a:off x="4494960" y="4952520"/>
            <a:ext cx="113400" cy="99144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1-27T15:06:41Z</dcterms:modified>
  <cp:revision>248</cp:revision>
  <dc:subject/>
  <dc:title>1.264 Lecture 5</dc:title>
</cp:coreProperties>
</file>