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040" rIns="9504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5040" rIns="95040" tIns="47520" bIns="475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ED81D-9E3E-44D6-B6AC-35AF1CCBC6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B5D88-9A93-4502-B590-96C15AAFE4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596D46-2A65-45A6-93DA-3638FC13BB4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1031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13113-00CA-4298-B9EC-629855AFCE8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CD27B-7905-4145-A802-7B3C554AA43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D118-D780-4982-82C8-A92EB7D40A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BA06-41E1-4885-858A-2606E1742D7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63CF-37DA-4C01-9E96-2B37755D61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FA7AB-3F78-42C5-B2C5-817992A3010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1CEE-4C8D-4ADC-B782-A50B6018D5B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2FD27-9DEA-4B94-B55A-49720E221CF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8A45-1D2F-4CB4-80D6-35B354E5A8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98767-C347-4319-8FAE-0C6CD907102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41200-C24E-430A-93B5-2E88858BD5B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040" rIns="95040" tIns="47520" bIns="4752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3406-9D04-4D81-A105-62A9BD50A7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6B75-3C16-43E1-A850-48826A22F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641C5-E080-451D-9339-9E13821A4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B441-9008-43AA-B1AB-6C3F33F14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A813-C772-4A55-9C52-51952CB74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E705-EEA0-4341-8E43-7D0C937B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8B5E-5EBC-4490-BEFC-3FF84FFD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9D8C-503E-41DC-A9F6-9B250E044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3291-B78D-4B0A-A1C2-84399B33B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C37F-1C64-4B87-8670-9408A47F3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3C7-052A-414B-9F35-4ED68E66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B673-B121-4A9E-9D0C-20AB4CC08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A3D0-4E41-4D7D-80EF-77E819565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5207-DB37-45DA-AEE6-16D119649C6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1.264 Lecture 19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3160" y="3886200"/>
            <a:ext cx="8001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Web database: Forms and contr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1665720" y="5719680"/>
            <a:ext cx="6050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We continue using Web site Lecture18 in this lectu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Next class: ASP.NET book, chapters 11-12.  Exercises due </a:t>
            </a: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afte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cla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1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523880" y="1909800"/>
            <a:ext cx="6080400" cy="39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2: Display, edit and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Customers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Customers ORDER BY Compan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‘Advanced’ and generate edit, update, delete 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and s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t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edit,  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t a header &lt;h2&gt; at the top of the ContentPlaceHolder: “Customer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: edit, dele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an’t delete a customer if they have an or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sert not present in Grid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2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990720" y="1938240"/>
            <a:ext cx="710388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: Display, edit, insert, delete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 -&gt; New File-&gt; Web Form: SalesRe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SqlDataSource into ContentPlaceHol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ORDER BY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GridView onto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paging, sorting, sel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a second SqlDataSource into ContentPlaceHolder, below the first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* FROM SalesReps WHERE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WHERE button: RepNbr, =, Control, GridView1, Ad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Advanced button: Generate INSERT,UPDATE,DELE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g FormView control onto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SqlDataSour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79240" indent="-222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second SqlDataSource as data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67480" indent="-267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&lt;h2&gt;, save, and test in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3, cont: Display, edit, insert, delet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ridView doesn’t update when you change data. To make it do s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Design view, click on Form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Events button (lightning bolt) in Properties win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ouble-click ItemInserted ev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following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ridView1.DataBind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n double-click ItemDele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double-click ItemUpdated event and add same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ave and test your pag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Title at top of all the pages you cre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olution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1676520" y="1523880"/>
            <a:ext cx="5736960" cy="515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Data transmittal across Web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se pages request a response from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Web browser sends an HTTP POST request 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RL is, e.g., localhost/Customers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aspx page is a program that dynamically generates the response xhtml (or XML)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your browser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ight click, select “View Source” on result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t is an xhtml page; the logic on the .aspx page has been executed and the response returned to your brows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te that we are dragging and dropping controls, without doing any programm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is will probably become the standard way to build business systems: it can be done by analysts, not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pecialized controls for supply chain, etc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TTP and XHTM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s only direct form of interaction between browser and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as an extremely perceptive extension of email, ftp protocols by Tim Berners-Lee to enable Web brows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quest-response paradig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 made for each request/response pai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re Web protocol, very s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HTM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ge definition language, based on ta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level page description, not specific format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used to enter and submit data to Web server, and to invoke dynamic Web pages on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orm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b server and its pages are a communications channel between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e first create communications between a user and a database by using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visible and intuitive, use the same princi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HTML pages and HTT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atabase-database communications will be covered n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sed on XML and HTTP, packaged in Web servi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readable, can be validated by machi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ome human review is still used because there isn’t complete trust among trading partners, engineering collaborators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chine-machine communications create SQL database queries to fill in ‘XML forms’ and send them to the datab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ow XHTML forms transmit data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s allow a series of controls to be placed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s are text boxes, dropdowns, radio buttons, check box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ach control has a name and a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 data is sent when user presses ‘Submit’ button. Op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POST command as string of for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Name1=Value1&amp;Name2=Value2&amp;…NameN=Valu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data is string sent after blank line after HTTP 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URL with HTTP GET command, appended to end of GET string after a ?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GET/Index.html?Name1=Value1&amp;Name2=Value2&amp; 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is sent to Web servic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ST followed by an XML docu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ver XML later: it allow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validation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business ru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’s ‘Submit’ button is associated with the URL of an application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rve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method that will process the input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72040" indent="-2199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rver programs have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method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(function points) to extract the data from the POST or GET command and use it in the progra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79840" indent="-1756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e counted Web pages and estimated function points earl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0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rowser-server forms intera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52244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1: Browser requests form without any paramet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2: Server fetches and returns input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3: User fills out or edits input form and presses ‘submit’ but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4: Browser packages form into query string and sends to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ep 5: Program synthesizes a response document and returns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4912200" y="1141920"/>
            <a:ext cx="149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ent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7282440" y="114048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 Si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4619520" y="1750680"/>
            <a:ext cx="207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GET /App/Page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7"/>
          <p:cNvSpPr/>
          <p:nvPr/>
        </p:nvSpPr>
        <p:spPr>
          <a:xfrm>
            <a:off x="7543800" y="16747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AutoShape 8"/>
          <p:cNvSpPr/>
          <p:nvPr/>
        </p:nvSpPr>
        <p:spPr>
          <a:xfrm>
            <a:off x="7543800" y="2360520"/>
            <a:ext cx="838080" cy="38124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Web sv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7543800" y="380844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AutoShape 10"/>
          <p:cNvSpPr/>
          <p:nvPr/>
        </p:nvSpPr>
        <p:spPr>
          <a:xfrm>
            <a:off x="7543800" y="4646520"/>
            <a:ext cx="838080" cy="457200"/>
          </a:xfrm>
          <a:prstGeom prst="diamond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yPro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1"/>
          <p:cNvSpPr/>
          <p:nvPr/>
        </p:nvSpPr>
        <p:spPr>
          <a:xfrm>
            <a:off x="4584600" y="3686400"/>
            <a:ext cx="219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OST /App/Prog.ht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name=Pat&amp;state=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AutoShape 12"/>
          <p:cNvSpPr/>
          <p:nvPr/>
        </p:nvSpPr>
        <p:spPr>
          <a:xfrm rot="10854000">
            <a:off x="5333760" y="2284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13"/>
          <p:cNvSpPr/>
          <p:nvPr/>
        </p:nvSpPr>
        <p:spPr>
          <a:xfrm rot="10854000">
            <a:off x="5333760" y="312228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AutoShape 14"/>
          <p:cNvSpPr/>
          <p:nvPr/>
        </p:nvSpPr>
        <p:spPr>
          <a:xfrm rot="10854000">
            <a:off x="5333760" y="4570200"/>
            <a:ext cx="533160" cy="609480"/>
          </a:xfrm>
          <a:prstGeom prst="foldedCorner">
            <a:avLst>
              <a:gd name="adj" fmla="val 19046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Line 15"/>
          <p:cNvSpPr/>
          <p:nvPr/>
        </p:nvSpPr>
        <p:spPr>
          <a:xfrm>
            <a:off x="6553080" y="1903320"/>
            <a:ext cx="8384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Line 16"/>
          <p:cNvSpPr/>
          <p:nvPr/>
        </p:nvSpPr>
        <p:spPr>
          <a:xfrm flipH="1">
            <a:off x="6172200" y="2589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Line 17"/>
          <p:cNvSpPr/>
          <p:nvPr/>
        </p:nvSpPr>
        <p:spPr>
          <a:xfrm>
            <a:off x="5562720" y="297036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Line 18"/>
          <p:cNvSpPr/>
          <p:nvPr/>
        </p:nvSpPr>
        <p:spPr>
          <a:xfrm>
            <a:off x="7010280" y="4037040"/>
            <a:ext cx="457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Line 19"/>
          <p:cNvSpPr/>
          <p:nvPr/>
        </p:nvSpPr>
        <p:spPr>
          <a:xfrm flipH="1">
            <a:off x="6172200" y="4875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Rectangle 20"/>
          <p:cNvSpPr/>
          <p:nvPr/>
        </p:nvSpPr>
        <p:spPr>
          <a:xfrm>
            <a:off x="5410080" y="258912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5410080" y="27417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5410080" y="3427560"/>
            <a:ext cx="381240" cy="75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5410080" y="3579840"/>
            <a:ext cx="381240" cy="7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Arial"/>
              </a:rPr>
              <a:t>xxxxxx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Line 24"/>
          <p:cNvSpPr/>
          <p:nvPr/>
        </p:nvSpPr>
        <p:spPr>
          <a:xfrm>
            <a:off x="5410080" y="487512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Line 25"/>
          <p:cNvSpPr/>
          <p:nvPr/>
        </p:nvSpPr>
        <p:spPr>
          <a:xfrm>
            <a:off x="5410080" y="495144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Line 26"/>
          <p:cNvSpPr/>
          <p:nvPr/>
        </p:nvSpPr>
        <p:spPr>
          <a:xfrm>
            <a:off x="5410080" y="5027760"/>
            <a:ext cx="304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7"/>
          <p:cNvSpPr/>
          <p:nvPr/>
        </p:nvSpPr>
        <p:spPr>
          <a:xfrm>
            <a:off x="5486400" y="4646520"/>
            <a:ext cx="152280" cy="15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Text Box 28"/>
          <p:cNvSpPr/>
          <p:nvPr/>
        </p:nvSpPr>
        <p:spPr>
          <a:xfrm>
            <a:off x="576720" y="5484960"/>
            <a:ext cx="850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also support dynamic controls on an xhtml (aspx) page, such 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NET’s SqlDataSource, GridView,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 .NET, all pages that return dynamic results are .aspx pages and are form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ample XHTML input form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tml xmlns="http://www.w3.org/1999/xhtml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title&gt;&lt;/titl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ead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form action="inputForm.aspx" method="post"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ast name: &lt;input type="text" name="l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First name: &lt;input type="text" name="fName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input type="submit" value="submit" /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for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body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&lt;/html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2057400" y="4572000"/>
            <a:ext cx="6889680" cy="21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Set SQL Server database acces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login for SQL Server in SSMS if you haven’t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Object Explorer, open Security-&gt; Logi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ight click, select ‘New logi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SQL Server authorization; enter name, passwo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default database=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5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all server roles, check user mapping for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3818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Web site, database connec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990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VSW, use Lecture 18 site from last cla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lete Default.aspx, Site.master. We’ll replac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wnload Lecture18 zip file if you didn’t alrea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zip it in a temporary directory and then move its files to the Lecture18 Web site at C:\Inetpub\wwwroot\Lecture1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IT.master has common graphics for each page and a placeholder for active cont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ages folder contains graphics used in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eb.sitemap contains navigation structure of your si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fresh the solution explorer after moving files into s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ools-&gt; Connect to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ver: .\SQLEXPRESS or SQLEXP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gin name and password you set up earl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atabase name: MIT126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62320" indent="-2743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st the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3960" indent="-273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ok at database in Database Explorer in VW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Review: Create XHTML form (.aspx page)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iew-&gt;Toolbox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make toolbox appear along left margin of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le-&gt; New File-&gt; Web Form: Orders.asp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eck master page and select MIT.ma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heck ‘code in separate file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360" indent="-270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Design view, from the Toolb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SqlDataSource control into the ContentPlaceHold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he arrow at its top right, then on configure 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connection you already cre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lect Orders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* to get all columns, ORDER BY Cu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st query and fini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rag a GridView control on top of the SqlDataSour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oose data sour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heck ‘enable sorting’ and ‘enable pag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4400" indent="-2703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d header 2 &lt;h2&gt; with “Orders”. Save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38440" indent="-2703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the browser symbol on the toolbar to test the p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xercise 1: XHTML Customers pag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a Web page to display the Customers table: Customers.aspx. Same steps as befor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MIT.master for its appeara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able sorting and pa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eate Default.aspx with new XHTML that uses MIT.mas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eep the name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ce short text in the ContentPlaceHolder on the p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ange links in MIT.master to point to your Orders, Customers pages, not De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3640" indent="-3236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en done, test with the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tart at Default.asp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avigate to Orders and Customers and then back to Defa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3840" indent="-3240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 browser, “View Source” to see what XHTML has been genera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03T14:40:48Z</cp:lastPrinted>
  <dcterms:modified xsi:type="dcterms:W3CDTF">2013-10-20T20:55:59Z</dcterms:modified>
  <cp:revision>317</cp:revision>
  <dc:subject/>
  <dc:title>1.264 Lecture 5</dc:title>
</cp:coreProperties>
</file>