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CBE7-C918-42C0-914C-412FE78C8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4E3D-2D44-40A8-BAB2-DB7A3993150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A64BB-0081-4678-8F92-1C072F753F8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A8D0-480C-4695-8D72-E20DE13912C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E484A-845E-411C-8E6C-5203868CB4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3158-1BD7-41DE-A0CA-72518358F4E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5578-E7C9-4C49-8735-0F6C3BF3AC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C48EA-EE4B-4D1A-86A2-A9A675E603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4EAFC-E2DD-43B3-9F4E-ED5AC3FCD56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BAD22-7AF2-4912-A04D-2CB8515522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AAFF1-4B0D-4BF9-AB4C-378620BD794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8819-C0BD-4417-820C-F799CF64F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F8F4-D30F-4CE2-82C1-F93D47DE5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3D33-5EFC-4011-8A09-AFBC86A14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514-2422-4C6C-AD00-E0ADC021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1FE32-EF07-494F-907F-DFEF655B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DCEA-D57C-4402-9776-CCFB2C104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7966-B35E-4FE6-B300-F86C21E7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54F4-B226-4CE0-825A-0CBB6655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6321-7EB0-49D8-9DB8-3065C4B82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F3B-4B01-4607-9ED3-83859AFB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C1DA2-FB60-4797-BC59-E62F288D1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E95-771B-40A2-9864-7BEB78C30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F9B8-8BA1-4816-A564-B0A90AC39544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6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5800" y="5719680"/>
            <a:ext cx="518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Next class: Anderson chapter 4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ufacturer places bar code or RFID tag on each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bar code or RFID tag to verify authenticity with manufacturer serv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think like a crimin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physical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harmaceutical anti-counterfeit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bar code or RFID tag on drug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ore scans to verif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stomer has 800 number to call to verify serial numb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sib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bar code or RFID tag and place on counterfeit item, sell it before the real i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up fake Web site and 800 number that will verify anything.  Alter instructions to stores or consum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store can be compromised, even more attacks are possible.  Store can fail to check, falsify record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Supply chain and transportation increasingly involved in anti-counterfeiting and other securit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are versions of replay, man in the middle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cryp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n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is the process of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ing information (referred to as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laintex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ing a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algorithm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often called a cipher)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it unreadable to anyon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cept those possessing special knowledge, usually referred to 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ke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sult of the process is encrypted information, or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iphertex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reverse process, i.e. to make the encrypted information readable again, is referred to a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cryp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(i.e. to make it unencrypted)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44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cesses are called protocols. They addres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 and authentication of 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s and authorization of ro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counting for resources used by principa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cluding non-repudi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 and invalid actions taken by principals, including attackers, e.g.,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 in the middle attac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play attacks, and other issues with freshness/stalen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mpering with network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ersonation, extortion, physical theft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your organization has significant assets, you must protect against sophisticated/tailored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tocol notation exampl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 -&gt; G : T, {T, N}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ken T used to enter garage G  (T and G ar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principal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oken (e.g. like EZ Pass) transmits its serial number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n transmits its serial number T and a number used only once (nonce) N, encrypted with its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nce assures that message i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res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not a repla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nce can be sequential, random, or third party challeng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67840" indent="-16668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ssume nonce is sequential in this protoco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known by both T and G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server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ads 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oks up the corresponding key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its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ciphers {T, N}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the message includes T, and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s that N has not been seen before or has expected valu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(obtain)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nk like a criminal…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flaws in garage protocol?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440" y="12193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scribe whether it is possible to hav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 in the middl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Have a rogue reader before garage entrance that reads all EZ Pass units seen.  Copy the tag’s message to the reader onto another unit. Use that one to enter garag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nial of service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Break the reader, cut its power, etc. Gate will be left u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ay attac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Since each message has nonce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 the key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Z can go into garage with rogue reader and interrogate an EZ Pass unit repeatedly. Z knows part of the message is the sequential number and part is the fixed key. Z can infer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rom enough (N, N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pai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ther attacks that you can imagine? (Easiest one!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es. Attacker can break into car and steal EZ Pass uni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challenge and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ehicle anti-theft system as examp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ehicle key inserted into steering loc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has serial number, which is its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sends random number challenge to car key using short range radio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 key computes response by encrypting the random number challenge and also sends car key identifi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ngine management unit decrypts, reads response and verifies it matches the challenge, and car key serial nbr corr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ercise: write out the protocol using the notation conventions from the last slid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_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(car key) -&gt;____________________________________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 (engine)-&gt; C (car key): 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 -&gt; E : {C, N}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Arial"/>
              </a:rPr>
              <a:t>K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 the car key must send its identifi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 must verify that C is valid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 can often be predicted somewhat because the engine controller is simple (e.g., black hat intercepts N and knows next N is based on it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cing black hat to find C makes break-in significantly hard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ey and engine management unit must be matched at time of manufacture; engine management unit must know K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protocol is between a key and the engine. Since the user has the key, the key and engine are only in proximity when the user is too.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 key must be in the ignition for the protocol to start. This also makes the protocol better: contact rather than contactless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These factors make man in the middle attacks harder, but not impossible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 respon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very common approach but has been broken repeated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ndom numbers often not very random and can be grabbed or guessed by thie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t is also vulnerable to man-in-the-middle attac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&lt;-&gt; B &lt;-&gt; C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 can masquerade as C, passing A’s requests to C and sending C’s responses to A.  After (fraudulent) authentication, B gains acces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94360" indent="-2286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king garage examp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lack hat has reader, masquerades as garage reader, interrogates card, gets its serial number T, (N,T)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K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plays it to real reader, gets response back, enters garag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4320" indent="-2743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 attack: jam radio frequency so car owner can’t lock car when leav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14T15:16:28Z</cp:lastPrinted>
  <dcterms:modified xsi:type="dcterms:W3CDTF">2013-11-07T23:22:11Z</dcterms:modified>
  <cp:revision>191</cp:revision>
  <dc:subject/>
  <dc:title>1.264 Lecture 5</dc:title>
</cp:coreProperties>
</file>