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0C3F-E275-487F-B350-8DAAC863B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4A8A-D842-4AD6-AA5A-47413EDEED0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E3FD5-F924-4FFD-80D5-48966631BE82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EA65C-2173-4C47-951E-F03D58C5C861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2F619-650E-41DD-B12E-988694C17468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004D6-8969-41E1-843A-A651A418699C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388FB-24A0-42CF-AFA4-EB1B97B2CA99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A134E-471E-41C7-A1FF-7256257F630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B48D-7C50-4AC7-913A-8AAF6656EA8F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8CC71-B5BA-4BA5-A589-C04D60876637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8CC04-A326-40A0-80A2-91346C15746A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5936-67C3-436C-8710-74B505B5B8B5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C0FCC-02E8-4F5E-A3BA-26EB7FDCB59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94CF-7087-4C7B-988D-D863C8787D90}" type="slidenum">
              <a:rPr b="0" lang="en-U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AB4F-741E-46E6-BCDA-F55C00E3A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3DB6-2E2B-4FB9-9495-A9419B0E0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2CE0-74AF-4B16-9056-EC470D30E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A78E-AE0D-4ED8-BD0E-3C5E312C2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B876-BF5A-41B2-BC08-AA6EB146F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625B-2527-470A-B743-4CCF3EE8A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38B4-43DE-4837-91EA-E64DAA78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7F85-3B88-478F-B0FD-73141694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1ACE-F69E-4979-8277-E51D45FF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3FB2-C9CE-40B0-AC95-39C041D0F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7DB2-0AF8-4217-B24B-33FF4681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DD57-3320-485E-825A-EF611F10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EF07A-C550-418F-9107-5EEA4181D3CB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5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basic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14720" y="5719680"/>
            <a:ext cx="502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3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emises for Internet securit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-network-server are the 3 key compon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(browser or application)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is operated by organization stated 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s returned by server are free from viruses (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server will not distribute user’s private info, such as identity, financial, Web use… (secrecy/priva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premises (for both client and serve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is free from third party eavesdroppers (secrec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etwork delivers information intact, not tampered with by third parties (secrecy, trustworth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premi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attempt to break into or alter contents of Web site or database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gain access to documents or data that he/she is not allowed (secrecy/confidential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r will not try to crash the server or deny service to oth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user has identified him/herself, user is who he/she claims to be (identity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ent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fection and hijacking (botnet, spam server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ware, viruses, trojans, worms, et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Zero day vulnerabiliti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cial engineering to visit Web pages, respond to emai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s are virus checkers, edu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 term solution is cloud w/few apps on client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vacy los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s. Abused to track user habi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ail. Spam. (What % of email is spam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hort term solution is email verification (IP address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 loss (phishing, other attack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 information sent to unauthorized par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: education, IP improvements, certificates…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er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ite break-i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theft is usual object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, basic apps fairly secu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primarily database protec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s compromis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iders (what % of attacks are inside jobs?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seem to be losing the batt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llions of credit cards disclosed ann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ailored worms/trojans steal from business and consumer accou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75% of corporations report significant breach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rus checker/intrusion detection don’t prevent sophisticated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www.threatexpert.com for some statistic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etwork ris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nial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acks that cause system to expend large resources in respon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ed denial of service attac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lutions are distributed filters, identification of attacking servers, changes in Internet protocols to limit spoofing in open Interne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use of private networks under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cket sniff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for unsecured servers, ports to attack. Mostly small/medium busin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acking encryption is rare; there are easier holes to exploit, usual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ase study: Public transport fare collec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ash/token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martcard transit fare colle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is core security feature of transit system fare collection system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internal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passenger risk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are risks in getting funds to bank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curity engineer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 far, we’ve covered requirements, UML, business rules, data models, databases, Web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cus on correctness, completeness, consist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are important for security too: a buggy system is an insecure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it doesn’t do what it’s supposed to do correctly, it won’t handle other things correctly eith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engineering focuses on guarding against malice, and against errors that can be exploi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lice is the key additional factor for 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lectures are just an introduction to securit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cover basic principles and core issues/examp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system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-4431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ystem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duct or component: protocol, smartcard, comp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products, plus operating system and its communic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ction of above, plus application softwa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IT staf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users and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customers and external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812880" indent="-369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f above, plus environment: competitors, regulat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vendors, security evaluators focus on 1, 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43160" indent="-4431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usinesses focus on 5, 6, as does Anderson, and so do w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actor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erson: physical person, company or governm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ity definitions relate to legal defini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e: function assumed by different persons in succes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database administrat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al: entity that participates in security syst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person, role, communications channel or other component, including an attack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dentity: names of two principals that are the same person or compone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0960" indent="-2541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user and his or her username/password, or his or her iris scan or fingerpri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accessing your apartment or home, defin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erson: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orge, Katie (occupan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mbridge Savings Bank (mortgage hold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rious plumbers, electricians, cat sitters, etc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le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ccupant, landlord/owner, building manageme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ck, keys, alar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rglar, George, Katie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dent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atie, George, Katie’s key, George’s key, alarm cod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48120" indent="-1782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urglar can adopt our identity if we lose our ke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Jessica (cat sitter), our house ke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efinitions of trust and secrec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ed system: one whose failure will break security poli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your building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worthy system: one that will not fai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.g., a well administered, technically correct access syst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recy: mechanisms to limit principals who can access inform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tiality: obligation to protect other person’s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organization (strategic plan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vacy: ability/right to protect your personal secre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91360" indent="-1782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recy for the benefit of the  individual(bank account number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onym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content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source or destination confidential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uthenticit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ticipation of genuine principal, not a copy or a fak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rust and identity example: certificat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nsumer user identity in certificates is email address (e.g., your MIT certificate)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ual identity for users is most often established using credit card number or account numb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any identity based on domain name/URL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ding partner trust is not based on encryption, certificates, etc. but on knowledge of each other from face-to-face business dealing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omputer security is only one element, though crucial, part of trust and identity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lobal computer-based trust and identity seems impossible: no centrally trusted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8T15:50:20Z</cp:lastPrinted>
  <dcterms:modified xsi:type="dcterms:W3CDTF">2013-11-07T22:52:23Z</dcterms:modified>
  <cp:revision>192</cp:revision>
  <dc:subject/>
  <dc:title>1.264 Lecture 5</dc:title>
</cp:coreProperties>
</file>