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568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568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E8A7-E6A9-493B-B0C4-91ADF3B3B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1F9F-3E15-4865-8695-78D9278FE49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0AB01-149E-487E-91C1-299D9BF520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47DF9-5372-447A-A01A-414458017D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3DDF-74A7-48CF-9224-CEFFFE3F7A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DDCE5-6F46-4CAB-84CF-27DE15405E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FD95F-536B-402C-B877-62AACF7E58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0C62-CD2F-4939-8F5E-B2F8722AAE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A110-0FFC-4306-B00B-1649B0FEB82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1BF4-C371-4D4C-9531-38888083DA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E64F-13FD-4022-84A6-98D69E948F8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3ACD3-DF62-4F57-B937-827730F0AF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F89D-B070-4186-B8E6-AE410EE25FA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690A0-6FBC-4BC9-A251-832ECB51F40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84517-BE8B-49A6-9C2E-F67E21D9753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AF585-6508-4142-A31D-2EE93C06A8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5E52-C83F-4BA9-ADCC-B6C4D381E3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5B00-8E98-4B15-81EB-E9463071237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2E32-D241-4A8F-BC2D-55FB268FBD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357ED-68D8-4FB1-B8AF-7242238B416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BD3BB-FE35-466C-BE27-01C1DEF7C52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FD5E9-8715-44BA-A52F-03D27ECA01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956040" y="881856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A22B6-C6E2-44E9-BE10-14A78FF0E99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13EF4-76CB-4617-A0CC-9B6DE7BF6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D17E-E235-4371-8057-4BE3F55D2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6B6A-39ED-499A-A9FD-5E3FD3E05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8FE4-17BA-4E33-9E12-5BF2100C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741C-2725-49A1-AF5A-AF0CE0FB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4BFB-89E5-4C51-9379-D730085A7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540C-5349-40BB-8BCF-68D93257D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7664-3E59-4A55-8445-D2A92FE3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5F28-56CA-4F5D-843A-F8332124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245A-3508-469E-B11F-4D20E66F6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6250-28C3-494D-B2B6-0BC634BE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45B2-80DF-49CF-8429-C6FEBBF6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93DD-29E0-49E2-B1FB-0570FD9704C2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4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rvice Oriented Architectu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lectronic Data Interchange (EDI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93120" y="5719680"/>
            <a:ext cx="538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nderson chapter 1, 2.  Exercise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0" descr="Picture5.jpg"/>
          <p:cNvPicPr/>
          <p:nvPr/>
        </p:nvPicPr>
        <p:blipFill>
          <a:blip r:embed="rId1"/>
          <a:stretch/>
        </p:blipFill>
        <p:spPr>
          <a:xfrm>
            <a:off x="838080" y="1351080"/>
            <a:ext cx="7175520" cy="54306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s and existing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6" name="Text Box 10"/>
          <p:cNvSpPr/>
          <p:nvPr/>
        </p:nvSpPr>
        <p:spPr>
          <a:xfrm>
            <a:off x="1081800" y="914400"/>
            <a:ext cx="6776640" cy="337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grated system built using Web services/SOA to existing system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13"/>
          <p:cNvSpPr/>
          <p:nvPr/>
        </p:nvSpPr>
        <p:spPr>
          <a:xfrm>
            <a:off x="31240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Line 16"/>
          <p:cNvSpPr/>
          <p:nvPr/>
        </p:nvSpPr>
        <p:spPr>
          <a:xfrm>
            <a:off x="49528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Line 17"/>
          <p:cNvSpPr/>
          <p:nvPr/>
        </p:nvSpPr>
        <p:spPr>
          <a:xfrm>
            <a:off x="403848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Line 18"/>
          <p:cNvSpPr/>
          <p:nvPr/>
        </p:nvSpPr>
        <p:spPr>
          <a:xfrm>
            <a:off x="5791320" y="1219320"/>
            <a:ext cx="0" cy="53316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an SOA diagram for your homework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de how you would structure your catalog browsing and ordering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your Web 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 the Web services your customers would use to communicate with yo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Figure 5.4 and/or Figure 5.15 on the previous slides as a templ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2.0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rst generation Web services: SOAP, WSDL, UDDI (WSDL regist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t functional requirements for businesses, but not the supporting requirements: security, reliability, availability, quality of service, choreograph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-253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2.0: WS-* specif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ddressing: references to Web service end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Atomic Trans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Business Process Execution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horeography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Coordination and WS-Even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Metadata Exchange Langu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Notif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Reliable Mess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9720" indent="-211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S-Security: end to end, not just point to 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siness Process Execution Langu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27" name="Picture 2" descr=""/>
          <p:cNvPicPr/>
          <p:nvPr/>
        </p:nvPicPr>
        <p:blipFill>
          <a:blip r:embed="rId1"/>
          <a:stretch/>
        </p:blipFill>
        <p:spPr>
          <a:xfrm rot="21540000">
            <a:off x="1828800" y="1066320"/>
            <a:ext cx="5819760" cy="5464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4278600" y="6581880"/>
            <a:ext cx="462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 (Electronic Data Interchange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 is a mainframe-based standard for electronic exchange of information. Developed in 1980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is expensive, complex and has limited usage, but enough that new technologies must interoperate with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pically, large companies use EDI and require it of their smaller partners/vendors, who are not always eager to use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wo EDI standards: ANSI X12 and EDIFACT (U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s follow EDI standards in many c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ocuments are called Transaction Sets (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o XML mapping established using DT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w users of Internet ecommerce may skip EDI and use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ss than 80,000 of 6-10 million US businesses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25,000 businesses world-wide use ED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cost and complexity are large obstacle for medium size busine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communicati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nary, not text (difficult to change or troubleshoo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transaction sets are stat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 designed for expensive and scarce communica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uch optimization of message size,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tended to replace letters, phone calls, fax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ot self-describing, cannot be validated, can’t be extended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ne through third party value-added networks (VAN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anies generally use file transfer to send file to V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AN handles EDI exchange with trading partn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ared to once-a-day, batch exchanges of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 (over a period of days): A purchas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40 document (Request for 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43 (Quo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50 (Purchase Or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56 (Shipment Not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es EDI 810 (Invoi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nds EDI 820 (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DI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4" name="Picture 3" descr="Picture6.jpg"/>
          <p:cNvPicPr/>
          <p:nvPr/>
        </p:nvPicPr>
        <p:blipFill>
          <a:blip r:embed="rId1"/>
          <a:stretch/>
        </p:blipFill>
        <p:spPr>
          <a:xfrm>
            <a:off x="1219320" y="2438280"/>
            <a:ext cx="6210360" cy="22924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3"/>
          <p:cNvSpPr/>
          <p:nvPr/>
        </p:nvSpPr>
        <p:spPr>
          <a:xfrm>
            <a:off x="5308920" y="502920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DI/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l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DI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37" name="Picture 4" descr="EDI_ISAExample"/>
          <p:cNvPicPr/>
          <p:nvPr/>
        </p:nvPicPr>
        <p:blipFill>
          <a:blip r:embed="rId1"/>
          <a:stretch/>
        </p:blipFill>
        <p:spPr>
          <a:xfrm>
            <a:off x="2514600" y="152280"/>
            <a:ext cx="4059360" cy="65898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6"/>
          <p:cNvSpPr/>
          <p:nvPr/>
        </p:nvSpPr>
        <p:spPr>
          <a:xfrm>
            <a:off x="7012080" y="60199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DI Exampl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tail information flow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0" name="Picture 3" descr="Picture7.jpg"/>
          <p:cNvPicPr/>
          <p:nvPr/>
        </p:nvPicPr>
        <p:blipFill>
          <a:blip r:embed="rId1"/>
          <a:stretch/>
        </p:blipFill>
        <p:spPr>
          <a:xfrm>
            <a:off x="457200" y="712800"/>
            <a:ext cx="8461440" cy="614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istributor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2" name="Picture 3" descr="Picture8.jpg"/>
          <p:cNvPicPr/>
          <p:nvPr/>
        </p:nvPicPr>
        <p:blipFill>
          <a:blip r:embed="rId1"/>
          <a:stretch/>
        </p:blipFill>
        <p:spPr>
          <a:xfrm>
            <a:off x="92160" y="692280"/>
            <a:ext cx="8959680" cy="54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2286000" y="1108080"/>
            <a:ext cx="914400" cy="105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5029200" y="1173240"/>
            <a:ext cx="914400" cy="1218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8001000" y="1173240"/>
            <a:ext cx="914400" cy="101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5"/>
          <p:cNvSpPr/>
          <p:nvPr/>
        </p:nvSpPr>
        <p:spPr>
          <a:xfrm>
            <a:off x="3276720" y="185904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6"/>
          <p:cNvSpPr/>
          <p:nvPr/>
        </p:nvSpPr>
        <p:spPr>
          <a:xfrm flipV="1">
            <a:off x="6019920" y="1703520"/>
            <a:ext cx="1981080" cy="46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7"/>
          <p:cNvSpPr/>
          <p:nvPr/>
        </p:nvSpPr>
        <p:spPr>
          <a:xfrm flipH="1">
            <a:off x="5943600" y="2054160"/>
            <a:ext cx="19051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 flipH="1">
            <a:off x="3200400" y="216360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>
            <a:off x="3276720" y="1249200"/>
            <a:ext cx="17524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Line 12"/>
          <p:cNvSpPr/>
          <p:nvPr/>
        </p:nvSpPr>
        <p:spPr>
          <a:xfrm flipH="1">
            <a:off x="3200400" y="1554120"/>
            <a:ext cx="1828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154080" y="1173240"/>
            <a:ext cx="878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-to-C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3350520" y="955800"/>
            <a:ext cx="159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350520" y="1301760"/>
            <a:ext cx="174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b svc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358080" y="1630440"/>
            <a:ext cx="176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3359520" y="1935000"/>
            <a:ext cx="196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5920200" y="149688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query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5934960" y="180828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B conn, SQL resultse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34"/>
          <p:cNvSpPr/>
          <p:nvPr/>
        </p:nvSpPr>
        <p:spPr>
          <a:xfrm>
            <a:off x="1066680" y="1143000"/>
            <a:ext cx="914400" cy="914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B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36"/>
          <p:cNvSpPr/>
          <p:nvPr/>
        </p:nvSpPr>
        <p:spPr>
          <a:xfrm>
            <a:off x="1981080" y="14018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37"/>
          <p:cNvSpPr/>
          <p:nvPr/>
        </p:nvSpPr>
        <p:spPr>
          <a:xfrm>
            <a:off x="1981080" y="1554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39"/>
          <p:cNvSpPr/>
          <p:nvPr/>
        </p:nvSpPr>
        <p:spPr>
          <a:xfrm>
            <a:off x="2286000" y="2316240"/>
            <a:ext cx="91440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ent/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TextBox 41"/>
          <p:cNvSpPr/>
          <p:nvPr/>
        </p:nvSpPr>
        <p:spPr>
          <a:xfrm>
            <a:off x="2987280" y="15228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lution- case stud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2" name="Straight Arrow Connector 37"/>
          <p:cNvCxnSpPr>
            <a:stCxn id="70" idx="3"/>
          </p:cNvCxnSpPr>
          <p:nvPr/>
        </p:nvCxnSpPr>
        <p:spPr>
          <a:xfrm flipV="1">
            <a:off x="3200400" y="1828080"/>
            <a:ext cx="182952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73" name="Straight Arrow Connector 39"/>
          <p:cNvCxnSpPr/>
          <p:nvPr/>
        </p:nvCxnSpPr>
        <p:spPr>
          <a:xfrm flipH="1">
            <a:off x="3200040" y="2132640"/>
            <a:ext cx="18295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74" name="Text Box 19"/>
          <p:cNvSpPr/>
          <p:nvPr/>
        </p:nvSpPr>
        <p:spPr>
          <a:xfrm>
            <a:off x="3285360" y="2511360"/>
            <a:ext cx="21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/XHTML, response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Text Box 18"/>
          <p:cNvSpPr/>
          <p:nvPr/>
        </p:nvSpPr>
        <p:spPr>
          <a:xfrm>
            <a:off x="3307320" y="2282760"/>
            <a:ext cx="133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TTP request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3428640"/>
            <a:ext cx="807732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used by customer or manufacturer/distributor to alter XML being sent or recei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D and/or DTD used by customer or manufacturer/ distributor to validate XML being sent or rec’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package the HTTP, XML, XSD, request/response and URL used in “raw” XML transf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described in WSDL documents in registry. E.g.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nufacturer/distributor registers Web service in UDDI regis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ustomer discovers Web service and invokes it on mfr/distrib Web 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sual tool: CSS for XHTML, XSLT for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TextBox 3"/>
          <p:cNvSpPr/>
          <p:nvPr/>
        </p:nvSpPr>
        <p:spPr>
          <a:xfrm>
            <a:off x="5409000" y="620640"/>
            <a:ext cx="289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nufacturer, distributo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TextBox 43"/>
          <p:cNvSpPr/>
          <p:nvPr/>
        </p:nvSpPr>
        <p:spPr>
          <a:xfrm>
            <a:off x="1357200" y="620640"/>
            <a:ext cx="124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34"/>
          <p:cNvSpPr/>
          <p:nvPr/>
        </p:nvSpPr>
        <p:spPr>
          <a:xfrm>
            <a:off x="3352680" y="2971800"/>
            <a:ext cx="1497240" cy="457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dustry sv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0" name="Straight Arrow Connector 39"/>
          <p:cNvCxnSpPr>
            <a:stCxn id="52" idx="2"/>
            <a:endCxn id="79" idx="3"/>
          </p:cNvCxnSpPr>
          <p:nvPr/>
        </p:nvCxnSpPr>
        <p:spPr>
          <a:xfrm flipH="1">
            <a:off x="4849560" y="2391840"/>
            <a:ext cx="637200" cy="808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1" name="Text Box 19"/>
          <p:cNvSpPr/>
          <p:nvPr/>
        </p:nvSpPr>
        <p:spPr>
          <a:xfrm>
            <a:off x="4961520" y="296856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" name="Straight Arrow Connector 39"/>
          <p:cNvCxnSpPr>
            <a:stCxn id="51" idx="2"/>
          </p:cNvCxnSpPr>
          <p:nvPr/>
        </p:nvCxnSpPr>
        <p:spPr>
          <a:xfrm>
            <a:off x="2743200" y="2163600"/>
            <a:ext cx="596160" cy="1036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3" name="Text Box 19"/>
          <p:cNvSpPr/>
          <p:nvPr/>
        </p:nvSpPr>
        <p:spPr>
          <a:xfrm>
            <a:off x="1837440" y="298620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SDL, XSD/DT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19"/>
          <p:cNvSpPr/>
          <p:nvPr/>
        </p:nvSpPr>
        <p:spPr>
          <a:xfrm>
            <a:off x="79056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5" name="Straight Arrow Connector 39"/>
          <p:cNvCxnSpPr>
            <a:endCxn id="84" idx="0"/>
          </p:cNvCxnSpPr>
          <p:nvPr/>
        </p:nvCxnSpPr>
        <p:spPr>
          <a:xfrm flipH="1">
            <a:off x="1523160" y="2185560"/>
            <a:ext cx="762840" cy="359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  <p:sp>
        <p:nvSpPr>
          <p:cNvPr id="86" name="Text Box 19"/>
          <p:cNvSpPr/>
          <p:nvPr/>
        </p:nvSpPr>
        <p:spPr>
          <a:xfrm>
            <a:off x="5545080" y="2544840"/>
            <a:ext cx="1467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SLT if needed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7" name="Straight Arrow Connector 39"/>
          <p:cNvCxnSpPr>
            <a:endCxn id="86" idx="0"/>
          </p:cNvCxnSpPr>
          <p:nvPr/>
        </p:nvCxnSpPr>
        <p:spPr>
          <a:xfrm>
            <a:off x="5930640" y="2392200"/>
            <a:ext cx="347760" cy="153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inancial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4" name="Picture 3" descr="Picture9.jpg"/>
          <p:cNvPicPr/>
          <p:nvPr/>
        </p:nvPicPr>
        <p:blipFill>
          <a:blip r:embed="rId1"/>
          <a:stretch/>
        </p:blipFill>
        <p:spPr>
          <a:xfrm>
            <a:off x="152280" y="785880"/>
            <a:ext cx="8839440" cy="56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ing/engineering information flo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6" name="Picture 3" descr="Picture10.jpg"/>
          <p:cNvPicPr/>
          <p:nvPr/>
        </p:nvPicPr>
        <p:blipFill>
          <a:blip r:embed="rId1"/>
          <a:stretch/>
        </p:blipFill>
        <p:spPr>
          <a:xfrm>
            <a:off x="182520" y="706320"/>
            <a:ext cx="8778960" cy="599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anufacturer information flow: detai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48" name="Picture 3" descr="Picture11.jpg"/>
          <p:cNvPicPr/>
          <p:nvPr/>
        </p:nvPicPr>
        <p:blipFill>
          <a:blip r:embed="rId1"/>
          <a:stretch/>
        </p:blipFill>
        <p:spPr>
          <a:xfrm>
            <a:off x="158760" y="685800"/>
            <a:ext cx="8826480" cy="608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RP and EDI/XML standard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revious slides define the core of an ERP syst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ny have very substantial additions for human resources, planning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buy a full ERP or mix and match best of breed systems. Web service/SOA integration is comm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most every interface on the previous slides has a defined EDI or XML transaction set or message set, typically defined by indu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DCC (1968), EDX, CDIX, TALC, UCS/VICS, WINS, BVAI and oth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hallenges of system integr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anies use multiple systems that must increasingly co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ystems often are in different business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 in different companies (vendors, channel partners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n on different platforms (operating system, hardwar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ten in different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ifferent communication protoc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le transfer, EDI, XML, RPC, MQ, CORBA, COM, socket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databases, data defini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ave different objectives, run at different times/peri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lution is desired that allows integration in spite of different languages, protocols, hardware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(SOA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are basis for integration in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ore of standard open technologies are u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, XML Schema (XSD), XSLT, SOAP, WSD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ng system-, hardware-, software-, database-neut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registry (database) is used to store WSDL for service disco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, reliability, performance, transactions must be added to ‘primitive’ Web services to have SO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supports composition (assembling) of services, reusability of services, extensi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a service-focused busines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ML business process models can be implemented in SO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ervice oriented architecture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 is based on loose coupling between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ynchronous, or message-oriented (MOM)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 is sent from system A to system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se generally not guaranteed in any given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process may not complete for a long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Shipment tracking service (succes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ample: Async telecom service orders system (fail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of current SOA implement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3080160" y="6345360"/>
            <a:ext cx="236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 is Web 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6641280" y="6488280"/>
            <a:ext cx="215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rom Thomas 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Content Placeholder 7" descr="Picture1.jpg"/>
          <p:cNvPicPr/>
          <p:nvPr/>
        </p:nvPicPr>
        <p:blipFill>
          <a:blip r:embed="rId1"/>
          <a:stretch/>
        </p:blipFill>
        <p:spPr>
          <a:xfrm>
            <a:off x="906480" y="1981080"/>
            <a:ext cx="7331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architecture (between Web servers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9" name="Content Placeholder 4" descr="Picture2.jpg"/>
          <p:cNvPicPr/>
          <p:nvPr/>
        </p:nvPicPr>
        <p:blipFill>
          <a:blip r:embed="rId1"/>
          <a:stretch/>
        </p:blipFill>
        <p:spPr>
          <a:xfrm>
            <a:off x="593640" y="1676520"/>
            <a:ext cx="7956720" cy="472428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use of WSD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" name="Content Placeholder 4" descr="Picture3.jpg"/>
          <p:cNvPicPr/>
          <p:nvPr/>
        </p:nvPicPr>
        <p:blipFill>
          <a:blip r:embed="rId1"/>
          <a:stretch/>
        </p:blipFill>
        <p:spPr>
          <a:xfrm>
            <a:off x="1773360" y="1295280"/>
            <a:ext cx="5597280" cy="548640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249120" y="2743200"/>
            <a:ext cx="1305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nvoice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ubmission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404280" y="3970440"/>
            <a:ext cx="114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ulfillmen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Box 5"/>
          <p:cNvSpPr/>
          <p:nvPr/>
        </p:nvSpPr>
        <p:spPr>
          <a:xfrm>
            <a:off x="7576560" y="25909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Box 6"/>
          <p:cNvSpPr/>
          <p:nvPr/>
        </p:nvSpPr>
        <p:spPr>
          <a:xfrm>
            <a:off x="7581960" y="3962520"/>
            <a:ext cx="1093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urchas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A service composi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9" name="Picture 5" descr="Picture4.jpg"/>
          <p:cNvPicPr/>
          <p:nvPr/>
        </p:nvPicPr>
        <p:blipFill>
          <a:blip r:embed="rId1"/>
          <a:stretch/>
        </p:blipFill>
        <p:spPr>
          <a:xfrm>
            <a:off x="1239840" y="1371600"/>
            <a:ext cx="6664320" cy="530388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7"/>
          <p:cNvSpPr/>
          <p:nvPr/>
        </p:nvSpPr>
        <p:spPr>
          <a:xfrm>
            <a:off x="8145720" y="6550200"/>
            <a:ext cx="99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rl, “SOA”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59840" y="2362320"/>
            <a:ext cx="1102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ccount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ayab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8022600" y="2209680"/>
            <a:ext cx="88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Vendo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ofil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8006760" y="3970440"/>
            <a:ext cx="88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edg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11-07T15:38:59Z</cp:lastPrinted>
  <dcterms:modified xsi:type="dcterms:W3CDTF">2012-12-29T01:32:44Z</dcterms:modified>
  <cp:revision>196</cp:revision>
  <dc:subject/>
  <dc:title>1.264 Lecture 5</dc:title>
</cp:coreProperties>
</file>