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jpeg" ContentType="image/jpeg"/>
  <Override PartName="/ppt/media/image5.jpeg" ContentType="image/jpeg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6028D64-C7DA-4BA5-B3FD-56B7CE280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C8A0E4C-50B8-4661-AEB3-01EED8F7A8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09DBD7C-083E-4876-A189-E13AEC8C125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9A37A9-295F-49E5-89F0-3743D848D5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7EE71D5F-1ABC-4912-82AF-47EE6502E20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9D167C8-675E-4828-B55D-9A7401EF07F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80B2E8A-5434-47AD-B8E9-6929822E8D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FBD629C-23A8-4FC7-B0EE-0A9EEC4189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E24F30C-44BF-4873-BA06-654EBF173A2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8E7AF0D-9FC2-4EB1-8F4A-A055979524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9A75FF-F13C-47E3-B29F-D3CCB841823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A72BDD5-F82C-4878-8DD2-358C126B1C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71C97D-1E4A-482D-883B-3A82A8AABFB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94A372BB-0E1F-46BE-885F-6AD7AC2EB49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18485D3E-D50E-4A64-9B3E-579A9599B9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FFFA835-AF7C-45A9-8FEC-43F64C5552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8656E570-5753-4FE0-8D92-265B4C36811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E90A-D92A-4B62-B0D8-C33669A76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4155-F53B-4D3D-98B7-E9827047A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E2F2-1BA5-48E8-BC77-236916FA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EE63-E95A-452E-A7BD-ED4A73F80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A175-698F-4323-9C6A-5F8EA5855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E9B9-636F-4966-A5C2-3D483974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902BD-3BCD-4C48-8CA1-86410F5C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82D-D33C-44E9-A632-04F4E836A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36B2-D22B-4FDD-B806-210B90E32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5DB-97CA-489B-BA0E-FF5A3CF9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9E4A-EE15-4A59-B748-55345D4B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1009-B00B-4C2B-ACA0-669B0ACB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06441-1132-433D-9B58-50A9F08EDD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4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Connecting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720" y="5719680"/>
            <a:ext cx="4971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7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ttp://web.mit.edu/subjectevalu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o 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thernet in the First Mile (EF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per: encapsulate Ethernet within modified DS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 Mbps up to 2.7 km, 10 Mbps up to 0.8 k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: essentially Gigabit Ethernet, up to 2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es not provide self-healing or diverse ro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ilient Packet Ring (RP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s alternate routes and failover, like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ual counter-rotating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s Ethernet simplicity for applications,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3" name="Picture 4" descr="Lec22b"/>
          <p:cNvPicPr/>
          <p:nvPr/>
        </p:nvPicPr>
        <p:blipFill>
          <a:blip r:embed="rId1"/>
          <a:stretch/>
        </p:blipFill>
        <p:spPr>
          <a:xfrm>
            <a:off x="1523880" y="1295280"/>
            <a:ext cx="6188040" cy="52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  <p:sp>
        <p:nvSpPr>
          <p:cNvPr id="86" name="TextBox 5"/>
          <p:cNvSpPr/>
          <p:nvPr/>
        </p:nvSpPr>
        <p:spPr>
          <a:xfrm>
            <a:off x="850680" y="5410080"/>
            <a:ext cx="729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ive approximate ranges for distance, devices, bandwid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85800" y="1981080"/>
          <a:ext cx="7772400" cy="31338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N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ance (kilometer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-5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50 k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w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any/us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ri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umber of devic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-1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-100,0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dwidth (Mbp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Mbps-1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Mbps-10 Gbit/se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iliency/redundancy (yes/no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, usuall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decb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there a service level agreement (contract)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f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cess technologies to connect LAN to WAN, if there is no MA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nown as ‘last mile’ prob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bandwidth at LAN and MAN, but little in ‘last m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ubscriber line (DSL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pper lines to telco switc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Z (and others) moving DSL users to 4G LTE, in preparation of abandoning copper pl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vided over existing coax cable to CATV head 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reless ac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4G cellular “long term evolution” (LT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, in remote/ocean/air settin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ber to the business/home/cur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8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ubscriber Line (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3" name="Picture 4" descr="Lec20e"/>
          <p:cNvPicPr/>
          <p:nvPr/>
        </p:nvPicPr>
        <p:blipFill>
          <a:blip r:embed="rId1"/>
          <a:stretch/>
        </p:blipFill>
        <p:spPr>
          <a:xfrm>
            <a:off x="1447920" y="1676520"/>
            <a:ext cx="620856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1167840" y="5943600"/>
            <a:ext cx="648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y technical variations: ADSL, HDSL, SDSL, VDS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12-18,000 foot limit; data rates of 500 kbps up to 8 Mbp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Box 1"/>
          <p:cNvSpPr/>
          <p:nvPr/>
        </p:nvSpPr>
        <p:spPr>
          <a:xfrm>
            <a:off x="2670840" y="4449600"/>
            <a:ext cx="79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carr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th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DSL (ADSL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pper line from customer to central office can handle 1.1 MHz, in the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mpairments (noise, crosstalk, etc.)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stream ADSL uses 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same as voice channel, carries 60 kbps (not 64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24 * 60 kbps, or 1.44 Mbps 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500 k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stream ADSL uses 224 4.3kHz chann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theory, we get 13.4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practice, we get 8 Mbps or les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ther var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DSL uses 2 pairs for 1.5 Mbps up to 12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DSL uses 1 pair for 768 kbps up to 18,000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DSL may get 3-25 Mbps over 3,000+ f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ble channel is 6MHz wide for broadcast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ble bandwidth is 750 MHz approximately (coax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video: 45-550 MHz: 80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data: 550-750 MHz: 33 channels at 6 MH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data: 5-42 MHz: 6 channels at 6 MHz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ch channel can carry ~10 Mbps of data downstream, ~5-10 Mbps upstrea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ndwidth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cross all cable users in seg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 is cable standard for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-like protocol. Users contend/collide to sen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en by all devices on cable segment, so it’s sometimes encrypted using RSA (public key encryption) and other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ble TV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562440" cy="55911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2816640" y="337968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ten fiber no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reless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G cellular data (“long term evolution”: L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 Mbps, though bandwidth may satu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cing fiber to homes, small busin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tell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wnstream speeds acceptable (a few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pstream links either not available or very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8-256kbps can cost $800-$1,000/mon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s have limited power, long paths, high lo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tellite paths have high delays, unsuitable for intera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serve rural are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cover wireless in detail l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ransportation brokerage company also handles billing for freight shipments, collecting from shippers and forwarding payment to carri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data must be secure; you route funds directly to banks in some cases and between customers in other c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would you communicate between your three major sites in New Jersey, Houston and Los Ange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transfer approximately 10,000 bills of lading in a 1 hour window at the end of each day from Houston and Los Angeles to New Jersey, which is the only site connected to banks and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bill is about 500 kB of data (documents and signatures are scann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the technology and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ll you use LAN, WAN or MAN technology, or combina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specific technologies will you use? Discuss options, pros/cons brief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cuss broader options surrounding your choi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a depot in an industrial area without carrier fiber op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have 1,000 buses that return to the depot every evening and upload video to a remote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bus has 10 hours of 384 kbps vide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goes via WiFi (wireless LAN) from each bus to a depot server, and then to the remote server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ant all data to transmit in 2 hou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oose between DSL, cable TV and 4G wireless access.  Which of these 3 can handle it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y can’t, what do you ne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685800" y="1600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/sec= 1,000 veh * 384 kbps= 384 M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send= 2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ime to record= 10 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us, the data must be sent 5 times as fast as it was recor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= 5 * 384 Mbps= 1920 Mbps= 1.92 Gb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, CATV or 4G/LTE cannot handle th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OC-48 (2.5 Gbps) over fiber to do this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ight be better off having each bus send real time video over LTE, though it would be expensive…  You could sample, have driver control it (usually)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P: Internet Service Provi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AP: Network Access Point: ISP interconnect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eeder: Telecom cable from central office (CO) to service area interface (SAI) in neighborho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tribution: Telecom cable from SAI to end 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M: Ethernet in First Mile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PR: Resilient Packet Ring: access to 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: Digital Subscriber Line: Internet access over copp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SLAM: DSL access multiplexer, at central off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C: Local exchange carrier (e.g., Verizion, AT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CSIS: Cable TV data standard, Ethernet-lik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00 kB x 8 bits/byte x 10 000 docs / 3600 seconds/h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roximately 11 Mbps raw data 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should be at least 15 Mbps, for overhea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route LA traffic via Houston, Houston-NJ needs 25-30 Mb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ither case requires OC-1 (45-51 Mbps)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chnology: WAN between LANs at each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only two links (LA-Houston and Houston-NJ), two point to point fiber optic links are a possible sol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d only 1 hour a day, though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ould handle it but large bursty traffic across the country would have reliability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traffic has security issues on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tellite bandwidth too low (network video has special deal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siness process can/must chan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ed years ago with small amount of data and expensive tele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er to send documents in real time n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docs sent in real time 10 hrs/day, bandwidth = 1.5Mbps, which can be handled by T1, DSL, … much less expensively.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1.5 Mbps is a sweet spo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, look further: do we need to send all 500 kB to the bank? If we store the full document, can we send just the part the bank needs? Trade off complexity vs c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ther reason why we use spira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considerations at the very end can require changing a business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requires changing requirements among channel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changes UML, database (maybe), Web service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in the first spiral, we can change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we find this at the end of chaos/waterfall, it can be despe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Lec20c"/>
          <p:cNvPicPr/>
          <p:nvPr/>
        </p:nvPicPr>
        <p:blipFill>
          <a:blip r:embed="rId1"/>
          <a:stretch/>
        </p:blipFill>
        <p:spPr>
          <a:xfrm>
            <a:off x="1371600" y="1295280"/>
            <a:ext cx="6727680" cy="5145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, WAN and access (last mil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Straight Connector 3"/>
          <p:cNvSpPr/>
          <p:nvPr/>
        </p:nvSpPr>
        <p:spPr>
          <a:xfrm>
            <a:off x="167652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Straight Connector 9"/>
          <p:cNvSpPr/>
          <p:nvPr/>
        </p:nvSpPr>
        <p:spPr>
          <a:xfrm>
            <a:off x="167652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Straight Connector 10"/>
          <p:cNvSpPr/>
          <p:nvPr/>
        </p:nvSpPr>
        <p:spPr>
          <a:xfrm>
            <a:off x="41911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Straight Connector 13"/>
          <p:cNvSpPr/>
          <p:nvPr/>
        </p:nvSpPr>
        <p:spPr>
          <a:xfrm>
            <a:off x="167652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Straight Connector 14"/>
          <p:cNvSpPr/>
          <p:nvPr/>
        </p:nvSpPr>
        <p:spPr>
          <a:xfrm>
            <a:off x="5410080" y="457200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Straight Connector 15"/>
          <p:cNvSpPr/>
          <p:nvPr/>
        </p:nvSpPr>
        <p:spPr>
          <a:xfrm>
            <a:off x="5410080" y="6248520"/>
            <a:ext cx="2514600" cy="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Straight Connector 16"/>
          <p:cNvSpPr/>
          <p:nvPr/>
        </p:nvSpPr>
        <p:spPr>
          <a:xfrm>
            <a:off x="79246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Straight Connector 17"/>
          <p:cNvSpPr/>
          <p:nvPr/>
        </p:nvSpPr>
        <p:spPr>
          <a:xfrm>
            <a:off x="5410080" y="4572000"/>
            <a:ext cx="0" cy="1676520"/>
          </a:xfrm>
          <a:prstGeom prst="line">
            <a:avLst/>
          </a:prstGeom>
          <a:ln w="284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TextBox 8"/>
          <p:cNvSpPr/>
          <p:nvPr/>
        </p:nvSpPr>
        <p:spPr>
          <a:xfrm>
            <a:off x="46296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Box 19"/>
          <p:cNvSpPr/>
          <p:nvPr/>
        </p:nvSpPr>
        <p:spPr>
          <a:xfrm>
            <a:off x="8103600" y="525780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20"/>
          <p:cNvSpPr/>
          <p:nvPr/>
        </p:nvSpPr>
        <p:spPr>
          <a:xfrm>
            <a:off x="455400" y="2743200"/>
            <a:ext cx="99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AN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utside pla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533520" y="595440"/>
            <a:ext cx="8109000" cy="61862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7944840" y="66294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eeder and distribution cab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712800" y="1066680"/>
            <a:ext cx="7440480" cy="5149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6"/>
          <p:cNvSpPr/>
          <p:nvPr/>
        </p:nvSpPr>
        <p:spPr>
          <a:xfrm>
            <a:off x="52560" y="6335640"/>
            <a:ext cx="900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eeder cable becoming all-fiber. Some distribution is fiber, more plann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politan area networks (M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AN is public network that bridges LAN and WAN, typically spanning 5 to 50 k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o area Ethernet becoming dominan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mple for customer, extends Ethernet LA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technology sophisticated but available, reliable, fairly low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s over carrier fiber optic netwo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ed across business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options: encryption or physical sepa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 connected to open Internet or consu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ng LANs (sites)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age area networks (S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 many sites to one WAN point of presence (PO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, voice, graphics: bursty, high bandwidth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tro area Ether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gabit Ethernet (1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tible with Gigabit Ethernet L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to 50 km range per h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Ethernet switches needed per metro are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ailable in many metro areas; can buy fractions of G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G Ethernet (10 Gbps or 10,000 Mb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most completely compatible with slower Ether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sentially compatible with SO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G Ethernet is close to OC-192, and protocol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ge up to 40 k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oming available; can buy fractions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oth options have technology (“tags”) to allow network to sca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switches discover all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Ethernet can have 100,000s of de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2-01T15:51:30Z</cp:lastPrinted>
  <dcterms:modified xsi:type="dcterms:W3CDTF">2013-12-01T16:27:19Z</dcterms:modified>
  <cp:revision>255</cp:revision>
  <dc:subject/>
  <dc:title>1.264 Lecture 5</dc:title>
</cp:coreProperties>
</file>