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84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0000"/>
            <a:ext cx="302724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644A64D1-B5E5-4503-ACC6-3A19107D2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C5136E1D-6332-4BBB-A66E-626227D0C4B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81AA041C-D004-40CA-A9A9-1F181154882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97972F6D-EAB2-4E7A-B68B-20CB58B9A4F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Slide Number Placeholder 3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6A394121-B7DB-4395-8869-6A481E7A1D9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AEE1225D-F5C8-4E7F-B1E1-579D704F2B2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F4EB3A65-03AE-43AB-A83A-BE34346463F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BF7FBA1C-F462-4C45-B0BB-199CA3E6C5F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E36C5B37-8B67-42A6-B6E9-E77C6894EC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16C3DBE8-8A16-4884-9196-0D432CA70E7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4C120C86-4486-4BA0-823C-DFA6C6BF31A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54F14264-F546-4F3A-B71D-2AFEE579386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22749EFF-2930-4506-95D5-11B1B5F4977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E540192F-C1D9-4D9B-9BEC-EEF3F15179A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F0CEA86E-E89C-4365-994E-9270CA9ABCC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AF03C78D-11E8-4E69-9386-4D9B02ECA68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BA1DAF4D-AAF1-4E1F-A05D-03D30888C6D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31680" y="4410000"/>
            <a:ext cx="51210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957480" y="88200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71CD8455-829C-49DA-B785-CA7AA57AC6A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7144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98040" y="4410000"/>
            <a:ext cx="5588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ADD8-2671-4883-B190-34AB5E5A8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317A6-533C-40CF-BCC7-B4C5BDE0B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0407-A7AC-4998-877D-DFB822703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66D3-716D-44A4-A166-EF57E7D34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DF79-659A-4608-A815-F3970B8F7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34A1-BBA4-461A-8B63-54E6F542A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641F-CF6F-4499-824E-E7A125427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58E9-2D76-4ECE-8030-BBEF4AF0B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889C-43FA-40F1-A68C-7CB546D41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9070-53D3-46CB-8592-17455C84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816C-696F-432A-9E8F-4EB1249C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400E-ED1B-4CEF-9F3B-F2E99F545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06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EFBA4-8E2E-44FD-864A-E7960ADCB3DA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.264 Lecture 37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lecom: Enterprise networks, VP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ultiprotocol Label Switching (MPLS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bel edge routers (LERs) assign a label that defines the path the packet will take through the IP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uting happens only once, at edg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uting at interior routers (label switched routers, or LSRs) is done in hardware, not a software lookup of IP routing tabl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ch faster, cheap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stack of labels allows complex, hierarchical network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bel distribution protocol (LDP) used to distribute labels to all LSRs and LERs, using TCP/IP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PLS allows QoS, security (strict traffic rule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PLS VPNs operate at layer 2 or layer 3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rporate routers don’t need to support MPLS; they connect to LER via IP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PLS is a fiber-only technology, national but not global scope (yet), complex network, “Ethernet-like” op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Multiprotocol Label Switching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0" name="Picture 3" descr="Lec22d"/>
          <p:cNvPicPr/>
          <p:nvPr/>
        </p:nvPicPr>
        <p:blipFill>
          <a:blip r:embed="rId1"/>
          <a:stretch/>
        </p:blipFill>
        <p:spPr>
          <a:xfrm>
            <a:off x="762120" y="1146240"/>
            <a:ext cx="7340400" cy="5559480"/>
          </a:xfrm>
          <a:prstGeom prst="rect">
            <a:avLst/>
          </a:prstGeom>
          <a:ln w="0">
            <a:noFill/>
          </a:ln>
        </p:spPr>
      </p:pic>
      <p:sp>
        <p:nvSpPr>
          <p:cNvPr id="71" name="TextBox 3"/>
          <p:cNvSpPr/>
          <p:nvPr/>
        </p:nvSpPr>
        <p:spPr>
          <a:xfrm>
            <a:off x="847800" y="6324480"/>
            <a:ext cx="219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twork neutrality debate…</a:t>
            </a:r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irtual LAN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PLS is sometimes described as implementing a virtual LAN, or VLAN: set up LANs in softwa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1600200" y="2057400"/>
            <a:ext cx="6300720" cy="4640400"/>
          </a:xfrm>
          <a:prstGeom prst="rect">
            <a:avLst/>
          </a:prstGeom>
          <a:ln w="0">
            <a:noFill/>
          </a:ln>
        </p:spPr>
      </p:pic>
      <p:sp>
        <p:nvSpPr>
          <p:cNvPr id="75" name="TextBox 3"/>
          <p:cNvSpPr/>
          <p:nvPr/>
        </p:nvSpPr>
        <p:spPr>
          <a:xfrm>
            <a:off x="7519680" y="6626160"/>
            <a:ext cx="169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ource: Forouzan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chnology change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xt slide compares X.25 and frame rela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.25 was developed for copper or radio long-haul networks with high error rat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nk-by-link error correction as a message travels across the networ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ssumes ‘dumb’ equipment at the edges, so the X.25 protocol takes full responsibility for delivering messages correc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rame relay (or any other protocol carried on fiber optics such as TCP/IP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lies on low fiber optic error rate. No link-by-link error correction, just a retransmission triggered by end node if message not correctly receiv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720" indent="-2707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wireless long haul net would need roughly the same protocols as X.25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86800" indent="-2257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mart edge devices make it easier than X.25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rame relay vs X.25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79" name="Picture 3" descr="Fig_6"/>
          <p:cNvPicPr/>
          <p:nvPr/>
        </p:nvPicPr>
        <p:blipFill>
          <a:blip r:embed="rId1"/>
          <a:stretch/>
        </p:blipFill>
        <p:spPr>
          <a:xfrm>
            <a:off x="2362320" y="914400"/>
            <a:ext cx="4570200" cy="56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Frame relay/Internet vs. X.25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fference between reliable and unreliable network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ber has error rate of 1 bit in 10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14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; can correct end-to-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reless has error rate of 1 bit in 10</a:t>
            </a:r>
            <a:r>
              <a:rPr b="1" lang="en-US" sz="20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; must correct link-by-lin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ifference between smart and dumb termina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merly, terminals had no CPU and just displayed what the communications line sent to them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uld not detect or correct erro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Cs, servers, smart phones as terminals can correct and detect err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llowing out of the network”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etwork (switches, etc.) used to have all the intellige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w network is just a set of ‘bit pipes’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dge devices have the intellige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Telecom convergence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vergence: Moving all voice, data and video traffic onto Intern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sumer service reasons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mart cards and mobile phones: browsers, phone as payment medium, smart posters, camera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-commerce generall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d of the personal computer (PC) as we know it, for most us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st reduction: one network versus man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vate nets morph into carrier nets with Internet protocol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ased mobility servic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ying wireless access to fiber optic backbone flexibl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53760" indent="-25128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rriers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ow quality, chaos of open Internet to reach custome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urity to reach custome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05840" indent="-200880"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roadband in the ‘last mile’ to reach businesses and hom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lossar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PN: Virtual private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Psec: Secure IP (layer 3 security used in VPNs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2TP: Layer 2 tunneling protocol (VPN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STN: Public switched telephone network, or carrier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PLS: Multiprotocol Label Switching, a WAN technology to connect LANs transpar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R: MPLS Label Edge Route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SR: MPLS Label Switched Router (interior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DP: MPLS Label Distribution Protoco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oS: Quality of servi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teps and skills for building these systems are same as we’ve covered in class this semester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oftware engineering and project manageme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People, process, product, technology dimens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elect development method (often spiral mode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quirements, design, resource estimation, implementation, Q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cess model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UML: describe use cases, states, activities, classes, componen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Used in requirements, scoping, design early; architecture lat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ata model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odel business rules, verify with users (internal, customers, …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Normalization, referential integrit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atabase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Relational databases, SQL at core of applications, Web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atabases read/write XM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Steps, continued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World Wide Web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Connect clients and servers: HTTP, XML, Web servic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Use HTTP, XML as universal data acces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ML allows human, machine and document interpreta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ML documents include business rules, database schema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ecuri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tocols codify rules, principals, risks, …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LS and Kerberos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LS encryption, certificates, digital signatur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eople, process, product, technology dimensions agai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57040" indent="-25704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etwork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ulti tier : Web, application, databas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7 layer data comm model: HTTP (7), TCP/IP (4/3), Ethernet (2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ANs, MANs, WANs: LANs, MANs are Ethernet, WANs va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ber optic core, wireless/copper/CATV for acces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57280" indent="-2142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e private/carrier network, not open Internet in many cas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nterprise network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nections within enterpris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xternal connec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mote offic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mployee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ustome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usiness partners, supply chain partner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atients…and other actors with special requiremen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nciples of enterprise network desig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ndards base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cur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liable: disruptions affect all external connection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ality of service: latency, throughput, services, …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Course summary: proces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f you spent 12 hours per week for 14 weeks, that's 168 hours, or 4 40 hour week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eady for second spiral after 8 person weeks of work (4 person weeks times 2 peop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This can be done in the wasted “up-front” time to prepare for an anticipated projec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It will usually take this long because you'll usually be learning a new domain and/or new technolog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y using the spiral model and being able to do requirements, UML, data models, SQL, Web sites, initial security approach and initial telecom approach, you can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Work  effectively with  IT staff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Manage engineering or logistics projects with IT component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By knowing technical areas covered in class, you can: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ecify, design and build databases, Web sites, etc. as a consultan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uilding blocks of enterprise network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cal area network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de- or metro-area networks: include 1 or more of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vate lines (point to point circui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rrier Ethernet” MAN over carrier fiber in metro areas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irtual private net (VPN) over Interne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vate or carrier-provided networks separate from Interne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rame relay (pre-Internet, still used but being superseded)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abel switched (MPLS), over carrier IP network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925560" indent="-185040">
              <a:spcBef>
                <a:spcPts val="400"/>
              </a:spcBef>
              <a:buClr>
                <a:srgbClr val="00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Covered later in this lectur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oice network: includes one or more of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tegrated with data networ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vate lines shared between data and voi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oice carried over IP or MPLS network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77560" indent="-27756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deo networ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01560" indent="-23148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sually carried as service over data networ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irtual private networks (VPN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55" name="Picture 4" descr="Lec22a"/>
          <p:cNvPicPr/>
          <p:nvPr/>
        </p:nvPicPr>
        <p:blipFill>
          <a:blip r:embed="rId1"/>
          <a:stretch/>
        </p:blipFill>
        <p:spPr>
          <a:xfrm>
            <a:off x="1752480" y="1371600"/>
            <a:ext cx="557532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irtual private networks (VPNs)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finition: VPN is set of sites that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municate over the open Internet but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the security and management capabilities of dedicated circuit or frame relay networ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rting applications without modific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simple management for admins and use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d with low overhead and good communications perform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ypically handle data only but can handle voice, video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PN basic func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uthentication (identity), authorization (privilege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tablishment of secure tunnel (path) in network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PN technolog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P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unnel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encapsulates data of one protocol inside the data field of another protoco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PN encrypts corporate data inside IP packet data field (which is managed by TCP, which is called by HTTP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TTP and TCP data is inside the IP packet and is encrypte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corporate data is encrypted via the VPN’s security protocol (symmetric, asymmetric keys, message diges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SL is frequently used; Kerberos-like options also availabl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PNs operate at layer 2 (Ethernet) or layer 3 (IP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yer 3: Routers use IP information to rout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st common: Easier to manage, but lower performan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yer 2: uses Ethernet addresses; corporation responsible for routing packets across WAN and LA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arder to manage, but better performan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46960" indent="-24696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VPNs operate over DSL, cable, etc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e network topology (all links to/thru central point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ed redundancy, resilienc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PN tunnel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ternet carries packet between routers R1 and R2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cket is encrypted, and intruder only sees R1 and R2 IP address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1680" indent="-3016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ctual IP addresses (100 and 200) cannot be seen, nor the packet cont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371600" y="1371600"/>
            <a:ext cx="664380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VPN terminology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tran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rtion of VPN connecting internal sit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ran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rtion of VPN connecting external sit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urity protoco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cure Sockets Layer (SS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Psec (secure IP standard) at layer 3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n encrypt entire packet (tunnel mode) or just the data field (transport mode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ll devices must share a common (public) key, in digital certificat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ices negotiate secure tunnel using Internet Key Exchange (IKE) protocol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yer 2 tunneling protocol (L2TP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280" indent="-1940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quires pre-arranged paths between devices or to/from secure serv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Enterprise routing: IP and other protocols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6" name="Picture 3" descr="Lec22c"/>
          <p:cNvPicPr/>
          <p:nvPr/>
        </p:nvPicPr>
        <p:blipFill>
          <a:blip r:embed="rId1"/>
          <a:stretch/>
        </p:blipFill>
        <p:spPr>
          <a:xfrm>
            <a:off x="763560" y="1219320"/>
            <a:ext cx="7542360" cy="54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19T18:28:28Z</dcterms:created>
  <dc:creator>George Kocur</dc:creator>
  <dc:description/>
  <dc:language>en-US</dc:language>
  <cp:lastModifiedBy>gkocur</cp:lastModifiedBy>
  <cp:lastPrinted>1999-11-21T00:54:03Z</cp:lastPrinted>
  <dcterms:modified xsi:type="dcterms:W3CDTF">2013-12-04T13:25:32Z</dcterms:modified>
  <cp:revision>231</cp:revision>
  <dc:subject/>
  <dc:title>1.264 Lecture 5</dc:title>
</cp:coreProperties>
</file>