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6.wmf" ContentType="image/x-wmf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EEBE58-EDB3-46C3-B98D-6EFCDD34FF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21C56A-5AEA-4F7D-8F51-A7EDECFFAA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A483AD-7D9B-4D50-A552-F20A4B0DD8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CF358-0B88-4C1E-B349-080DABA25DA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EBD02A-5FA1-4968-A994-8B1DE463D5D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3C099-BCE0-4D38-ABA4-12F35AA7021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69A311-86FD-4FBF-9121-32A1C63354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86790-2E87-46D9-AC3D-F98FEE5A4F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2F11F-D2F2-4097-B429-44E71D9573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4C506-7FF5-4ACC-91EF-7D51F413457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761CA8-0CD0-4056-ADFA-D60EFD5C54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FCF508-88A4-432B-BF7D-B4966EDDF0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8E4317-B9A3-4C43-9E38-C96ECAB47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D87476-2B3A-42B2-A126-063A3865081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FB576-7A0C-41DF-8562-C357BDAE6F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73A63-E788-4E83-BF57-F96281DD332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2E669E-623F-42F7-A8BE-7E3988CB8F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D295C6-99F9-4350-BB77-52BC8CA77C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B2738-0BE9-483C-AE70-C1F1EF2A0C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6730-B589-40C2-A426-BCA547CDD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F29D-183D-40EA-917F-52745F9D9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9F7A-5866-434F-8765-EAE0D5E64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91AB-74F2-4EE9-B234-061FC5072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ECCB-D820-4B3D-BC71-E8CFAA391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A7B6-76D8-4FAC-9F43-AFF43DF3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E49D-4F51-42ED-B52C-9B876A60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F509A-6C41-4838-9829-AED36DC14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7AA4-D12C-4605-B274-A95A4217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D55B7-09AB-4E8A-885D-192C9ED0F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8042-DFD2-466B-8BA7-68314142D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0A2-17D6-46BD-947A-D96E01544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BDB2-E839-4C72-A77A-0D236185BA5C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6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less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898000" y="5719680"/>
            <a:ext cx="31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lease do subject evaluation onlin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service set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2952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oom or area is a typical BSS (basic service set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ESS is a set of rooms and areas in the LA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ions capabilities may b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tionary on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within a single BSS (ad hoc or infrastructur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move between BSS, but communication may not be continuous during the mo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048280" cy="2532240"/>
          </a:xfrm>
          <a:prstGeom prst="rect">
            <a:avLst/>
          </a:prstGeom>
          <a:ln w="0">
            <a:noFill/>
          </a:ln>
        </p:spPr>
      </p:pic>
      <p:sp>
        <p:nvSpPr>
          <p:cNvPr id="84" name="TextBox 6"/>
          <p:cNvSpPr/>
          <p:nvPr/>
        </p:nvSpPr>
        <p:spPr>
          <a:xfrm>
            <a:off x="7662240" y="6473880"/>
            <a:ext cx="147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From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Fi (802.11b, 802.11g, 802.11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pensive, pervasive, reliable, easy to man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t spots common, but unscalable for metro area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~100 meters: ok within buildings, campu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: 11 Mbps (b), 54 Mbps (g), 100 Mbps (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bandwidth often half of nominal due to interference, fading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lf of traffic at many companies is non-work (music or video streaming, Web access, personal email, 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is difficult, because signals propagate beyond the building or s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P easy to break; use WPA and WPA2 instea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n’t use WPS (WiFi protected setup); it has a security flaw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nicipal network plans problematic (30+ points/sq m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 warehouse, what type of LAN would you set up (ad hoc, BSS, ESS), and why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forklifts and other vehicles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there are pick/pack stations, conveyor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uld you try to lay out the network to minimize handoffs, or is that not important? Why or why not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802.11b, how would you stream video from 25 forklifts/vehicles in the warehous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your video is 1.5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an ESS, to allow handoffs and to connect all devices/stations to the WAN if need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y out the network to cover aisles/areas that minimize handoff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ions is not continuous in wireless LAN handoff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deo: 802.11b is 11 Mbps, or 5.5 Mbps practical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need 25 * 1.5 Mbps, or 37.5 Mbps, or at least 8 BSS, which is one AP for every 3 vehicles in an area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interference, fading, etc. you may need m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you use 802.11n, at 100 Mbps nominal or 50 Mbps actual, you may find 2 APs sufficient (1 for redundancy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bile telephony is dominant. Alternatives ar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mobile radio (SMR), used primarily for local dispat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3,000 licensed SMR providers in US (taxi, trucking.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bought many SMR providers and created national network: radio, cell phone, data, messag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xtel uses variation on GSM cellular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mobile radio service (police, fire, railroads…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 frequencies among all us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se stations, repeaters; squelch or tone contr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unking radio (multiple channels) used by larger organiz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control channel to which all units liste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375920" indent="-1965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alk channel then designated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options use spectrum less well than cell phon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eing pushed to narrowband; other meas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obile (cellular)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ell phone is a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fore cell phones, there was mobile radio, with one tower per metro area and about 25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 phones had to be high powered but for little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telephony divides a metro area into cells for much, much more capac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32 channels in standard US cellular radio spectrum band; European GSM varies but simi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 to 5 more bands have been allocated via auction in U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one can operate on any of these 1,000+ chann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ellular switches are called Mobile Telephone Switching Offices, or MTSO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unctions same as standard telco voice switch, plus handoff across cells, for voice cal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TCP/IP data for data and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SM (2G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is European standard, adopted worldwide and increasingly in U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a 2G (second generation) standard, being superseded by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switches voice calls, like landlines, and is being replaced by voice over 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voice band is 13 kbps (versus 64 kbps fib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ndard GSM has 124 chann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channel is 270.8 kbps carried in 200 kHz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 users per chann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SM can (re)use 1/3 of channels in each cell, due to good error corr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pacity =~ 124 channels * 8 users/channel * 1/3 reuse= 329 calls (users) per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 data is carried over GPRS (General Packet Radio Services), often considered 2.5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3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orldwide standard, though frequency bands vary by reg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aming phones must use different frequency ba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a few common frequency bands worldwi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igned for many servic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l-time gam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download and uplo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and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 data protocols are WCDMA, HSP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ad use, continue to evolve new fe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ll be supported for many years until full 4G u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500 kbps to 1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4G wirel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is also called LTE (long term evolution) and release 8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 (in GSM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backward compatible with 3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rely IP based; no voice switched traffi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s spectrum flexibility for worldwide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offs at 350 km/hr to support high speed r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ny individual phone supports limited spectrum, since RF and filter design are expensive/inflexi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rates of up to 20 Mbps typ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arcity of bandwidth resulting in throttling of u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 (50% of US) 1x-EV-DO Rev C is very similar to LTE, and is converging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ndard is 3GPP2 (in CDMA lineag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equency reuse in cellular telephon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Picture 3" descr=""/>
          <p:cNvPicPr/>
          <p:nvPr/>
        </p:nvPicPr>
        <p:blipFill>
          <a:blip r:embed="rId1"/>
          <a:stretch/>
        </p:blipFill>
        <p:spPr>
          <a:xfrm>
            <a:off x="938160" y="1460520"/>
            <a:ext cx="7139160" cy="4559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1"/>
          <p:cNvSpPr/>
          <p:nvPr/>
        </p:nvSpPr>
        <p:spPr>
          <a:xfrm>
            <a:off x="1094040" y="6019920"/>
            <a:ext cx="68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7-cell pattern; 9-cell is also common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 a system for an intercity rail passenger train to provide Internet access to its passengers and operating crew. Address each challeng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etro areas: frequent physical obstructions, such as underpasses, tall build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unne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ural areas: gaps in cellular coverage, trees, hills obstruct line of s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applications: what to do when a user wants to download a 200MB fi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changes: train goes through many networks of varying quality at varying spee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ption in passenger cars: metal car bodies affect signa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ellular serving p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" name="Picture 4" descr="Lec21e"/>
          <p:cNvPicPr/>
          <p:nvPr/>
        </p:nvPicPr>
        <p:blipFill>
          <a:blip r:embed="rId1"/>
          <a:stretch/>
        </p:blipFill>
        <p:spPr>
          <a:xfrm>
            <a:off x="1836720" y="990720"/>
            <a:ext cx="5630760" cy="54864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006200" y="6521400"/>
            <a:ext cx="758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imple honeycomb pattern rarely holds. Actual cell coverage highly varia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ume LTE can provide 20 Mbps to areas with industry/warehousing t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a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location serv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100 locations in the cel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 each has 10 Web users (1 Mbps), 1 Web/data server (5 Mbps), limited videoconference/video (4 Mb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tal bandwidth for each location is 10 Mbps (1+5+4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re LTE t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, a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(30-300 Mbps, asymmetric bu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over all 100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(1 Gbps, symmetric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LTE solve the ‘last mile’ problem sometim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average user needs 10 Mb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SL (1.5-13 Mbps) may meet it in some cases, but usually not. DSL usually 3-6 Mbp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TV has 30-300 Mbps, but 100 users *10 Mbps= 1 Gbps. CATV would need many segments; not effective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1 over copper (1.5 Mbps) is not enoug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gabit Ethernet MAN is plenty, of cour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(20 Mbps) is sufficient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andwidth is available. In lower and medium density areas, it should be ok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cell can handle 100+ channels at 20 M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TE appears to solve the ‘last mile’ problem for residences (low/medium density) and low/medium density small business, but not major bandwidth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ng-range wireless: satellite commun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801684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s (wireless WA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O satellites are on the equator and orbit every 24 hours, appearing station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 satellites 120 degrees apart can cover the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 orbits are between the two Van Allen belts of charged particles that would destroy a satelli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satellites orbit every 6 to 8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is a set of 24 MEO satellites in 6 orbits, designed so 4 satellites are always visible from any point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PS triangulates among the 4 satellites to determine position in 3D; it computes intersection of sphe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O satellites are in polar orbi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orbit every 90 to 120 minu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managed like a set of cells on Ear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ttle” LEOs: text messaging (e.g. trucking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” LEOs: Iridium, Globalstar (e.g. sat phon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05080" indent="-194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s: network video, other broadba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marsat for marine and remote applica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0,000 ships, vehicles, aircraf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32 kbps Internet access data rate, 11 satell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se service ended in 2005 for commercial vess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ery small aperture terminal (VSAT): 56 kbps- 4 Mbps for remote areas. 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areas can get 18 Mbps down, 4 M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data rates 512 kbps or less down, 128 kbps u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Internet providers’ for rural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AT operators for Africa, other areas without fi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V programming distribu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rect broadcast TV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O, LEO satellite applica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761760" y="12952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adband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desic, similar to fiber,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g LEO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ridium not successful but still operat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o expensive to compete with terrestrial cell serv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6 satellites, each with 48 spot beams: ~2000 cel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, fax, paging at 2.4 to 4.8 kbp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star has 48 satellites, similar service as Iridiu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ttle L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ucking and rail information systems, pag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O: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positioning system (GP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lin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0" name="Picture 4" descr="Lec21d"/>
          <p:cNvPicPr/>
          <p:nvPr/>
        </p:nvPicPr>
        <p:blipFill>
          <a:blip r:embed="rId1"/>
          <a:stretch/>
        </p:blipFill>
        <p:spPr>
          <a:xfrm>
            <a:off x="1254240" y="1981080"/>
            <a:ext cx="6634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atellite data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ay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50 milliseconds (1/4 second) delay between two Earth stations communicating via geosynchronous (GEO) satelli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noticeable for voice communic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lay requires special treatment of dat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CP/IP will assume network congestion or dropped packets with these delays; must use special parameters or equipment to spoof acknowledgeme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in absorp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n transit outage at equinox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wer is limited on satelli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mited signal to noise ratio, limits bandwidt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rect Broadcast Satellite (DBS) satellites are overpowered to allow small consumer antennas; overall system costs are high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ittle room left for satellites in equatorial (GEO) orbi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operate a diamond mine in northern Canada and need 20 Mbps to remotely monitor and diagnose mining equipment, provide Internet and some video for employees, handle email and files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 GEO, big LEO, little LEO, broadband LEO, MEO to meet your nee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re would the other end of the satellite link connect? Does it matter? Options are your corporate HQ, a large peering point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 flipV="1">
            <a:off x="990720" y="3962160"/>
            <a:ext cx="7772400" cy="685800"/>
          </a:xfrm>
          <a:prstGeom prst="line">
            <a:avLst/>
          </a:prstGeom>
          <a:ln w="57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886200" y="510552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il 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914400" y="3809880"/>
            <a:ext cx="114300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6019920" y="3886200"/>
            <a:ext cx="99036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unn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2362320" y="3124080"/>
            <a:ext cx="304560" cy="1295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2819520" y="4191120"/>
            <a:ext cx="304560" cy="114300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2956320" y="31640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ilding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4191120" y="4267080"/>
            <a:ext cx="990360" cy="152640"/>
          </a:xfrm>
          <a:prstGeom prst="rect">
            <a:avLst/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889440" y="3809880"/>
            <a:ext cx="175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pa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Line 14"/>
          <p:cNvSpPr/>
          <p:nvPr/>
        </p:nvSpPr>
        <p:spPr>
          <a:xfrm flipH="1" flipV="1">
            <a:off x="3886200" y="4495320"/>
            <a:ext cx="4572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7529400" y="2782800"/>
            <a:ext cx="104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ural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re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7315560" y="43070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lls, tre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 need 20 Mbps up and down in northern Canada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O offers max 18 Mbps down and 4 Mbps up, and not in all areas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lar areas are strange: beams are turned off from lack of demand but could possibly be turned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need 5 connections, which would be expensive…but a diamond mine can probably pay i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 LEO and Little LEO are low bandwid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O does not offer data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adband LEO (Teledesic) fail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ly connect near corporate HQ to use MAN from ground station to HQ for cost, bandwidth, security reas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838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SS: Basic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S: Extended service set (WiFi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P: Wired Equivalent Privacy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PA: WiFi Protected Access (WiFi security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R: Specialized Mobile Radi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DMA: Code Division Multiple Access (US wireles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SM: Global System for Mobile Communications (wireless voice standard, worldwid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PRS: General Packet Radio Service, over GS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CDMA: Wideband Code Division Multiple Access (3G data standar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SPA: High Speed Packet Access (3G dat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GPP: 3G Partnership Project (sets 3G/4G std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x EV-DO: Evolution-Data Optimized (3G CDMA std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carri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hooses best signal, maintains continu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WiFi (wireless LAN) at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unnels (short ones)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on train caches Web content, handles email via store and forwa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ng tunnels require leaky fiber and/or base sta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ral area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ellular data  carriers, and satellite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in trai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tennas mounted on multiple cars, wireless LAN between cars so any antenna can serve all ca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, applicati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train server manages traffic, ensures ‘fairness’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handles authentication and billin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(How do long distance trucking, buses do this?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RailWirelessLec22"/>
          <p:cNvPicPr/>
          <p:nvPr/>
        </p:nvPicPr>
        <p:blipFill>
          <a:blip r:embed="rId1"/>
          <a:stretch/>
        </p:blipFill>
        <p:spPr>
          <a:xfrm>
            <a:off x="380880" y="1066680"/>
            <a:ext cx="8382240" cy="55404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6603120" y="6581880"/>
            <a:ext cx="223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ww.pointshotwireless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example: Amtrak wireless coverag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1905120" y="990720"/>
            <a:ext cx="5072040" cy="5581440"/>
          </a:xfrm>
          <a:prstGeom prst="rect">
            <a:avLst/>
          </a:prstGeom>
          <a:ln w="0">
            <a:noFill/>
          </a:ln>
        </p:spPr>
      </p:pic>
      <p:sp>
        <p:nvSpPr>
          <p:cNvPr id="73" name="TextBox 1"/>
          <p:cNvSpPr/>
          <p:nvPr/>
        </p:nvSpPr>
        <p:spPr>
          <a:xfrm>
            <a:off x="7294320" y="6400800"/>
            <a:ext cx="168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urce: Amtra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propaga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se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pace lo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mospheric attenuation: rain, water, dus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ath loss: water body or fog causes reflections, and signals arrive out of phase at destin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raction: hills, buildings, obstru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tenna proble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now, icing (use heaters, radom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oning restrictions (hide antennas in building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wave frequencies are line of sigh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have like light, can be focused and refl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issues hold for mobile phones, wireless data, satellites also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adio lo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7" name="Picture 4" descr="Lec21b"/>
          <p:cNvPicPr/>
          <p:nvPr/>
        </p:nvPicPr>
        <p:blipFill>
          <a:blip r:embed="rId1"/>
          <a:stretch/>
        </p:blipFill>
        <p:spPr>
          <a:xfrm>
            <a:off x="2286000" y="990720"/>
            <a:ext cx="4479840" cy="21780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Lec21c"/>
          <p:cNvPicPr/>
          <p:nvPr/>
        </p:nvPicPr>
        <p:blipFill>
          <a:blip r:embed="rId2"/>
          <a:stretch/>
        </p:blipFill>
        <p:spPr>
          <a:xfrm>
            <a:off x="1905120" y="3352680"/>
            <a:ext cx="5329080" cy="33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LA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LAN (WiFi) standard is IEEE 802.11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types of wireless LA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d ho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here stations (computers) directly connec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with an access point (AP) that connects to a wired LAN and usually a MAN/WA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ed coordination required between stations due to collis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sense multiple access/collision avoidance (CSMA/CA) protocol is used, as discussed earl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environment is very nois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ames are fragmented into small frames so retransmission, which is frequent, is more effici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6T00:37:43Z</cp:lastPrinted>
  <dcterms:modified xsi:type="dcterms:W3CDTF">2013-12-07T14:39:08Z</dcterms:modified>
  <cp:revision>257</cp:revision>
  <dc:subject/>
  <dc:title>1.264 Lecture 5</dc:title>
</cp:coreProperties>
</file>