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5C0B-F338-470F-9EB1-C040AB8E46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5AA2E-6AA7-4E95-86E4-93084B046A4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A061-E8A5-4B04-838A-8B6FE8D6D75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7BFA-C9C4-401D-ADB1-769BE93E61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3AA07-8B58-4ED7-A342-02E9B344431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AA69-4DB2-4715-A1EC-C505490EFE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81E8F-D7EC-4691-9E54-DED7600604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2778-598B-4C38-BDFB-4AAE486B37A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8450B-A521-491C-9D3E-631ED82089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66D06-A371-4174-9A1A-A7765ED557E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8BA5-694F-44AB-893A-4D416D504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CB85-0F84-473E-A745-068F17CD71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CCC2D-2E73-4563-B490-77742CF7BF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C826D-3C02-4A22-B445-B16CD04725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BB1A9-4A65-4631-9821-06622A802E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FA9A9-E94E-4166-92AA-7871F282F45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8E99-FCDF-4DFF-884E-207BDF722EC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EE66-374D-478C-A6D6-F1E9F3E40E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B23AD-672D-465E-B447-8256DF821F0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C641-A607-4A10-844D-9F563728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43B5-0930-49A2-A980-DE96FF2A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A168F-ECB0-4DCE-AE28-D235273C5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DC757-CC4A-4BF2-956D-F354EE1F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DCA0-882A-4DE7-9825-AB9FC0973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8F35-2B23-4F77-9EF7-1616F8165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98EB-0E6D-426B-94AD-A788A5E9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9710-8A53-4966-A789-34812EC5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CCB3-44BA-4B8B-99AF-DE9C5F25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3951-95B2-4E38-AD33-26224E92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62B9-590E-469D-A62F-9E68E58D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90FE-94E2-4714-B8D7-EB13408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B42F7-6B70-43CA-AB71-12F42F592E3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 archite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360" y="5719680"/>
            <a:ext cx="4816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ease start Visual Paradigm-we’ll use it in class toda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No zip file to download-it’s onlin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60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based on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19840" cy="477360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567360" y="6019920"/>
            <a:ext cx="829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apper” legacy code: almost all allow Web services to be add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a few Web services needed per legacy app to interface to 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ass diagram for application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214720" y="1600200"/>
            <a:ext cx="502416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1091160" y="5715000"/>
            <a:ext cx="7304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ilar classes for car rental, itinerary check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these methods in C#, similar to those on .aspx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 server and its tools handle db, xhtml, xml input/outpu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65880" y="2057400"/>
            <a:ext cx="2020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ributes fr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0" name="Straight Arrow Connector 7"/>
          <p:cNvCxnSpPr/>
          <p:nvPr/>
        </p:nvCxnSpPr>
        <p:spPr>
          <a:xfrm flipV="1">
            <a:off x="1904760" y="2285280"/>
            <a:ext cx="1905480" cy="2293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1" name="Straight Arrow Connector 9"/>
          <p:cNvCxnSpPr/>
          <p:nvPr/>
        </p:nvCxnSpPr>
        <p:spPr>
          <a:xfrm>
            <a:off x="1295280" y="2819160"/>
            <a:ext cx="1067760" cy="10674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2" name="Straight Arrow Connector 10"/>
          <p:cNvCxnSpPr/>
          <p:nvPr/>
        </p:nvCxnSpPr>
        <p:spPr>
          <a:xfrm>
            <a:off x="1523880" y="2819520"/>
            <a:ext cx="3734640" cy="8388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" name="TextBox 12"/>
          <p:cNvSpPr/>
          <p:nvPr/>
        </p:nvSpPr>
        <p:spPr>
          <a:xfrm>
            <a:off x="-11520" y="4495680"/>
            <a:ext cx="228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hods/func p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om UML/req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04" name="Straight Arrow Connector 13"/>
          <p:cNvCxnSpPr/>
          <p:nvPr/>
        </p:nvCxnSpPr>
        <p:spPr>
          <a:xfrm flipV="1">
            <a:off x="1904760" y="2819160"/>
            <a:ext cx="2362680" cy="17532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5" name="Straight Arrow Connector 15"/>
          <p:cNvCxnSpPr/>
          <p:nvPr/>
        </p:nvCxnSpPr>
        <p:spPr>
          <a:xfrm>
            <a:off x="2057040" y="4876560"/>
            <a:ext cx="610200" cy="15300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6" name="Straight Arrow Connector 19"/>
          <p:cNvCxnSpPr/>
          <p:nvPr/>
        </p:nvCxnSpPr>
        <p:spPr>
          <a:xfrm>
            <a:off x="2133360" y="4800600"/>
            <a:ext cx="3429720" cy="7668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cxnSp>
        <p:nvCxnSpPr>
          <p:cNvPr id="107" name="Straight Arrow Connector 7"/>
          <p:cNvCxnSpPr/>
          <p:nvPr/>
        </p:nvCxnSpPr>
        <p:spPr>
          <a:xfrm flipH="1">
            <a:off x="5714640" y="1904040"/>
            <a:ext cx="1829520" cy="1143720"/>
          </a:xfrm>
          <a:prstGeom prst="straightConnector1">
            <a:avLst/>
          </a:prstGeom>
          <a:ln w="2844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8" name="TextBox 5"/>
          <p:cNvSpPr/>
          <p:nvPr/>
        </p:nvSpPr>
        <p:spPr>
          <a:xfrm>
            <a:off x="7193880" y="1523880"/>
            <a:ext cx="2017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-to-m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ationship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greg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compone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twork interface architecture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include the hardware and the software that runs on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rchitecture components at server en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380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380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80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1295280" y="403848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7"/>
          <p:cNvSpPr/>
          <p:nvPr/>
        </p:nvSpPr>
        <p:spPr>
          <a:xfrm>
            <a:off x="2971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464832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6400800" y="403848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137160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3048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4724280" y="48769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477120" y="48769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17"/>
          <p:cNvSpPr/>
          <p:nvPr/>
        </p:nvSpPr>
        <p:spPr>
          <a:xfrm>
            <a:off x="7543800" y="5791320"/>
            <a:ext cx="1219320" cy="761760"/>
          </a:xfrm>
          <a:prstGeom prst="can">
            <a:avLst>
              <a:gd name="adj" fmla="val 25000"/>
            </a:avLst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r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a n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Rectangle 18"/>
          <p:cNvSpPr/>
          <p:nvPr/>
        </p:nvSpPr>
        <p:spPr>
          <a:xfrm>
            <a:off x="4952880" y="182880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Rectangle 19"/>
          <p:cNvSpPr/>
          <p:nvPr/>
        </p:nvSpPr>
        <p:spPr>
          <a:xfrm>
            <a:off x="4952880" y="24382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20"/>
          <p:cNvSpPr/>
          <p:nvPr/>
        </p:nvSpPr>
        <p:spPr>
          <a:xfrm>
            <a:off x="4952880" y="3124080"/>
            <a:ext cx="342900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Line 21"/>
          <p:cNvSpPr/>
          <p:nvPr/>
        </p:nvSpPr>
        <p:spPr>
          <a:xfrm>
            <a:off x="2133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22"/>
          <p:cNvSpPr/>
          <p:nvPr/>
        </p:nvSpPr>
        <p:spPr>
          <a:xfrm>
            <a:off x="213372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Line 23"/>
          <p:cNvSpPr/>
          <p:nvPr/>
        </p:nvSpPr>
        <p:spPr>
          <a:xfrm>
            <a:off x="6705720" y="2286000"/>
            <a:ext cx="0" cy="1522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Line 24"/>
          <p:cNvSpPr/>
          <p:nvPr/>
        </p:nvSpPr>
        <p:spPr>
          <a:xfrm flipH="1">
            <a:off x="3809520" y="2209680"/>
            <a:ext cx="114300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Line 25"/>
          <p:cNvSpPr/>
          <p:nvPr/>
        </p:nvSpPr>
        <p:spPr>
          <a:xfrm>
            <a:off x="3809880" y="2057400"/>
            <a:ext cx="1143000" cy="6094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Line 26"/>
          <p:cNvSpPr/>
          <p:nvPr/>
        </p:nvSpPr>
        <p:spPr>
          <a:xfrm>
            <a:off x="6781680" y="28954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Line 27"/>
          <p:cNvSpPr/>
          <p:nvPr/>
        </p:nvSpPr>
        <p:spPr>
          <a:xfrm>
            <a:off x="380988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28"/>
          <p:cNvSpPr/>
          <p:nvPr/>
        </p:nvSpPr>
        <p:spPr>
          <a:xfrm flipH="1">
            <a:off x="3809520" y="2819520"/>
            <a:ext cx="1143000" cy="5331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29"/>
          <p:cNvSpPr/>
          <p:nvPr/>
        </p:nvSpPr>
        <p:spPr>
          <a:xfrm>
            <a:off x="190512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30"/>
          <p:cNvSpPr/>
          <p:nvPr/>
        </p:nvSpPr>
        <p:spPr>
          <a:xfrm>
            <a:off x="1905120" y="380988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Line 33"/>
          <p:cNvSpPr/>
          <p:nvPr/>
        </p:nvSpPr>
        <p:spPr>
          <a:xfrm>
            <a:off x="7315200" y="358128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37"/>
          <p:cNvSpPr/>
          <p:nvPr/>
        </p:nvSpPr>
        <p:spPr>
          <a:xfrm>
            <a:off x="190512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Line 41"/>
          <p:cNvSpPr/>
          <p:nvPr/>
        </p:nvSpPr>
        <p:spPr>
          <a:xfrm>
            <a:off x="38098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45"/>
          <p:cNvSpPr/>
          <p:nvPr/>
        </p:nvSpPr>
        <p:spPr>
          <a:xfrm>
            <a:off x="541008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49"/>
          <p:cNvSpPr/>
          <p:nvPr/>
        </p:nvSpPr>
        <p:spPr>
          <a:xfrm>
            <a:off x="7315200" y="4495680"/>
            <a:ext cx="0" cy="38124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53"/>
          <p:cNvSpPr/>
          <p:nvPr/>
        </p:nvSpPr>
        <p:spPr>
          <a:xfrm>
            <a:off x="190512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Line 57"/>
          <p:cNvSpPr/>
          <p:nvPr/>
        </p:nvSpPr>
        <p:spPr>
          <a:xfrm>
            <a:off x="38098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Line 61"/>
          <p:cNvSpPr/>
          <p:nvPr/>
        </p:nvSpPr>
        <p:spPr>
          <a:xfrm>
            <a:off x="5410080" y="5334120"/>
            <a:ext cx="0" cy="4572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Line 65"/>
          <p:cNvSpPr/>
          <p:nvPr/>
        </p:nvSpPr>
        <p:spPr>
          <a:xfrm>
            <a:off x="7315200" y="53341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69"/>
          <p:cNvSpPr/>
          <p:nvPr/>
        </p:nvSpPr>
        <p:spPr>
          <a:xfrm rot="16215000">
            <a:off x="-228240" y="441900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70"/>
          <p:cNvSpPr/>
          <p:nvPr/>
        </p:nvSpPr>
        <p:spPr>
          <a:xfrm rot="16215000">
            <a:off x="7848360" y="434304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Oval 71"/>
          <p:cNvSpPr/>
          <p:nvPr/>
        </p:nvSpPr>
        <p:spPr>
          <a:xfrm>
            <a:off x="2971800" y="1066680"/>
            <a:ext cx="2895480" cy="53352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Line 72"/>
          <p:cNvSpPr/>
          <p:nvPr/>
        </p:nvSpPr>
        <p:spPr>
          <a:xfrm flipH="1">
            <a:off x="2209680" y="1447920"/>
            <a:ext cx="91440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Line 73"/>
          <p:cNvSpPr/>
          <p:nvPr/>
        </p:nvSpPr>
        <p:spPr>
          <a:xfrm>
            <a:off x="5638680" y="1447920"/>
            <a:ext cx="106704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Line 75"/>
          <p:cNvSpPr/>
          <p:nvPr/>
        </p:nvSpPr>
        <p:spPr>
          <a:xfrm>
            <a:off x="3809880" y="205740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Line 76"/>
          <p:cNvSpPr/>
          <p:nvPr/>
        </p:nvSpPr>
        <p:spPr>
          <a:xfrm>
            <a:off x="3809880" y="26668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Line 77"/>
          <p:cNvSpPr/>
          <p:nvPr/>
        </p:nvSpPr>
        <p:spPr>
          <a:xfrm>
            <a:off x="3809880" y="3352680"/>
            <a:ext cx="1143000" cy="0"/>
          </a:xfrm>
          <a:prstGeom prst="line">
            <a:avLst/>
          </a:prstGeom>
          <a:ln w="284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Line 78"/>
          <p:cNvSpPr/>
          <p:nvPr/>
        </p:nvSpPr>
        <p:spPr>
          <a:xfrm>
            <a:off x="38098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79"/>
          <p:cNvSpPr/>
          <p:nvPr/>
        </p:nvSpPr>
        <p:spPr>
          <a:xfrm>
            <a:off x="5410080" y="380988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80"/>
          <p:cNvSpPr/>
          <p:nvPr/>
        </p:nvSpPr>
        <p:spPr>
          <a:xfrm>
            <a:off x="1905120" y="4667400"/>
            <a:ext cx="54100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81"/>
          <p:cNvSpPr/>
          <p:nvPr/>
        </p:nvSpPr>
        <p:spPr>
          <a:xfrm>
            <a:off x="1905120" y="5562720"/>
            <a:ext cx="63244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2"/>
          <p:cNvSpPr/>
          <p:nvPr/>
        </p:nvSpPr>
        <p:spPr>
          <a:xfrm>
            <a:off x="8229600" y="5562720"/>
            <a:ext cx="0" cy="38088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84"/>
          <p:cNvSpPr/>
          <p:nvPr/>
        </p:nvSpPr>
        <p:spPr>
          <a:xfrm>
            <a:off x="137160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85"/>
          <p:cNvSpPr/>
          <p:nvPr/>
        </p:nvSpPr>
        <p:spPr>
          <a:xfrm>
            <a:off x="3048120" y="5791320"/>
            <a:ext cx="152388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Rectangle 86"/>
          <p:cNvSpPr/>
          <p:nvPr/>
        </p:nvSpPr>
        <p:spPr>
          <a:xfrm>
            <a:off x="4724280" y="5791320"/>
            <a:ext cx="152424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Rectangle 89"/>
          <p:cNvSpPr/>
          <p:nvPr/>
        </p:nvSpPr>
        <p:spPr>
          <a:xfrm>
            <a:off x="6400800" y="5791320"/>
            <a:ext cx="990720" cy="457200"/>
          </a:xfrm>
          <a:prstGeom prst="rect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u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90"/>
          <p:cNvSpPr/>
          <p:nvPr/>
        </p:nvSpPr>
        <p:spPr>
          <a:xfrm>
            <a:off x="7422120" y="6496200"/>
            <a:ext cx="156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000s of disk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Line 91"/>
          <p:cNvSpPr/>
          <p:nvPr/>
        </p:nvSpPr>
        <p:spPr>
          <a:xfrm>
            <a:off x="6858000" y="556272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5" descr="SystemArchitecture"/>
          <p:cNvPicPr/>
          <p:nvPr/>
        </p:nvPicPr>
        <p:blipFill>
          <a:blip r:embed="rId1"/>
          <a:stretch/>
        </p:blipFill>
        <p:spPr>
          <a:xfrm>
            <a:off x="1808280" y="1143000"/>
            <a:ext cx="5659200" cy="54864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6400800" y="1143000"/>
            <a:ext cx="1066680" cy="1219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685800" y="1522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imple example of system hardware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outer, firewall, load balanc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uter routes IP (TCP/IP and UDP/IP)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table: send packet to local machine or to another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ewall examines all pack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s IP address, po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racts contents from all Internet protocols if suspicio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ad balancer sends HTTP packets to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lances based on HTTP header: client IP, cooki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inexpensive servers function as single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new servers, sites without interruption to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er, app server, database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(HTTP)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ndles HTTP requests and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ads and writes XML and XHT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nk of it as a pre-written main program with many pre-written components for common tas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Web pages/XML, read/write from db easi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igned from UML use cases, sequence diagrams: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der entry, receiving, shipping, payment, engineering,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istent storage of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ring of data across applications and organiz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ository of business rules, within database and to guide XML document exchan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ganization of all system components (hardware, software, network) is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ystem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early in system development or configuration proj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 users, applications, system software, networks, hardwa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Web/app/db servers, networks, backup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ations are complex and chang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formation is usually wrong on which estimates are ba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is needed because you need a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dge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or a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emember the estimate convergence curv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re is much uncertainty in the final system hardware and software. We are only in spiral 1 sti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 make a baseline (point) estimate, you have a lot of error and about a 50% chance of being too 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you’ve done everything else right but your system is slow because of inadequate hardware or telecom, it will be very frustr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customer can’t tell why your system is slow. It may be bad database, bad/inefficient software implementation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one of the few problems that you can throw money at to solv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stem architecture and configuration, p.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ccessful configurations are usually overbui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 components will be oversized, but you have a better chance of having enough capacity at the (unanticipated) bottlene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nd your entire budget, always, or use clou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server (often virtualized) does just one th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server (Web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 logic (app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(database ser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an understand and characterize its task this way. If a box handles many functions, sizing and managing it is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hree tier archite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2478240" y="1027080"/>
            <a:ext cx="4724280" cy="533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client (browser/ap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2478240" y="24750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(HTTP serv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7"/>
          <p:cNvSpPr/>
          <p:nvPr/>
        </p:nvSpPr>
        <p:spPr>
          <a:xfrm>
            <a:off x="2478240" y="4075200"/>
            <a:ext cx="472428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>
            <a:off x="407844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652680" y="1752480"/>
            <a:ext cx="296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HTTP GET, POST;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0"/>
          <p:cNvSpPr/>
          <p:nvPr/>
        </p:nvSpPr>
        <p:spPr>
          <a:xfrm flipV="1">
            <a:off x="5754600" y="1560600"/>
            <a:ext cx="0" cy="91440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5921280" y="1751040"/>
            <a:ext cx="20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XML 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>
            <a:off x="407844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14920" y="3324240"/>
            <a:ext cx="389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aspx page calls business log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Line 14"/>
          <p:cNvSpPr/>
          <p:nvPr/>
        </p:nvSpPr>
        <p:spPr>
          <a:xfrm flipV="1">
            <a:off x="5754600" y="30081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5689800" y="3287880"/>
            <a:ext cx="27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Business logic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7623720" y="99072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7622280" y="24750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7622280" y="40752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2473200" y="5675400"/>
            <a:ext cx="4724640" cy="5331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Line 21"/>
          <p:cNvSpPr/>
          <p:nvPr/>
        </p:nvSpPr>
        <p:spPr>
          <a:xfrm>
            <a:off x="407340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1711080" y="4876920"/>
            <a:ext cx="77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23"/>
          <p:cNvSpPr/>
          <p:nvPr/>
        </p:nvSpPr>
        <p:spPr>
          <a:xfrm flipV="1">
            <a:off x="5749920" y="4608360"/>
            <a:ext cx="0" cy="106704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24"/>
          <p:cNvSpPr/>
          <p:nvPr/>
        </p:nvSpPr>
        <p:spPr>
          <a:xfrm>
            <a:off x="6019920" y="4888080"/>
            <a:ext cx="1905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SQL result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7617600" y="5675400"/>
            <a:ext cx="85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ier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 Box 26"/>
          <p:cNvSpPr/>
          <p:nvPr/>
        </p:nvSpPr>
        <p:spPr>
          <a:xfrm>
            <a:off x="78840" y="6424560"/>
            <a:ext cx="896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In HW7, your aspx pages include the business logic that is usually in the application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7393320" y="4343400"/>
            <a:ext cx="144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.NET, JEE 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>
            <a:off x="7277040" y="2787480"/>
            <a:ext cx="158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IS, Glassfish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>
            <a:off x="7190640" y="598788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SQL Svr, Orac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Travel indust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Travel Alliance (www.opentravel.or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0+ airlines, hotels, car rental, GDS, oth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DS: global distribution system (Sabre, Apollo, etc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aboration to implement industry-wide open e-business specif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ctronic distribution supply cha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ed common XML formats, trading partner to trading partn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als are to lower supply chain costs and improve consumer travel costs and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condi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wo protocols in current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Teletype: 64 character sent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N/EDIFACT (EDI): fixed messages, difficult to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systems, messages have been used for 30 ye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 travel agency “T” in Midwes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es of busin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, hotel reservations for resid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al attraction reservations for international visit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used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lephone, fax, teletext message ser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rnally developed computer apps: customers, local attraction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changed travel busi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became GDS partner for international travel in Midw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services offered: air, hotel, rail, car re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w suite of international services for US custom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pened branch offices around the wor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2835360" y="6400800"/>
            <a:ext cx="628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sed on Kumar, Narayan, Ng, “Implementing SOA Using Java EE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” travel agency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440" y="17524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changed its information systems to work with GDS and its consumer custom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pplication software, middleware, desktops, serv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” unable to penetrate international travel mark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remedy this, it bought  UK and Asian travel agenc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ree companies had different legacy applications, and networks,  which created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architecture needed for new compan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et evolving customer and GDS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nimize legacy syst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ain existing Web services, if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new Web services to replace legacy ap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ctivity diagram: current syste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212724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035240" y="1371600"/>
            <a:ext cx="4803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ices are comple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ir: carrier, price, time, hops,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otel: chain, room type, rate, location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ar, sightseeing package simil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irline reservation may bundle hotel, car reservations at dis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confirmation may be delayed (especially internation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tial itinerary not acceptable to customers to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change their mind partway through the itinerary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vel packages must be flexible, attractively priced, easily book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37080" indent="-187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ustomers have own discounts: AAA,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09120" indent="-2343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quential process too slow for online us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Activity diagra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 UML activity diagra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 as many steps from previous diagram in parallel as pos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at parallel results fit toge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results fit together: present the outcome to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therwise, re-do required step(s) until a fit is fou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 tell/ask customer to search a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1077840" y="5334120"/>
            <a:ext cx="7116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models a set of Web services, providing reservations for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ple customers connecting to multiple reservation syste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ervation itinerary gets filed with “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 checks if air res made; if not it uses air Web servic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” then checks hotel, car in same 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523880" y="523800"/>
            <a:ext cx="60962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, co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rchitecture will generate many (often thousands) of queries in parall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of the results won’t be used direct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y are sorted and assembled by the appl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the best ones are shown to the us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requires much more (often thousands of times more) bandwidth than older approa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optic bandwidth is large and can support th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upply chain and other business applications are moving to thi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 many carriers, vendors, etc. for availability, price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23T23:50:29Z</cp:lastPrinted>
  <dcterms:modified xsi:type="dcterms:W3CDTF">2013-11-19T01:49:26Z</dcterms:modified>
  <cp:revision>291</cp:revision>
  <dc:subject/>
  <dc:title>1.264 Lecture 5</dc:title>
</cp:coreProperties>
</file>