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9A199-39EF-49FA-94BA-40FC5D64A6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2BEA3-F4DD-4B2F-97A0-3047492B6DA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8C470-2A56-4503-95BB-258AF4D4BE2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6A10F-6CBD-4B9F-88CF-EB107C742DB4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E79F7-8766-40E7-8D41-2E895A99E9B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26B91-678D-4806-9B21-3A352BD80F53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F535-5C6D-46F6-BFD3-607E5B16CA1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F76DA-BAA9-4149-8AFD-DDE3F37BEEE6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AA99-5108-4AB8-B82A-C300A8C9F2F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2912A-2239-4E54-906D-C61204684E2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0858-FA4A-4D05-A958-3773E6E754CD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614E-3B6A-4B48-A0E3-70A433E07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EB8E-DF60-4446-82DA-32A6D872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14BD-12AB-4A0D-A1DD-C7AB3813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EAC6-2E87-424B-89CF-58C25E3A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37AB-2897-4B98-9A67-5CB33CB29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BBDE-2422-45CE-8BA9-6042D27C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78CB6-9D9D-424D-A755-EB3C39DC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262F6-8111-4645-A600-0D097FFA9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F0DD-A5CD-4FE7-850E-0BD77D51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AE53-0342-4060-9B24-66AA5827E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156D-EB00-4086-AC65-F753697D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A28D-B318-4C16-8494-29A69E40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823E0-628C-41CF-B0EB-43B1BBEB0B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 archite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ou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7240" y="5719680"/>
            <a:ext cx="503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Green chapter 1-3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Cloud app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440" y="16002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cloud type, if any, would serve these ap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and preproduction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, DB development tools (UML, Visual Studio,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tch processes needing limited security (e.g., raw material manageme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f-the-shelf software (e.g., HR, CRM, collabor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 co-dependent ap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s with strict licensing and accountability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s that require a lot of customization and flexibi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the following abbrevi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aaS: infrastructure as a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aS: platform as a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aS: software as a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Cloud app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ich cloud type, if any, would serve these app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and preproduction system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aaS, P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, database development tools (UML…) softwar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tch processes needing limited security (e.g., raw material management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aaS, P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f-the-shelf software (e.g., HR, CRM, collaboration)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 co-dependent app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in clo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s with strict licensing and accountability requirements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in clo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s that require a lot of customization and flexibility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t in cloud, or perhaps Ia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: cloud computin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440" y="91440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it these two Web sites to get prices: (What kind of clou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ws.amazon.com/ec2/  Estimat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n-deman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reserved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o to “EC2 Pricing”, “AWS Simple Monthly Calculator”, US Ea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indows/Web SQL Svr, 50% utilization, m3.xlarge (15 GB memory, 13 CPU units)  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On demand and then reserv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torage: 1000GB standard, 100 iops, 100GB-mo snapsho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: 1,000GB/month inter-region in and ou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served: Medium util, 1 yr ter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 windowsazure.com. Pricing, “Calculator”, “Shared” tab.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Pay as you go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12 month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 site, 150GB database (less than Amazon), 1000GB data transf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ance at developers.google.com/appengine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o to “Quotas and pricing”-&gt;”Pricing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oogle costs require more work to estimate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nk about comparing to running your own data cent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ardware, software, space, security, staff to manage, …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(November 2013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mazon cos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 demand: $488/month (was $831/month last year, for l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rved: $1100 + $286/month (was $1837 + $590/mont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 cos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ared: $355 PAYG, $275 12 mos (was $943/month last yea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og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bout the same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oud computing growing exponential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st, flexibility, higher quality soft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jor vendors offer cloud storage, computing, office applications, enterprise applications (CRM, SCM, ERP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ftware as a service (SaaS) is cloud compu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 are infrastructure and platform as a service (IaaS, Paa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ud computing is heavily based on Service Oriented Architectures (SO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are based on Web servi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are based on HTTP and 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ich exchange data between databases using SQ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vate and public clouds ex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prise servers and applications will contin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 architecture provides a cost estimate for the software and hard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ypically required early in a project. Use first spiral to develo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stimate staff and software costs from lecture 3,4 approach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examp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blic transpor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it trip plan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it real time in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it fare pa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mated vehicle lo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transit dispatch and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ly cha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rehouse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portation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ion manag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all examples, architecture generates budge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ff: from function points, person mont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rdware: from TPC and cloud computing estim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lecom: from bandwidth and technology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and configur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ation of all system components (hardware, software, network) is 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ystem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ne early in system development or configuration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 users, applications, system software, networks, hard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e Web/app/db servers, networks, backup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ations are complex and chan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 is usually wrong on which estimates are ba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is needed because you need a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udge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or a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member the estimate convergence cur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re is much uncertainty in the final system hardware and software. We are only in spiral 1 sti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you make a baseline (point) estimate, you have a lot of error and about a 50% chance of being too 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you’ve done everything else right but your system is slow because of inadequate hardware or telecom, it will be very frustr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customer can’t tell why your system is slow. It may be bad database, bad/inefficient software implementation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one of the few problems that you can throw money at to solv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and configuration, p.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ccessful configurations are usually overbui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components will be oversized, but you have a better chance of having enough capacity at the (unanticipated) bottlen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nd your entire budget, always, or use cloud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server (often virtualized) does just one th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 server (Web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 logic (app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 (database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can understand and characterize its task this way. If a box handles many functions, sizing and managing it is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erformance metric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rics (database server as an examp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Throughput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/O operations/second, data transfer rate/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system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 throughput is low, more servers used than really nee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Latenc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: seek time (seconds), response time (secon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user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 latency is high, users have slow respons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Utilization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percentage of data transfer rate, disk capacity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1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futur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vi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f avg utilization &gt; 60%, your systems will crawl on busy day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verage server utilization  ~15-20% in traditional data cent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i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thernet data transfer: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00 Mbit/sec =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12.50   MB/s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k data transfer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10.00   MB/s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m data transfer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6,000 bits/sec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0.007   MB/se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comparable units when assessing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 bits (b)=  1 byte (B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B may be 1,000,000 B or 1,024,000 B.  GB, TB discrepancies high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: Database server cost, performan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 on to www.tpc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s -&gt; TPC-C -&gt; Top 10 Price/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on “system” for top performing choice and open executive summary as pdf.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Pick the 2</a:t>
            </a:r>
            <a:r>
              <a:rPr b="1" lang="en-US" sz="2000" spc="-1" strike="noStrike" baseline="30000">
                <a:solidFill>
                  <a:srgbClr val="ff99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 one: IB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at the configuration: </a:t>
            </a: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(Note the 50% discoun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es the server hardware cost? How many user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 the disks cost? How many are there? Total storag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9900"/>
                </a:solidFill>
                <a:latin typeface="Arial"/>
              </a:rPr>
              <a:t>What does the software cost? (This one is unusual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CPUs? How much memor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gnore the client hardware, which is just for the 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 at the range of performance (response tim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s -&gt; TPC-H -&gt; Top 10 Price/Perform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 at 100GB results, same items as TPC-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units are queries per hou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 with TPC-C performance, which is transactions per minute. Why the differenc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(November 2013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PC-C: IBM x365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es the server cost?     ~$30,000.  Users: ~1,000,00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 the disks cost?           ~$26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ftware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~$250,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disks are there?     115, holding 40,000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CPUs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2 (8 co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uch memory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768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 at the range of performance (response times) ~0.1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PC-H: Lenovo ThinkServer RD630 (100 GB databas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es the server cost?    ~$13,500.   Users: a few (5-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at do the disks cost?          (not specified, but most of i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disks are there?     8, holding 2,400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any CPUs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2 (16 cor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much memory?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64G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 at the range of response times: 0.3-12.7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mpare: 420,000 QpH= 7,000 Q/min(H) vs 1,300,000 q/min(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11440" indent="-16200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 transaction is about 1,000,000 times the cost of a C transa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ers are faster/cheaper n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st 2000 TPC-C (price/performance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8,000 tpmC, $58/tpmC, 6,000 users, 5 second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st 2013 TPC-C (price/performance)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,600,000 tpmC, $0.47/tpmC, 1,000,000 users, 0.1 second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~3,200,000 total transactions/minute in benchma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~800,000 total transactions/minute actual ma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60% utilization max for good perform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system is less highly tuned than benchmark 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a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ow for future grow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x of transactions changing: more status/inquiry with Web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ighest performance 2013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,000,000 tpmC, $1/tpmC,  24,000,000 u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oud computing vs traditional option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azon, Microsoft Azure, Google,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need for Web/application/database ser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need for Web/database soft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e your application and place it in the clou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or publi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y by the h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ons for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oud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PC/C-E-H systems that you purchase and host in-house or in a hosting cen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ap servers from Dell, etc. that you configure for latency, throughput, utilization, etc. using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oud computing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ree types of clou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Infrastructu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s a service: outsource hardw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vide own operating system, database, app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 flexible, most expensive total IT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s: Rack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latfor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s a service: outsource operating environ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oud provides OS, database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: Amazon, Microsoft, Goog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oftwar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s a service: no app of your ow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e the third party ap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s: salesforce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ast flexible, least expensive total IT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portation example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63960" indent="-1803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tive On-Demand APT (package carrier TM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263960" indent="-18036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ne Network (logistic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3-11-21T16:29:48Z</cp:lastPrinted>
  <dcterms:modified xsi:type="dcterms:W3CDTF">2013-11-23T01:07:07Z</dcterms:modified>
  <cp:revision>254</cp:revision>
  <dc:subject/>
  <dc:title>1.264 Lecture 5</dc:title>
</cp:coreProperties>
</file>