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jpeg" ContentType="image/jpeg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32440" y="9385200"/>
            <a:ext cx="5042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-27000" y="3193920"/>
            <a:ext cx="129859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73200" y="1454040"/>
            <a:ext cx="11672640" cy="683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47640" y="3057480"/>
            <a:ext cx="116953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635040" y="2924280"/>
            <a:ext cx="1170936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60240" y="2927520"/>
            <a:ext cx="1169676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47640" y="3025800"/>
            <a:ext cx="116967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55640" y="2921040"/>
            <a:ext cx="1172196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662040" y="2854440"/>
            <a:ext cx="116967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684360" y="2873520"/>
            <a:ext cx="1165860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49160" y="965160"/>
            <a:ext cx="10426680" cy="78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785880" y="3111480"/>
            <a:ext cx="6770520" cy="32637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6692760" y="3102120"/>
            <a:ext cx="6540480" cy="35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49160" y="388620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73200" y="4083120"/>
            <a:ext cx="11664720" cy="15746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749160" y="596916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669960" y="3327480"/>
            <a:ext cx="118587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71400" y="2514600"/>
            <a:ext cx="11706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50880" y="1851120"/>
            <a:ext cx="11810880" cy="60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284560" y="520560"/>
            <a:ext cx="8421480" cy="856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193840" y="2367000"/>
            <a:ext cx="868680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98400" y="3822840"/>
            <a:ext cx="1170000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787320" y="777960"/>
            <a:ext cx="11518920" cy="81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390680" y="1206360"/>
            <a:ext cx="9632880" cy="732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71400" y="2550960"/>
            <a:ext cx="11785680" cy="46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612720" y="3978360"/>
            <a:ext cx="11899800" cy="17953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49160" y="388620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698400" y="590544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60240" y="3981600"/>
            <a:ext cx="11863440" cy="17906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49160" y="388620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723960" y="60199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11280" y="3978360"/>
            <a:ext cx="11888640" cy="17953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749160" y="388620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723960" y="60199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60240" y="3994200"/>
            <a:ext cx="11695320" cy="17650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749160" y="388620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723960" y="60199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774720" y="3994200"/>
            <a:ext cx="11694960" cy="1765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749160" y="388620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723960" y="60199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73200" y="3981600"/>
            <a:ext cx="11863440" cy="17906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749160" y="388620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3960" y="60199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