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F9D2-EDE4-4E7B-BEE9-5CA909EA626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E737-7FE7-4276-99BF-576B0D8B092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39760" y="63324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8D36-F769-4F2A-BD8A-4A06DE2B86C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7F18-8750-4897-8EF3-712FD40D2A2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CF15-2992-427D-8AA1-17EDEB5206F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356C-02FB-4919-98BD-41707A9E50A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86C5-2040-427C-8961-E1A391F848D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7F79-50DA-40EB-B6A4-8CAFEC7DCBB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A1B7-B798-41DF-9061-4E3120E0A45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F091-4978-417B-B003-027F0C7E45B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911B-0959-48D4-9039-A6E1BDE76DC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FF24-B5ED-4F23-9C60-39E406C7542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CF18-F60D-4963-A2A9-1FCFBABEE33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8AEE-FB2F-4DD8-9F53-5CC6B0011F4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E8A0-595E-4866-8A22-76DB6F41436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5642-37B0-4AD2-8263-72C0B7B1544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DC58-E736-4588-8F39-9321922AF22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30BE-19A0-4928-B8F1-3530DD754CB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E1B9-7407-4416-9ED7-BA5DCA23DEA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A783-39A9-4956-A2B9-FB29F902187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0679-0DF9-4E6F-8026-35D1AB15464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D30-2114-46B0-BC9E-C9A0B9630C6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434B-36B4-456B-B892-DBE5D810BC6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3858-7D20-43D8-883E-4EAE6F81B1C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F39A-D911-42C1-86AD-8A412F7ECDC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28D-E283-4B6B-8399-4655F888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B9C-9AE3-4883-A16D-31EEFC8E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072-30BA-48F1-A7AB-13090ECC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344-598A-4B61-9269-B59C1C62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504-7D97-4A60-B5E0-F714CA66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9E5-36E4-43EA-961E-2C2BB8B7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A62-6CFA-440F-8069-13FF426C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58E-99FD-4F39-BBB7-6274D9C6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E1B-79FD-48CF-9B38-6E798A2A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61A-A005-4FB7-A786-6BD8300D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EED-A902-4211-AD06-A44427BE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341-0D0B-44A0-8E82-C39E3AF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AEC0-6C81-49EC-94CC-993585E7440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ccessive Shortest Path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2333-25BB-4684-8290-11AA0F488EE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9144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668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666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51814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1814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14479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33526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57913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V="1">
            <a:off x="32004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1447920" y="41529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34290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>
            <a:off x="32004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7913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7339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38862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2004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6002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7524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1814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52578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553080" y="25909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4 on 1-3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6"/>
          <p:cNvSpPr/>
          <p:nvPr/>
        </p:nvSpPr>
        <p:spPr>
          <a:xfrm flipH="1" flipV="1">
            <a:off x="1676520" y="392400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21337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38088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2819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30"/>
          <p:cNvSpPr/>
          <p:nvPr/>
        </p:nvSpPr>
        <p:spPr>
          <a:xfrm flipH="1">
            <a:off x="3352320" y="247644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4495680" y="3695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3"/>
          <p:cNvSpPr/>
          <p:nvPr/>
        </p:nvSpPr>
        <p:spPr>
          <a:xfrm>
            <a:off x="5181480" y="148608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4"/>
          <p:cNvSpPr/>
          <p:nvPr/>
        </p:nvSpPr>
        <p:spPr>
          <a:xfrm>
            <a:off x="304920" y="369576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304920" y="4000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57150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569E-69E9-4F07-B248-563057EED59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762120" y="346716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2514600" y="18669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251460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502920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02920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1295280" y="240012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0040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563868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048120" y="240012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295280" y="422928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327672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3047760" y="2629080"/>
            <a:ext cx="7596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373392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6386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581280" y="3314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37339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30481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1447920" y="468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600200" y="255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5146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510552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248520" y="2438280"/>
            <a:ext cx="266688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26"/>
          <p:cNvSpPr/>
          <p:nvPr/>
        </p:nvSpPr>
        <p:spPr>
          <a:xfrm flipH="1" flipV="1">
            <a:off x="1523520" y="400032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981080" y="4000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266688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0"/>
          <p:cNvSpPr/>
          <p:nvPr/>
        </p:nvSpPr>
        <p:spPr>
          <a:xfrm flipH="1">
            <a:off x="3200040" y="25527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4343400" y="3772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0492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556272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6477120" y="38098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should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6226-5C8F-41DC-AEC1-3142150E83E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6" name="Oval 3"/>
          <p:cNvSpPr/>
          <p:nvPr/>
        </p:nvSpPr>
        <p:spPr>
          <a:xfrm>
            <a:off x="762120" y="335268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2514600" y="17524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514600" y="48387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029200" y="483876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5029200" y="17524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295280" y="228564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20040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563868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11"/>
          <p:cNvSpPr/>
          <p:nvPr/>
        </p:nvSpPr>
        <p:spPr>
          <a:xfrm flipV="1">
            <a:off x="3048120" y="228564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3276720" y="51814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H="1">
            <a:off x="3047760" y="251460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33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638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373392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3048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16002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251460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51055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64008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25"/>
          <p:cNvSpPr/>
          <p:nvPr/>
        </p:nvSpPr>
        <p:spPr>
          <a:xfrm flipH="1" flipV="1">
            <a:off x="1523520" y="388584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9810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6668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320004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43434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3049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556272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32"/>
          <p:cNvSpPr/>
          <p:nvPr/>
        </p:nvSpPr>
        <p:spPr>
          <a:xfrm flipH="1">
            <a:off x="3200400" y="54864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36576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34"/>
          <p:cNvSpPr/>
          <p:nvPr/>
        </p:nvSpPr>
        <p:spPr>
          <a:xfrm>
            <a:off x="228600" y="350532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35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2286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57913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C5D-0A50-4565-9241-611E98F6480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6324480" y="23623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400800" y="4267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values on the nodes are the current node potenti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6057-F6BD-4ED9-91D1-2B7A2DE7D51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3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19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5105520" y="156204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26668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51814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5181480" y="1104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35"/>
          <p:cNvSpPr/>
          <p:nvPr/>
        </p:nvSpPr>
        <p:spPr>
          <a:xfrm>
            <a:off x="5562720" y="560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3048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37"/>
          <p:cNvSpPr/>
          <p:nvPr/>
        </p:nvSpPr>
        <p:spPr>
          <a:xfrm>
            <a:off x="3809880" y="17146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3886200" y="118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39"/>
          <p:cNvSpPr/>
          <p:nvPr/>
        </p:nvSpPr>
        <p:spPr>
          <a:xfrm>
            <a:off x="6095880" y="236232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obtain new node potentials, subtract the shortest path distances from the old potentia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E939-6EE4-417B-B33B-8EC9860938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666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6324480" y="2819520"/>
            <a:ext cx="281952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6"/>
          <p:cNvSpPr/>
          <p:nvPr/>
        </p:nvSpPr>
        <p:spPr>
          <a:xfrm flipH="1">
            <a:off x="3123720" y="25146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4267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54864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30"/>
          <p:cNvSpPr/>
          <p:nvPr/>
        </p:nvSpPr>
        <p:spPr>
          <a:xfrm flipH="1">
            <a:off x="3124080" y="55627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35812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Text Box 35"/>
          <p:cNvSpPr/>
          <p:nvPr/>
        </p:nvSpPr>
        <p:spPr>
          <a:xfrm>
            <a:off x="5715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553080" y="4191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will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122B-06F9-4609-981F-5B9DE478B58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22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28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5715000" y="5448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32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30492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152280" y="331488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715000" y="56768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248520" y="29718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822C-36AF-4822-B460-935F9275BDD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105520" y="1333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5181480" y="5753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1"/>
          <p:cNvSpPr/>
          <p:nvPr/>
        </p:nvSpPr>
        <p:spPr>
          <a:xfrm flipH="1">
            <a:off x="1066320" y="2171880"/>
            <a:ext cx="129564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13716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33"/>
          <p:cNvSpPr/>
          <p:nvPr/>
        </p:nvSpPr>
        <p:spPr>
          <a:xfrm flipH="1">
            <a:off x="312408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38098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6553080" y="259092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0A13-89D7-4E2C-A356-E62C214E63E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 flipH="1" flipV="1">
            <a:off x="137160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5181480" y="1333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181480" y="590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2666880" y="6095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19051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H="1">
            <a:off x="327672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373392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29"/>
          <p:cNvSpPr/>
          <p:nvPr/>
        </p:nvSpPr>
        <p:spPr>
          <a:xfrm flipH="1">
            <a:off x="1143000" y="217188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 flipH="1">
            <a:off x="320040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3886200" y="2324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666880" y="5676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2590920" y="59054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5181480" y="5600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5105520" y="5829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37"/>
          <p:cNvSpPr/>
          <p:nvPr/>
        </p:nvSpPr>
        <p:spPr>
          <a:xfrm>
            <a:off x="6172200" y="251460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obtain the new node potential, subtract the shortest path distance from the old potenti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D5D-6259-4E8A-B36F-98F2AD04B73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1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36232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0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31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32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36"/>
          <p:cNvSpPr/>
          <p:nvPr/>
        </p:nvSpPr>
        <p:spPr>
          <a:xfrm>
            <a:off x="563868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37"/>
          <p:cNvSpPr/>
          <p:nvPr/>
        </p:nvSpPr>
        <p:spPr>
          <a:xfrm>
            <a:off x="6248520" y="2590920"/>
            <a:ext cx="25905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2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38"/>
          <p:cNvSpPr/>
          <p:nvPr/>
        </p:nvSpPr>
        <p:spPr>
          <a:xfrm>
            <a:off x="6400800" y="3886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can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429-17A1-45F4-BF96-F5CA79C87FE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Original Costs and Node Potentials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83808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5909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5909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1055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1055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137160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7672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71500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31240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37160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335268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31240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0988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71500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8620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038480" y="4762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200400" y="2857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600200" y="4533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6765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45720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5909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2578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5334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27432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57A5-57B9-4A99-85DC-2AACC6591C8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685800" y="34671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4382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43828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9528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8"/>
          <p:cNvSpPr/>
          <p:nvPr/>
        </p:nvSpPr>
        <p:spPr>
          <a:xfrm flipV="1">
            <a:off x="1219320" y="24001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3124080" y="20192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5562720" y="255276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11"/>
          <p:cNvSpPr/>
          <p:nvPr/>
        </p:nvSpPr>
        <p:spPr>
          <a:xfrm flipV="1">
            <a:off x="2971800" y="240012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320040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3"/>
          <p:cNvSpPr/>
          <p:nvPr/>
        </p:nvSpPr>
        <p:spPr>
          <a:xfrm flipH="1">
            <a:off x="2971800" y="262908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365760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55627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350532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365760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9718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523880" y="2552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24382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H="1" flipV="1">
            <a:off x="144792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1905120" y="4000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259092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54864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 flipH="1">
            <a:off x="3124080" y="5600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3581280" y="560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304920" y="3543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 flipH="1">
            <a:off x="1371600" y="262908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9810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0"/>
          <p:cNvSpPr/>
          <p:nvPr/>
        </p:nvSpPr>
        <p:spPr>
          <a:xfrm>
            <a:off x="35812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 flipH="1">
            <a:off x="3123720" y="232416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57150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2438280" y="156204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5"/>
          <p:cNvSpPr/>
          <p:nvPr/>
        </p:nvSpPr>
        <p:spPr>
          <a:xfrm>
            <a:off x="5715000" y="605808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27432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5791320" y="537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5181480" y="262872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47242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1722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 units of flow were sent from node 2 to node 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880F-E1AD-44B7-9960-547331D22B5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4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28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0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31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571500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7"/>
          <p:cNvSpPr/>
          <p:nvPr/>
        </p:nvSpPr>
        <p:spPr>
          <a:xfrm flipV="1">
            <a:off x="510552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38"/>
          <p:cNvSpPr/>
          <p:nvPr/>
        </p:nvSpPr>
        <p:spPr>
          <a:xfrm>
            <a:off x="46483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6629400" y="2514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5D89-CBBF-4206-8087-3A8668C0569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9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Line 25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28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31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34"/>
          <p:cNvSpPr/>
          <p:nvPr/>
        </p:nvSpPr>
        <p:spPr>
          <a:xfrm>
            <a:off x="5715000" y="55245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274320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63868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7"/>
          <p:cNvSpPr/>
          <p:nvPr/>
        </p:nvSpPr>
        <p:spPr>
          <a:xfrm flipV="1">
            <a:off x="518148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38"/>
          <p:cNvSpPr/>
          <p:nvPr/>
        </p:nvSpPr>
        <p:spPr>
          <a:xfrm>
            <a:off x="47242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39"/>
          <p:cNvSpPr/>
          <p:nvPr/>
        </p:nvSpPr>
        <p:spPr>
          <a:xfrm>
            <a:off x="6248520" y="2362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was sent from node 1 to node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40"/>
          <p:cNvSpPr/>
          <p:nvPr/>
        </p:nvSpPr>
        <p:spPr>
          <a:xfrm>
            <a:off x="228600" y="36957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1"/>
          <p:cNvSpPr/>
          <p:nvPr/>
        </p:nvSpPr>
        <p:spPr>
          <a:xfrm>
            <a:off x="22860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2"/>
          <p:cNvSpPr/>
          <p:nvPr/>
        </p:nvSpPr>
        <p:spPr>
          <a:xfrm>
            <a:off x="6172200" y="3781440"/>
            <a:ext cx="2590920" cy="1557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sulting flow is feasible, and also optim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2749-4C14-4D48-9FEC-414C6B30257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533520" y="35434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2286000" y="19432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5"/>
          <p:cNvSpPr/>
          <p:nvPr/>
        </p:nvSpPr>
        <p:spPr>
          <a:xfrm>
            <a:off x="22860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48006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7"/>
          <p:cNvSpPr/>
          <p:nvPr/>
        </p:nvSpPr>
        <p:spPr>
          <a:xfrm>
            <a:off x="4800600" y="19432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"/>
          <p:cNvSpPr/>
          <p:nvPr/>
        </p:nvSpPr>
        <p:spPr>
          <a:xfrm flipV="1">
            <a:off x="1066680" y="247608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2971800" y="20955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10"/>
          <p:cNvSpPr/>
          <p:nvPr/>
        </p:nvSpPr>
        <p:spPr>
          <a:xfrm>
            <a:off x="5410080" y="26290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11"/>
          <p:cNvSpPr/>
          <p:nvPr/>
        </p:nvSpPr>
        <p:spPr>
          <a:xfrm flipV="1">
            <a:off x="2819520" y="2476440"/>
            <a:ext cx="213336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12"/>
          <p:cNvSpPr/>
          <p:nvPr/>
        </p:nvSpPr>
        <p:spPr>
          <a:xfrm>
            <a:off x="1066680" y="4305240"/>
            <a:ext cx="12956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3048120" y="53722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819160" y="27050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3505320" y="1638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5410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3352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3505320" y="4991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2819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99072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990720" y="2629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228600" y="3238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22860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24"/>
          <p:cNvSpPr/>
          <p:nvPr/>
        </p:nvSpPr>
        <p:spPr>
          <a:xfrm>
            <a:off x="48006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25"/>
          <p:cNvSpPr/>
          <p:nvPr/>
        </p:nvSpPr>
        <p:spPr>
          <a:xfrm>
            <a:off x="243828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6"/>
          <p:cNvSpPr/>
          <p:nvPr/>
        </p:nvSpPr>
        <p:spPr>
          <a:xfrm>
            <a:off x="4876920" y="598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0997-880F-4EB9-AEF8-B269C3DCD13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Oval 3"/>
          <p:cNvSpPr/>
          <p:nvPr/>
        </p:nvSpPr>
        <p:spPr>
          <a:xfrm>
            <a:off x="609480" y="34671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4"/>
          <p:cNvSpPr/>
          <p:nvPr/>
        </p:nvSpPr>
        <p:spPr>
          <a:xfrm>
            <a:off x="23623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23623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48769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48769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1143000" y="240012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9"/>
          <p:cNvSpPr/>
          <p:nvPr/>
        </p:nvSpPr>
        <p:spPr>
          <a:xfrm>
            <a:off x="304812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10"/>
          <p:cNvSpPr/>
          <p:nvPr/>
        </p:nvSpPr>
        <p:spPr>
          <a:xfrm>
            <a:off x="548640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Line 11"/>
          <p:cNvSpPr/>
          <p:nvPr/>
        </p:nvSpPr>
        <p:spPr>
          <a:xfrm flipV="1">
            <a:off x="2895480" y="240012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1219320" y="4076640"/>
            <a:ext cx="1295280" cy="10670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3124080" y="529596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Line 14"/>
          <p:cNvSpPr/>
          <p:nvPr/>
        </p:nvSpPr>
        <p:spPr>
          <a:xfrm flipH="1">
            <a:off x="2895480" y="2629080"/>
            <a:ext cx="7632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5486400" y="35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228600" y="3619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2362320" y="1409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8"/>
          <p:cNvSpPr/>
          <p:nvPr/>
        </p:nvSpPr>
        <p:spPr>
          <a:xfrm>
            <a:off x="5029200" y="1409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49528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4382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160020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1752480" y="4076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3581280" y="5372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38098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97180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809880" y="1562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37"/>
          <p:cNvSpPr/>
          <p:nvPr/>
        </p:nvSpPr>
        <p:spPr>
          <a:xfrm>
            <a:off x="457200" y="5257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low is at upper bou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38"/>
          <p:cNvSpPr/>
          <p:nvPr/>
        </p:nvSpPr>
        <p:spPr>
          <a:xfrm flipV="1">
            <a:off x="1295280" y="4647960"/>
            <a:ext cx="457200" cy="533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655308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w is at lower b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40"/>
          <p:cNvSpPr/>
          <p:nvPr/>
        </p:nvSpPr>
        <p:spPr>
          <a:xfrm flipH="1">
            <a:off x="3047760" y="3124080"/>
            <a:ext cx="3276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41"/>
          <p:cNvSpPr/>
          <p:nvPr/>
        </p:nvSpPr>
        <p:spPr>
          <a:xfrm flipH="1" flipV="1">
            <a:off x="4648320" y="3047760"/>
            <a:ext cx="17524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F581-B881-412C-A042-BFCA9774083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Supplies/Demand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21932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13716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8088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952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0292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DC9-4B2C-4AE1-8FC7-040BCF41A70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685800" y="33526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4382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4382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9528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9528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1219320" y="228564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12408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56272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2971800" y="2285640"/>
            <a:ext cx="2133720" cy="24382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219320" y="4114800"/>
            <a:ext cx="1295280" cy="10666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200400" y="518148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971800" y="251460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6576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562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7339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86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048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523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590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762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1814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1814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6477120" y="990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rtest path di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 flipH="1">
            <a:off x="5486400" y="1295280"/>
            <a:ext cx="838080" cy="152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400800" y="28954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AB0C-E2B6-4AC0-9DB6-4A160374A30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295280" y="415296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1486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80988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3962520" y="4762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124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523880" y="4533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16002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51814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2578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26668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1523880" y="476244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600200" y="2705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124080" y="30862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81280" y="17146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733920" y="33908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886200" y="4991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1752480" y="4152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97AC-2B85-439D-980C-11AE9ECEDB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(along arcs with reduced costs of 0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685800" y="35053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438280" y="19051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382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9528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952880" y="19051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1219320" y="24379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124080" y="205740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297180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219320" y="4267080"/>
            <a:ext cx="12952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200400" y="53341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971800" y="266688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6576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57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9718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371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5238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80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4382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4952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2590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502920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6400800" y="4267080"/>
            <a:ext cx="18288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7 units from node 1 to nod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400800" y="1371600"/>
            <a:ext cx="2209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numbers are residual capacit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099A-5B78-4D77-8BB9-003D9C6A46F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1219320" y="419112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3808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4382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952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029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533520" y="51814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(3,1) has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28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304920" y="335268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2514600" y="601992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152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59092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248520" y="14479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an arc is added to G(x), then it has a reduced cost of 0, and it is 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324480" y="38862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s in the residual network will always have a non-negative reduced c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A507-9306-4BB0-ADD9-E09DFA97367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m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, one would choose a source node, and then find the shortest path from the source node to all other nodes, and then updat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re are still paths of 0 reduced cost in the residual network, and it makes sense to use them.  This heuristic is quite useful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EC10-658B-4343-A55E-46BB9B167F0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762120" y="33148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2514600" y="17146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5029200" y="48006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5029200" y="17146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1295280" y="224748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3200400" y="18669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5638680" y="24004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 flipV="1">
            <a:off x="3048120" y="2247840"/>
            <a:ext cx="213336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1295280" y="40766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3276720" y="51436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 flipH="1">
            <a:off x="3047760" y="24764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3733920" y="1409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38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5812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3733920" y="476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48120" y="27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1447920" y="4533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1600200" y="2400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5146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0292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5105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324480" y="4114800"/>
            <a:ext cx="22860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2 units of flow from node 1 to node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1523520" y="38480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1981080" y="3848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32"/>
          <p:cNvSpPr/>
          <p:nvPr/>
        </p:nvSpPr>
        <p:spPr>
          <a:xfrm>
            <a:off x="22860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666880" y="567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248520" y="1676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 that 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46Z</dcterms:modified>
  <cp:revision>28</cp:revision>
  <dc:subject/>
  <dc:title>15.082        Spring 1998</dc:title>
</cp:coreProperties>
</file>