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D7C1385-722C-4D39-A63C-343472565DFE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AC798E7-61F5-4DFC-B1DC-CBF9B8B9798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1B0B6CA-C64C-4953-8C4D-623235E1F81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34080A8-BFC9-4D2E-A9EE-742A8C367FB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786-60A7-488E-93F3-7A94BC3C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A6F-AF42-4D3F-B511-784388BD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BE8-D371-401C-8444-7B386958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8B2-79F3-4C77-A30B-F0158774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E3C-EED2-4836-B805-FCCF606B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2AE-D70A-43F7-AE0E-1F4AC9BA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66A-54CA-45C7-A44A-EF283B9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315-858C-4737-88E1-39B7E6CA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2AD-9732-4D27-BB6E-91F43BBA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D6D-9663-4C35-B160-00BE2AE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E72-3F7B-46FF-9778-38B9D2E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430-0293-4A48-8626-9B2C48B7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B0B-2DEA-414B-9F47-69B490875F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 &amp;  6.855J  &amp;  ESD.78J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4, 2010 </a:t>
            </a:r>
            <a:br>
              <a:rPr sz="3200"/>
            </a:b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aximum Flow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741-7FE4-4827-8CE3-53EE55FD728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termine the minimum cu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Line 27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Line 30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4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Line 4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228600" y="54864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= {s, 1, 3, 4, 6, 8}.    T = {2, 5, 7, 9, 10, t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from {1, 3, 4} to {7, 9, 10} or from {6, 8} to {2, 5}.    Any such arc would have an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0" name="Group 68"/>
          <p:cNvGrpSpPr/>
          <p:nvPr/>
        </p:nvGrpSpPr>
        <p:grpSpPr>
          <a:xfrm>
            <a:off x="1219320" y="1066680"/>
            <a:ext cx="4267080" cy="3429000"/>
            <a:chOff x="1219320" y="1066680"/>
            <a:chExt cx="4267080" cy="3429000"/>
          </a:xfrm>
        </p:grpSpPr>
        <p:sp>
          <p:nvSpPr>
            <p:cNvPr id="381" name="Oval 62"/>
            <p:cNvSpPr/>
            <p:nvPr/>
          </p:nvSpPr>
          <p:spPr>
            <a:xfrm>
              <a:off x="3048120" y="10666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Oval 63"/>
            <p:cNvSpPr/>
            <p:nvPr/>
          </p:nvSpPr>
          <p:spPr>
            <a:xfrm>
              <a:off x="30481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64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65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66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67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7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388" name="Line 69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70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71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72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7AAB-65BA-4FEF-AA98-C59CF479E23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the min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38088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inimum node cover is the set of nodes incident to the arcs across the cut.   Max-Flow Min-Cut implies the duality theorem for match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3" name="Group 5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444" name="Line 54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Line 55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Line 56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Line 57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Group 62"/>
          <p:cNvGrpSpPr/>
          <p:nvPr/>
        </p:nvGrpSpPr>
        <p:grpSpPr>
          <a:xfrm>
            <a:off x="3048120" y="1066680"/>
            <a:ext cx="2438280" cy="4343400"/>
            <a:chOff x="3048120" y="1066680"/>
            <a:chExt cx="2438280" cy="4343400"/>
          </a:xfrm>
        </p:grpSpPr>
        <p:sp>
          <p:nvSpPr>
            <p:cNvPr id="449" name="Oval 58"/>
            <p:cNvSpPr/>
            <p:nvPr/>
          </p:nvSpPr>
          <p:spPr>
            <a:xfrm>
              <a:off x="3048120" y="205740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59"/>
            <p:cNvSpPr/>
            <p:nvPr/>
          </p:nvSpPr>
          <p:spPr>
            <a:xfrm>
              <a:off x="3048120" y="4876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Oval 60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1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3" name="Group 70"/>
          <p:cNvGrpSpPr/>
          <p:nvPr/>
        </p:nvGrpSpPr>
        <p:grpSpPr>
          <a:xfrm>
            <a:off x="1219320" y="1447920"/>
            <a:ext cx="1828800" cy="3657600"/>
            <a:chOff x="1219320" y="1447920"/>
            <a:chExt cx="1828800" cy="3657600"/>
          </a:xfrm>
        </p:grpSpPr>
        <p:sp>
          <p:nvSpPr>
            <p:cNvPr id="454" name="Oval 63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6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6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6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6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69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1" name="Group 77"/>
          <p:cNvGrpSpPr/>
          <p:nvPr/>
        </p:nvGrpSpPr>
        <p:grpSpPr>
          <a:xfrm>
            <a:off x="5486400" y="1447920"/>
            <a:ext cx="2057400" cy="3657600"/>
            <a:chOff x="5486400" y="1447920"/>
            <a:chExt cx="2057400" cy="3657600"/>
          </a:xfrm>
        </p:grpSpPr>
        <p:sp>
          <p:nvSpPr>
            <p:cNvPr id="462" name="Oval 71"/>
            <p:cNvSpPr/>
            <p:nvPr/>
          </p:nvSpPr>
          <p:spPr>
            <a:xfrm>
              <a:off x="7010280" y="3048120"/>
              <a:ext cx="53352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2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3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4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76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Rectangle 78"/>
          <p:cNvSpPr/>
          <p:nvPr/>
        </p:nvSpPr>
        <p:spPr>
          <a:xfrm>
            <a:off x="914400" y="121932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5500800" y="114300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9B2F-657B-44C6-8E08-10105498780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hilip Hall’s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26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27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28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29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30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31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32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380880" y="5638680"/>
            <a:ext cx="8763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  Hall’s Theorem.  If there is no perfect matching, then there is a set S of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such that |S| &gt; |T| where T are the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adjacent to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Oval 34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Oval 37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38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Oval 40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Oval 4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Oval 4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49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50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5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5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5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5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5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6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6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62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63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Line 64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Line 6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Line 67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68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6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7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7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Line 7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7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Line 7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7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7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7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Line 7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2" name="Group 84"/>
          <p:cNvGrpSpPr/>
          <p:nvPr/>
        </p:nvGrpSpPr>
        <p:grpSpPr>
          <a:xfrm>
            <a:off x="3048120" y="1066680"/>
            <a:ext cx="533160" cy="3429000"/>
            <a:chOff x="3048120" y="1066680"/>
            <a:chExt cx="533160" cy="3429000"/>
          </a:xfrm>
        </p:grpSpPr>
        <p:sp>
          <p:nvSpPr>
            <p:cNvPr id="543" name="Oval 81"/>
            <p:cNvSpPr/>
            <p:nvPr/>
          </p:nvSpPr>
          <p:spPr>
            <a:xfrm>
              <a:off x="3048120" y="106668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048120" y="304776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83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6" name="Group 85"/>
          <p:cNvGrpSpPr/>
          <p:nvPr/>
        </p:nvGrpSpPr>
        <p:grpSpPr>
          <a:xfrm>
            <a:off x="4952880" y="1066680"/>
            <a:ext cx="533520" cy="2514600"/>
            <a:chOff x="4952880" y="1066680"/>
            <a:chExt cx="533520" cy="2514600"/>
          </a:xfrm>
        </p:grpSpPr>
        <p:sp>
          <p:nvSpPr>
            <p:cNvPr id="547" name="Oval 87"/>
            <p:cNvSpPr/>
            <p:nvPr/>
          </p:nvSpPr>
          <p:spPr>
            <a:xfrm>
              <a:off x="4952880" y="10666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Oval 88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9" name="Group 95"/>
          <p:cNvGrpSpPr/>
          <p:nvPr/>
        </p:nvGrpSpPr>
        <p:grpSpPr>
          <a:xfrm>
            <a:off x="3505320" y="1295280"/>
            <a:ext cx="1600200" cy="2895480"/>
            <a:chOff x="3505320" y="1295280"/>
            <a:chExt cx="1600200" cy="2895480"/>
          </a:xfrm>
        </p:grpSpPr>
        <p:sp>
          <p:nvSpPr>
            <p:cNvPr id="550" name="Line 73"/>
            <p:cNvSpPr/>
            <p:nvPr/>
          </p:nvSpPr>
          <p:spPr>
            <a:xfrm>
              <a:off x="3581280" y="1295280"/>
              <a:ext cx="137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74"/>
            <p:cNvSpPr/>
            <p:nvPr/>
          </p:nvSpPr>
          <p:spPr>
            <a:xfrm>
              <a:off x="3581280" y="1523880"/>
              <a:ext cx="1447920" cy="1676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3581280" y="3353040"/>
              <a:ext cx="1447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 flipV="1">
              <a:off x="3505320" y="1523880"/>
              <a:ext cx="1600200" cy="2514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77"/>
            <p:cNvSpPr/>
            <p:nvPr/>
          </p:nvSpPr>
          <p:spPr>
            <a:xfrm flipV="1">
              <a:off x="3581280" y="3504960"/>
              <a:ext cx="1447920" cy="685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neralization of Hall’s Theorem: 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Feasibility for min cost flow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 = (N, A) be a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upply/demand for node i.    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pper bound on flow in (i,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lower bounds ar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469B-17E6-41A7-A4C0-5F93E1FD2FE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34"/>
          <p:cNvSpPr/>
          <p:nvPr/>
        </p:nvSpPr>
        <p:spPr>
          <a:xfrm>
            <a:off x="609480" y="5486400"/>
            <a:ext cx="7239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Either there is a feasible flow in G or else there is a subset S of nodes such t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&gt;  CAP(S, 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9" name="Group 41"/>
          <p:cNvGrpSpPr/>
          <p:nvPr/>
        </p:nvGrpSpPr>
        <p:grpSpPr>
          <a:xfrm>
            <a:off x="838080" y="2971800"/>
            <a:ext cx="8077320" cy="2362320"/>
            <a:chOff x="838080" y="2971800"/>
            <a:chExt cx="8077320" cy="2362320"/>
          </a:xfrm>
        </p:grpSpPr>
        <p:pic>
          <p:nvPicPr>
            <p:cNvPr id="560" name="Group 29" descr=""/>
            <p:cNvPicPr/>
            <p:nvPr/>
          </p:nvPicPr>
          <p:blipFill>
            <a:blip r:embed="rId1"/>
            <a:stretch/>
          </p:blipFill>
          <p:spPr>
            <a:xfrm>
              <a:off x="1438560" y="3493080"/>
              <a:ext cx="1926360" cy="147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Group 28"/>
            <p:cNvGrpSpPr/>
            <p:nvPr/>
          </p:nvGrpSpPr>
          <p:grpSpPr>
            <a:xfrm>
              <a:off x="4723920" y="3200400"/>
              <a:ext cx="1447560" cy="1905120"/>
              <a:chOff x="4723920" y="3200400"/>
              <a:chExt cx="1447560" cy="1905120"/>
            </a:xfrm>
          </p:grpSpPr>
          <p:sp>
            <p:nvSpPr>
              <p:cNvPr id="562" name="Oval 32"/>
              <p:cNvSpPr/>
              <p:nvPr/>
            </p:nvSpPr>
            <p:spPr>
              <a:xfrm rot="5400000">
                <a:off x="5866920" y="34290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Oval 32"/>
              <p:cNvSpPr/>
              <p:nvPr/>
            </p:nvSpPr>
            <p:spPr>
              <a:xfrm rot="5400000">
                <a:off x="5866920" y="41148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Oval 32"/>
              <p:cNvSpPr/>
              <p:nvPr/>
            </p:nvSpPr>
            <p:spPr>
              <a:xfrm rot="5400000">
                <a:off x="5866920" y="47246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32"/>
              <p:cNvSpPr/>
              <p:nvPr/>
            </p:nvSpPr>
            <p:spPr>
              <a:xfrm rot="5400000">
                <a:off x="5333760" y="32004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32"/>
              <p:cNvSpPr/>
              <p:nvPr/>
            </p:nvSpPr>
            <p:spPr>
              <a:xfrm rot="5400000">
                <a:off x="5333760" y="38862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32"/>
              <p:cNvSpPr/>
              <p:nvPr/>
            </p:nvSpPr>
            <p:spPr>
              <a:xfrm rot="5400000">
                <a:off x="5333760" y="44960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Oval 32"/>
              <p:cNvSpPr/>
              <p:nvPr/>
            </p:nvSpPr>
            <p:spPr>
              <a:xfrm rot="5400000">
                <a:off x="4723920" y="3504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Oval 32"/>
              <p:cNvSpPr/>
              <p:nvPr/>
            </p:nvSpPr>
            <p:spPr>
              <a:xfrm rot="5400000">
                <a:off x="4723920" y="419112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Oval 32"/>
              <p:cNvSpPr/>
              <p:nvPr/>
            </p:nvSpPr>
            <p:spPr>
              <a:xfrm rot="5400000">
                <a:off x="4723920" y="4800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1" name="Rounded Rectangle 30"/>
            <p:cNvSpPr/>
            <p:nvPr/>
          </p:nvSpPr>
          <p:spPr>
            <a:xfrm>
              <a:off x="838080" y="3200400"/>
              <a:ext cx="2743200" cy="1981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Rounded Rectangle 31"/>
            <p:cNvSpPr/>
            <p:nvPr/>
          </p:nvSpPr>
          <p:spPr>
            <a:xfrm rot="5400000">
              <a:off x="4533120" y="2933640"/>
              <a:ext cx="2362320" cy="243828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2438280"/>
                <a:gd name="textAreaBottom" fmla="*/ 2323080 h 2438280"/>
              </a:gdLst>
              <a:ahLst/>
              <a:rect l="textAreaLeft" t="textAreaTop" r="textAreaRight" b="textAreaBottom"/>
              <a:pathLst>
                <a:path w="21600" h="22294">
                  <a:moveTo>
                    <a:pt x="3600" y="0"/>
                  </a:moveTo>
                  <a:arcTo wR="3600" hR="3600" stAng="16200000" swAng="-5400000"/>
                  <a:lnTo>
                    <a:pt x="0" y="18694"/>
                  </a:lnTo>
                  <a:arcTo wR="3600" hR="3600" stAng="10800000" swAng="-5400000"/>
                  <a:lnTo>
                    <a:pt x="18000" y="22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Box 32"/>
            <p:cNvSpPr/>
            <p:nvPr/>
          </p:nvSpPr>
          <p:spPr>
            <a:xfrm>
              <a:off x="91404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Box 33"/>
            <p:cNvSpPr/>
            <p:nvPr/>
          </p:nvSpPr>
          <p:spPr>
            <a:xfrm>
              <a:off x="624852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Box 35"/>
            <p:cNvSpPr/>
            <p:nvPr/>
          </p:nvSpPr>
          <p:spPr>
            <a:xfrm>
              <a:off x="716292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 = N\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6" name="Straight Arrow Connector 37"/>
            <p:cNvCxnSpPr/>
            <p:nvPr/>
          </p:nvCxnSpPr>
          <p:spPr>
            <a:xfrm>
              <a:off x="3657600" y="365760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7" name="Straight Arrow Connector 38"/>
            <p:cNvCxnSpPr/>
            <p:nvPr/>
          </p:nvCxnSpPr>
          <p:spPr>
            <a:xfrm>
              <a:off x="3657600" y="396072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8" name="Straight Arrow Connector 39"/>
            <p:cNvCxnSpPr/>
            <p:nvPr/>
          </p:nvCxnSpPr>
          <p:spPr>
            <a:xfrm>
              <a:off x="3657600" y="426564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9" name="Straight Arrow Connector 40"/>
            <p:cNvCxnSpPr/>
            <p:nvPr/>
          </p:nvCxnSpPr>
          <p:spPr>
            <a:xfrm>
              <a:off x="3657600" y="457056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F92E-98CB-44B0-AD38-4B27106538A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etwork Reliabilit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27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cation Networ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aximum number of arc disjoint paths from s to t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we determine this numb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directed graph.  Then the maximum number of arc-disjoint paths from s to t is equal to the minimum number of arcs upon whose deletion there is no directed s-t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0074-9F13-4CB5-BCF0-30B5B69F069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3 arc-disjoint s-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Oval 17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29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30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31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33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5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36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7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8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Line 39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Line 40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Line 4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Line 42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43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Line 44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Line 45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55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56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58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59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6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Line 62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63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Line 64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6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Line 6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Line 68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69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70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7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72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59CB-121B-49EB-AB23-D360453237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3 arcs disconnects s and 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9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4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5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Line 39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60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6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64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65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66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67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68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69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70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7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7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73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2" name="Group 78"/>
          <p:cNvGrpSpPr/>
          <p:nvPr/>
        </p:nvGrpSpPr>
        <p:grpSpPr>
          <a:xfrm>
            <a:off x="1371600" y="3670200"/>
            <a:ext cx="3187800" cy="1968480"/>
            <a:chOff x="1371600" y="3670200"/>
            <a:chExt cx="3187800" cy="1968480"/>
          </a:xfrm>
        </p:grpSpPr>
        <p:sp>
          <p:nvSpPr>
            <p:cNvPr id="723" name="Oval 74"/>
            <p:cNvSpPr/>
            <p:nvPr/>
          </p:nvSpPr>
          <p:spPr>
            <a:xfrm>
              <a:off x="274320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Oval 75"/>
            <p:cNvSpPr/>
            <p:nvPr/>
          </p:nvSpPr>
          <p:spPr>
            <a:xfrm>
              <a:off x="419112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Oval 76"/>
            <p:cNvSpPr/>
            <p:nvPr/>
          </p:nvSpPr>
          <p:spPr>
            <a:xfrm>
              <a:off x="1371600" y="36702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Oval 77"/>
            <p:cNvSpPr/>
            <p:nvPr/>
          </p:nvSpPr>
          <p:spPr>
            <a:xfrm>
              <a:off x="2743200" y="427968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79"/>
          <p:cNvSpPr/>
          <p:nvPr/>
        </p:nvSpPr>
        <p:spPr>
          <a:xfrm>
            <a:off x="914400" y="5943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3, 4, 8}.   The only arcs from 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N\S are the 3 delete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838-2980-4D30-8B3F-C7634183DF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disjoin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 s-t paths P and P' f are said to b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de-disjoi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only nodes in common to P and P' are s and t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one determine the maximum number of node disjoint s-t path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ode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network with no arc from s to t. The maximum number of node-disjoint paths from s to t equals the minimum number of nodes in N\{s,t} whose removal from G disconnects all paths from nodes s to node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6C24-11F2-4974-BD60-AEB72289C46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2 node disjoint s-t path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Oval 46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Oval 47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48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49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0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Oval 51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2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53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54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55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56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Oval 57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Oval 58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Oval 59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Line 61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2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3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4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Line 66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67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8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9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70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71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72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73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74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75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76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77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78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79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80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81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82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3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84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85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87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Text Box 88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89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90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91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92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93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94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95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96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1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4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Line 106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10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108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ACEC-5465-4D90-907B-70E5EACAC1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5 and 6 disconnects t from 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2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40"/>
          <p:cNvSpPr/>
          <p:nvPr/>
        </p:nvSpPr>
        <p:spPr>
          <a:xfrm flipH="1">
            <a:off x="4495680" y="548640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2" name="Group 87"/>
          <p:cNvGrpSpPr/>
          <p:nvPr/>
        </p:nvGrpSpPr>
        <p:grpSpPr>
          <a:xfrm>
            <a:off x="3124080" y="2133720"/>
            <a:ext cx="2514600" cy="914400"/>
            <a:chOff x="3124080" y="2133720"/>
            <a:chExt cx="2514600" cy="914400"/>
          </a:xfrm>
        </p:grpSpPr>
        <p:sp>
          <p:nvSpPr>
            <p:cNvPr id="843" name="Oval 6"/>
            <p:cNvSpPr/>
            <p:nvPr/>
          </p:nvSpPr>
          <p:spPr>
            <a:xfrm>
              <a:off x="4190760" y="214632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44" name="Group 86"/>
            <p:cNvGrpSpPr/>
            <p:nvPr/>
          </p:nvGrpSpPr>
          <p:grpSpPr>
            <a:xfrm>
              <a:off x="3124080" y="2133720"/>
              <a:ext cx="2514600" cy="914400"/>
              <a:chOff x="3124080" y="2133720"/>
              <a:chExt cx="2514600" cy="914400"/>
            </a:xfrm>
          </p:grpSpPr>
          <p:sp>
            <p:nvSpPr>
              <p:cNvPr id="845" name="Line 35"/>
              <p:cNvSpPr/>
              <p:nvPr/>
            </p:nvSpPr>
            <p:spPr>
              <a:xfrm>
                <a:off x="4343400" y="2590920"/>
                <a:ext cx="0" cy="457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4190760" y="213372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Line 60"/>
              <p:cNvSpPr/>
              <p:nvPr/>
            </p:nvSpPr>
            <p:spPr>
              <a:xfrm>
                <a:off x="312408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Line 61"/>
              <p:cNvSpPr/>
              <p:nvPr/>
            </p:nvSpPr>
            <p:spPr>
              <a:xfrm>
                <a:off x="457200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9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1" name="Group 88"/>
          <p:cNvGrpSpPr/>
          <p:nvPr/>
        </p:nvGrpSpPr>
        <p:grpSpPr>
          <a:xfrm>
            <a:off x="3124080" y="3048120"/>
            <a:ext cx="2514600" cy="1295280"/>
            <a:chOff x="3124080" y="3048120"/>
            <a:chExt cx="2514600" cy="1295280"/>
          </a:xfrm>
        </p:grpSpPr>
        <p:sp>
          <p:nvSpPr>
            <p:cNvPr id="852" name="Oval 7"/>
            <p:cNvSpPr/>
            <p:nvPr/>
          </p:nvSpPr>
          <p:spPr>
            <a:xfrm>
              <a:off x="4190760" y="312408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343400" y="35053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51"/>
            <p:cNvSpPr/>
            <p:nvPr/>
          </p:nvSpPr>
          <p:spPr>
            <a:xfrm>
              <a:off x="419076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Line 64"/>
            <p:cNvSpPr/>
            <p:nvPr/>
          </p:nvSpPr>
          <p:spPr>
            <a:xfrm>
              <a:off x="4572000" y="327672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Line 65"/>
            <p:cNvSpPr/>
            <p:nvPr/>
          </p:nvSpPr>
          <p:spPr>
            <a:xfrm>
              <a:off x="3124080" y="335268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Line 68"/>
            <p:cNvSpPr/>
            <p:nvPr/>
          </p:nvSpPr>
          <p:spPr>
            <a:xfrm flipV="1">
              <a:off x="3124080" y="3505320"/>
              <a:ext cx="1143000" cy="838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8" name="Oval 76"/>
          <p:cNvSpPr/>
          <p:nvPr/>
        </p:nvSpPr>
        <p:spPr>
          <a:xfrm>
            <a:off x="2755800" y="22226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Oval 77"/>
          <p:cNvSpPr/>
          <p:nvPr/>
        </p:nvSpPr>
        <p:spPr>
          <a:xfrm>
            <a:off x="2755800" y="3137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Oval 78"/>
          <p:cNvSpPr/>
          <p:nvPr/>
        </p:nvSpPr>
        <p:spPr>
          <a:xfrm>
            <a:off x="275580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Oval 79"/>
          <p:cNvSpPr/>
          <p:nvPr/>
        </p:nvSpPr>
        <p:spPr>
          <a:xfrm>
            <a:off x="420372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Oval 80"/>
          <p:cNvSpPr/>
          <p:nvPr/>
        </p:nvSpPr>
        <p:spPr>
          <a:xfrm>
            <a:off x="1384200" y="36702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Oval 81"/>
          <p:cNvSpPr/>
          <p:nvPr/>
        </p:nvSpPr>
        <p:spPr>
          <a:xfrm>
            <a:off x="2755800" y="4280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Text Box 48"/>
          <p:cNvSpPr/>
          <p:nvPr/>
        </p:nvSpPr>
        <p:spPr>
          <a:xfrm>
            <a:off x="274320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Text Box 83"/>
          <p:cNvSpPr/>
          <p:nvPr/>
        </p:nvSpPr>
        <p:spPr>
          <a:xfrm>
            <a:off x="30492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1, 2, 3, 4, 8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84"/>
          <p:cNvSpPr/>
          <p:nvPr/>
        </p:nvSpPr>
        <p:spPr>
          <a:xfrm>
            <a:off x="3049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 = {7, 9, 10, 11, 12, 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85"/>
          <p:cNvSpPr/>
          <p:nvPr/>
        </p:nvSpPr>
        <p:spPr>
          <a:xfrm>
            <a:off x="4419720" y="5791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directed from S 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F300-A583-49D9-AD67-80571E94AD9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view of the Ford-Fulkerson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28600" y="4343400"/>
            <a:ext cx="8610480" cy="196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x-Flow Min-Cut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Let x* be the final flow with flow value v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S* = {j ∈ N : s ➔ j in G(x*)}.  Let T* = N\S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n x* is a max flow, and (S*, T*) is a minimum cut,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and v* = CAP(S*, T*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4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did ancient Egyptians shave to mourn the death of their ca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ir eyebro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country are the ruins of Troy loca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height of its power (around 400 BCE), Sparta had 25,000 citizens.  How many slaves did it hav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,0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ncient Rome, being born with a crooked nose was considered a sign.  What was it a sign of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adership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Roman emperor Caligula gave a special honor to his horse.  What was the hon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made his horse a senato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id it take for the great wall of China to be buil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900 years. From 5th century BC to the 16th century.   The wall is around 3900 miles long.  It is not visible to the human eye from spa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peedups of the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the path in G(x) with the fewest number of arcs.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rg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a path in G(x) with the greatest capac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9820-527F-4079-9627-8D0BD6574B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short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the fewest number of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E2D4-09EA-4C68-ACE1-C1D7B5E9092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8088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shortest augmenting path algorithm determines a maximum flow in O(nm)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algorithm can be implemented to run in O(n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) ti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Distance Labels:  Let d(i) be the length of the shortest path from i to t in G(x)</a:t>
            </a:r>
            <a:endParaRPr b="1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30C7-82DF-457F-B8D1-000B4D3EAA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Oval 7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Oval 9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Oval 10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Oval 11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Oval 12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Oval 14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Oval 32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Oval 3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Line 34"/>
          <p:cNvSpPr/>
          <p:nvPr/>
        </p:nvSpPr>
        <p:spPr>
          <a:xfrm flipV="1">
            <a:off x="1371600" y="1523520"/>
            <a:ext cx="99072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35"/>
          <p:cNvSpPr/>
          <p:nvPr/>
        </p:nvSpPr>
        <p:spPr>
          <a:xfrm>
            <a:off x="1371600" y="3200400"/>
            <a:ext cx="99072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36"/>
          <p:cNvSpPr/>
          <p:nvPr/>
        </p:nvSpPr>
        <p:spPr>
          <a:xfrm flipV="1">
            <a:off x="2895480" y="3657600"/>
            <a:ext cx="685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37"/>
          <p:cNvSpPr/>
          <p:nvPr/>
        </p:nvSpPr>
        <p:spPr>
          <a:xfrm flipH="1">
            <a:off x="2819520" y="2057400"/>
            <a:ext cx="91440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38"/>
          <p:cNvSpPr/>
          <p:nvPr/>
        </p:nvSpPr>
        <p:spPr>
          <a:xfrm flipV="1">
            <a:off x="2895480" y="2209680"/>
            <a:ext cx="914400" cy="6098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42"/>
          <p:cNvSpPr/>
          <p:nvPr/>
        </p:nvSpPr>
        <p:spPr>
          <a:xfrm>
            <a:off x="5791320" y="29718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5486400" y="1600200"/>
            <a:ext cx="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47"/>
          <p:cNvSpPr/>
          <p:nvPr/>
        </p:nvSpPr>
        <p:spPr>
          <a:xfrm>
            <a:off x="4191120" y="3505320"/>
            <a:ext cx="106668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48"/>
          <p:cNvSpPr/>
          <p:nvPr/>
        </p:nvSpPr>
        <p:spPr>
          <a:xfrm>
            <a:off x="2895480" y="1295280"/>
            <a:ext cx="7621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Line 49"/>
          <p:cNvSpPr/>
          <p:nvPr/>
        </p:nvSpPr>
        <p:spPr>
          <a:xfrm flipV="1">
            <a:off x="4191120" y="1295280"/>
            <a:ext cx="10666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Line 38"/>
          <p:cNvSpPr/>
          <p:nvPr/>
        </p:nvSpPr>
        <p:spPr>
          <a:xfrm>
            <a:off x="2666880" y="312408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Line 43"/>
          <p:cNvSpPr/>
          <p:nvPr/>
        </p:nvSpPr>
        <p:spPr>
          <a:xfrm flipV="1">
            <a:off x="5791320" y="3276720"/>
            <a:ext cx="16761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Line 43"/>
          <p:cNvSpPr/>
          <p:nvPr/>
        </p:nvSpPr>
        <p:spPr>
          <a:xfrm flipV="1">
            <a:off x="5410080" y="32763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Line 43"/>
          <p:cNvSpPr/>
          <p:nvPr/>
        </p:nvSpPr>
        <p:spPr>
          <a:xfrm>
            <a:off x="5638680" y="3124080"/>
            <a:ext cx="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Oval 13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Line 43"/>
          <p:cNvSpPr/>
          <p:nvPr/>
        </p:nvSpPr>
        <p:spPr>
          <a:xfrm>
            <a:off x="5638680" y="160020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Oval 13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Oval 13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Oval 13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Oval 13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Oval 13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Box 66"/>
          <p:cNvSpPr/>
          <p:nvPr/>
        </p:nvSpPr>
        <p:spPr>
          <a:xfrm>
            <a:off x="457200" y="4724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1:   If (i, j)∈ G(x), then d(i) ≤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TextBox 67"/>
          <p:cNvSpPr/>
          <p:nvPr/>
        </p:nvSpPr>
        <p:spPr>
          <a:xfrm>
            <a:off x="4572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2:   Arc (i, j) is on a shortest path from i to 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if and only if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1371600" y="1295280"/>
            <a:ext cx="6095880" cy="2819520"/>
            <a:chOff x="1371600" y="1295280"/>
            <a:chExt cx="6095880" cy="2819520"/>
          </a:xfrm>
        </p:grpSpPr>
        <p:grpSp>
          <p:nvGrpSpPr>
            <p:cNvPr id="926" name="Group 77"/>
            <p:cNvGrpSpPr/>
            <p:nvPr/>
          </p:nvGrpSpPr>
          <p:grpSpPr>
            <a:xfrm>
              <a:off x="1371600" y="1295280"/>
              <a:ext cx="6095880" cy="2819520"/>
              <a:chOff x="1371600" y="1295280"/>
              <a:chExt cx="6095880" cy="2819520"/>
            </a:xfrm>
          </p:grpSpPr>
          <p:sp>
            <p:nvSpPr>
              <p:cNvPr id="927" name="Line 35"/>
              <p:cNvSpPr/>
              <p:nvPr/>
            </p:nvSpPr>
            <p:spPr>
              <a:xfrm>
                <a:off x="1371600" y="3200400"/>
                <a:ext cx="99036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Line 36"/>
              <p:cNvSpPr/>
              <p:nvPr/>
            </p:nvSpPr>
            <p:spPr>
              <a:xfrm flipV="1">
                <a:off x="2895480" y="3657600"/>
                <a:ext cx="6858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38"/>
              <p:cNvSpPr/>
              <p:nvPr/>
            </p:nvSpPr>
            <p:spPr>
              <a:xfrm flipV="1">
                <a:off x="2895480" y="2209320"/>
                <a:ext cx="91440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42"/>
              <p:cNvSpPr/>
              <p:nvPr/>
            </p:nvSpPr>
            <p:spPr>
              <a:xfrm>
                <a:off x="5791320" y="2971800"/>
                <a:ext cx="14475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47"/>
              <p:cNvSpPr/>
              <p:nvPr/>
            </p:nvSpPr>
            <p:spPr>
              <a:xfrm>
                <a:off x="4190760" y="3505320"/>
                <a:ext cx="106668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Line 48"/>
              <p:cNvSpPr/>
              <p:nvPr/>
            </p:nvSpPr>
            <p:spPr>
              <a:xfrm>
                <a:off x="2895480" y="1295280"/>
                <a:ext cx="76176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49"/>
              <p:cNvSpPr/>
              <p:nvPr/>
            </p:nvSpPr>
            <p:spPr>
              <a:xfrm flipV="1">
                <a:off x="4190760" y="1295280"/>
                <a:ext cx="106668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43"/>
              <p:cNvSpPr/>
              <p:nvPr/>
            </p:nvSpPr>
            <p:spPr>
              <a:xfrm flipV="1">
                <a:off x="5791320" y="3276360"/>
                <a:ext cx="1676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Line 43"/>
              <p:cNvSpPr/>
              <p:nvPr/>
            </p:nvSpPr>
            <p:spPr>
              <a:xfrm>
                <a:off x="5638680" y="159984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38"/>
            <p:cNvSpPr/>
            <p:nvPr/>
          </p:nvSpPr>
          <p:spPr>
            <a:xfrm>
              <a:off x="2666880" y="312408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7" name="TextBox 80"/>
          <p:cNvSpPr/>
          <p:nvPr/>
        </p:nvSpPr>
        <p:spPr>
          <a:xfrm>
            <a:off x="457200" y="6091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3:   d(t) = 0;   d(i) &lt; n for all i   s.t.  i ➔ t in G(x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Valid Arcs and Saturating Push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1719-0D6A-4E27-A90F-2E201A8969A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Box 21"/>
          <p:cNvSpPr/>
          <p:nvPr/>
        </p:nvSpPr>
        <p:spPr>
          <a:xfrm>
            <a:off x="304920" y="990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 j) ∈ G(x)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l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7010280" y="36576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434340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7086600" y="2819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48769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76960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400800" y="1676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5562720" y="3276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4038480" y="17524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4568760" y="30322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5715000" y="1752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Oval 17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Oval 18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Oval 19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Oval 20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Oval 21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Oval 22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24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Line 25"/>
          <p:cNvSpPr/>
          <p:nvPr/>
        </p:nvSpPr>
        <p:spPr>
          <a:xfrm flipH="1" flipV="1">
            <a:off x="5333760" y="1599840"/>
            <a:ext cx="99036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26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Line 27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Oval 3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Oval 3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Line 37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Line 39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6629040" y="28954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Line 41"/>
          <p:cNvSpPr/>
          <p:nvPr/>
        </p:nvSpPr>
        <p:spPr>
          <a:xfrm flipH="1" flipV="1">
            <a:off x="3885840" y="3200400"/>
            <a:ext cx="15238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42"/>
          <p:cNvSpPr/>
          <p:nvPr/>
        </p:nvSpPr>
        <p:spPr>
          <a:xfrm flipH="1">
            <a:off x="6019560" y="320040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Oval 4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Oval 46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Oval 50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Line 51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Line 53"/>
          <p:cNvSpPr/>
          <p:nvPr/>
        </p:nvSpPr>
        <p:spPr>
          <a:xfrm flipH="1">
            <a:off x="4038480" y="1752480"/>
            <a:ext cx="85896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Line 54"/>
          <p:cNvSpPr/>
          <p:nvPr/>
        </p:nvSpPr>
        <p:spPr>
          <a:xfrm flipH="1">
            <a:off x="5333760" y="15238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55"/>
          <p:cNvSpPr/>
          <p:nvPr/>
        </p:nvSpPr>
        <p:spPr>
          <a:xfrm flipH="1" flipV="1">
            <a:off x="7391520" y="1828800"/>
            <a:ext cx="8380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Text Box 56"/>
          <p:cNvSpPr/>
          <p:nvPr/>
        </p:nvSpPr>
        <p:spPr>
          <a:xfrm>
            <a:off x="6019920" y="14479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57"/>
          <p:cNvSpPr/>
          <p:nvPr/>
        </p:nvSpPr>
        <p:spPr>
          <a:xfrm>
            <a:off x="4572000" y="19810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Oval 5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Line 6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Oval 6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Line 62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Oval 63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Oval 6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Line 65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Group 66"/>
          <p:cNvGrpSpPr/>
          <p:nvPr/>
        </p:nvGrpSpPr>
        <p:grpSpPr>
          <a:xfrm>
            <a:off x="5334120" y="1295280"/>
            <a:ext cx="1676160" cy="0"/>
            <a:chOff x="5334120" y="1295280"/>
            <a:chExt cx="1676160" cy="0"/>
          </a:xfrm>
        </p:grpSpPr>
        <p:sp>
          <p:nvSpPr>
            <p:cNvPr id="992" name="Line 67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Line 68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4" name="Oval 6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7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6" name="Group 71"/>
          <p:cNvGrpSpPr/>
          <p:nvPr/>
        </p:nvGrpSpPr>
        <p:grpSpPr>
          <a:xfrm>
            <a:off x="3809880" y="1523520"/>
            <a:ext cx="990720" cy="1143000"/>
            <a:chOff x="3809880" y="1523520"/>
            <a:chExt cx="990720" cy="1143000"/>
          </a:xfrm>
        </p:grpSpPr>
        <p:sp>
          <p:nvSpPr>
            <p:cNvPr id="997" name="Line 72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Line 73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9" name="Oval 75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Oval 76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Oval 7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Line 79"/>
          <p:cNvSpPr/>
          <p:nvPr/>
        </p:nvSpPr>
        <p:spPr>
          <a:xfrm>
            <a:off x="4038480" y="2971800"/>
            <a:ext cx="15242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Line 80"/>
          <p:cNvSpPr/>
          <p:nvPr/>
        </p:nvSpPr>
        <p:spPr>
          <a:xfrm flipV="1">
            <a:off x="5867280" y="3123720"/>
            <a:ext cx="3812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Line 81"/>
          <p:cNvSpPr/>
          <p:nvPr/>
        </p:nvSpPr>
        <p:spPr>
          <a:xfrm>
            <a:off x="6553080" y="2743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Box 101"/>
          <p:cNvSpPr/>
          <p:nvPr/>
        </p:nvSpPr>
        <p:spPr>
          <a:xfrm>
            <a:off x="228600" y="2362320"/>
            <a:ext cx="28954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a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:  If P is an augmenting path, then every arc of P is vali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Rectangle 70"/>
          <p:cNvSpPr/>
          <p:nvPr/>
        </p:nvSpPr>
        <p:spPr>
          <a:xfrm>
            <a:off x="152280" y="44956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δ units of flow are sent along P.  The augmenta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turat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c (i, j) ∈ P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δ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number of augmenting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umber of augmenting paths for the shortest augmenting path algorithm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665-3FE5-4CFE-AC9D-8A8140CC82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53352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In every augmenting path, at least one arc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i, j) is satur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533520" y="4267080"/>
            <a:ext cx="8076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theorem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number of times that arc (i, j) is saturated.  Let A be the number of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A 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2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  ≤   n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5335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rc (i, j) and its reversal (j, i) can be saturated at most n/2 times each.  (To be proved later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1.   Each arc (i, j) is saturated fewer than n times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d be the distance labels an iteration where arc (i, j) is saturated.  Suppose that d’ is the vector of distance labels at a subsequent iteration where (i, j) is saturated.  Then n &gt; d’(i) ≥ d(i) + 2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 be proved on next slid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Lemma 1 from 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fore (i, j) can be saturated again, its distance label will increase by at least 2.  Since 0 &lt; d(i) &lt; n, the distance label can increase at most n/2 times.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2019-1370-41D0-9AAF-3F6883BA2F9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2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Let d be the distance labels at some iteration, and let d’ be the distance labels at a subsequent iteration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d’(i) ≥ d(i) for all i ∈ N.      (to be proved on next slid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D8E7-6D90-4187-A5F8-8E1E92F3BA1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Content Placeholder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2 from 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Suppose that (i, j) is saturated when d(i) = k.  There is no more flow in (i, j) until flow is sent in (j, i) at which point the distance label of j is k+1.   But flow cannot be returned in (i, j) until it is valid again, and the distance label is at least k+2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0" name="Group 15"/>
          <p:cNvGrpSpPr/>
          <p:nvPr/>
        </p:nvGrpSpPr>
        <p:grpSpPr>
          <a:xfrm>
            <a:off x="380880" y="4343400"/>
            <a:ext cx="2971800" cy="914400"/>
            <a:chOff x="380880" y="4343400"/>
            <a:chExt cx="2971800" cy="914400"/>
          </a:xfrm>
        </p:grpSpPr>
        <p:sp>
          <p:nvSpPr>
            <p:cNvPr id="1021" name="Oval 64"/>
            <p:cNvSpPr/>
            <p:nvPr/>
          </p:nvSpPr>
          <p:spPr>
            <a:xfrm>
              <a:off x="25909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Oval 69"/>
            <p:cNvSpPr/>
            <p:nvPr/>
          </p:nvSpPr>
          <p:spPr>
            <a:xfrm>
              <a:off x="38088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Line 70"/>
            <p:cNvSpPr/>
            <p:nvPr/>
          </p:nvSpPr>
          <p:spPr>
            <a:xfrm>
              <a:off x="91404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Content Placeholder 2"/>
            <p:cNvSpPr/>
            <p:nvPr/>
          </p:nvSpPr>
          <p:spPr>
            <a:xfrm>
              <a:off x="456840" y="4343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Content Placeholder 2"/>
            <p:cNvSpPr/>
            <p:nvPr/>
          </p:nvSpPr>
          <p:spPr>
            <a:xfrm>
              <a:off x="2590920" y="4343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6" name="Group 16"/>
          <p:cNvGrpSpPr/>
          <p:nvPr/>
        </p:nvGrpSpPr>
        <p:grpSpPr>
          <a:xfrm>
            <a:off x="4419720" y="4267080"/>
            <a:ext cx="2971800" cy="990720"/>
            <a:chOff x="4419720" y="4267080"/>
            <a:chExt cx="2971800" cy="990720"/>
          </a:xfrm>
        </p:grpSpPr>
        <p:sp>
          <p:nvSpPr>
            <p:cNvPr id="1027" name="Oval 64"/>
            <p:cNvSpPr/>
            <p:nvPr/>
          </p:nvSpPr>
          <p:spPr>
            <a:xfrm>
              <a:off x="662976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Oval 69"/>
            <p:cNvSpPr/>
            <p:nvPr/>
          </p:nvSpPr>
          <p:spPr>
            <a:xfrm>
              <a:off x="44197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Line 70"/>
            <p:cNvSpPr/>
            <p:nvPr/>
          </p:nvSpPr>
          <p:spPr>
            <a:xfrm flipH="1">
              <a:off x="495252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Content Placeholder 2"/>
            <p:cNvSpPr/>
            <p:nvPr/>
          </p:nvSpPr>
          <p:spPr>
            <a:xfrm>
              <a:off x="4495680" y="43430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Content Placeholder 2"/>
            <p:cNvSpPr/>
            <p:nvPr/>
          </p:nvSpPr>
          <p:spPr>
            <a:xfrm>
              <a:off x="6629760" y="4267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2" name="Group 17"/>
          <p:cNvGrpSpPr/>
          <p:nvPr/>
        </p:nvGrpSpPr>
        <p:grpSpPr>
          <a:xfrm>
            <a:off x="4495680" y="5638680"/>
            <a:ext cx="2895840" cy="914400"/>
            <a:chOff x="4495680" y="5638680"/>
            <a:chExt cx="2895840" cy="914400"/>
          </a:xfrm>
        </p:grpSpPr>
        <p:sp>
          <p:nvSpPr>
            <p:cNvPr id="1033" name="Oval 64"/>
            <p:cNvSpPr/>
            <p:nvPr/>
          </p:nvSpPr>
          <p:spPr>
            <a:xfrm>
              <a:off x="670572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Oval 69"/>
            <p:cNvSpPr/>
            <p:nvPr/>
          </p:nvSpPr>
          <p:spPr>
            <a:xfrm>
              <a:off x="449568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Line 70"/>
            <p:cNvSpPr/>
            <p:nvPr/>
          </p:nvSpPr>
          <p:spPr>
            <a:xfrm>
              <a:off x="5028840" y="624816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Content Placeholder 2"/>
            <p:cNvSpPr/>
            <p:nvPr/>
          </p:nvSpPr>
          <p:spPr>
            <a:xfrm>
              <a:off x="4495680" y="56386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Content Placeholder 2"/>
            <p:cNvSpPr/>
            <p:nvPr/>
          </p:nvSpPr>
          <p:spPr>
            <a:xfrm>
              <a:off x="6629400" y="563868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 that Lemma 3 is false.  Let d be the distance labels at some iteration.  Let P be the augmenting path.  After the augmentation, the reversals of arcs in P are in the residual network.  But adding these arcs to G(x) does not decrease any distance.  And deleting arcs of P cannot decrease a distance label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A96F-89EA-4D62-9B2F-214AC27A680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7"/>
          <p:cNvSpPr/>
          <p:nvPr/>
        </p:nvSpPr>
        <p:spPr>
          <a:xfrm>
            <a:off x="1362240" y="327672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8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9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Oval 10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Oval 11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Oval 12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Oval 14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Oval 32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Oval 3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4"/>
          <p:cNvSpPr/>
          <p:nvPr/>
        </p:nvSpPr>
        <p:spPr>
          <a:xfrm flipV="1">
            <a:off x="576360" y="3639960"/>
            <a:ext cx="785880" cy="966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7"/>
          <p:cNvSpPr/>
          <p:nvPr/>
        </p:nvSpPr>
        <p:spPr>
          <a:xfrm flipH="1">
            <a:off x="1723680" y="4062240"/>
            <a:ext cx="7254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 flipV="1">
            <a:off x="3840120" y="3700080"/>
            <a:ext cx="0" cy="785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3780000" y="5030280"/>
            <a:ext cx="0" cy="482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3"/>
          <p:cNvSpPr/>
          <p:nvPr/>
        </p:nvSpPr>
        <p:spPr>
          <a:xfrm>
            <a:off x="3960720" y="4908600"/>
            <a:ext cx="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Oval 1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Oval 13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Oval 13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13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13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Oval 13"/>
          <p:cNvSpPr/>
          <p:nvPr/>
        </p:nvSpPr>
        <p:spPr>
          <a:xfrm>
            <a:off x="1371600" y="3276720"/>
            <a:ext cx="42372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Oval 13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Oval 13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36"/>
          <p:cNvSpPr/>
          <p:nvPr/>
        </p:nvSpPr>
        <p:spPr>
          <a:xfrm flipV="1">
            <a:off x="1784520" y="5351400"/>
            <a:ext cx="544320" cy="36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47"/>
          <p:cNvSpPr/>
          <p:nvPr/>
        </p:nvSpPr>
        <p:spPr>
          <a:xfrm>
            <a:off x="2813040" y="5230800"/>
            <a:ext cx="846000" cy="423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52"/>
          <p:cNvSpPr/>
          <p:nvPr/>
        </p:nvSpPr>
        <p:spPr>
          <a:xfrm>
            <a:off x="5486400" y="3352680"/>
            <a:ext cx="31240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ing path: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s-3-5-8-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Rectangle 54"/>
          <p:cNvSpPr/>
          <p:nvPr/>
        </p:nvSpPr>
        <p:spPr>
          <a:xfrm>
            <a:off x="373608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Rectangle 55"/>
          <p:cNvSpPr/>
          <p:nvPr/>
        </p:nvSpPr>
        <p:spPr>
          <a:xfrm>
            <a:off x="244044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137376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58"/>
          <p:cNvSpPr/>
          <p:nvPr/>
        </p:nvSpPr>
        <p:spPr>
          <a:xfrm>
            <a:off x="533628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59"/>
          <p:cNvSpPr/>
          <p:nvPr/>
        </p:nvSpPr>
        <p:spPr>
          <a:xfrm>
            <a:off x="230760" y="4114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35"/>
          <p:cNvSpPr/>
          <p:nvPr/>
        </p:nvSpPr>
        <p:spPr>
          <a:xfrm flipH="1" flipV="1">
            <a:off x="531360" y="519696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36"/>
          <p:cNvSpPr/>
          <p:nvPr/>
        </p:nvSpPr>
        <p:spPr>
          <a:xfrm flipH="1">
            <a:off x="1740960" y="5559480"/>
            <a:ext cx="54324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Line 47"/>
          <p:cNvSpPr/>
          <p:nvPr/>
        </p:nvSpPr>
        <p:spPr>
          <a:xfrm flipH="1" flipV="1">
            <a:off x="2743200" y="5410080"/>
            <a:ext cx="8460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Line 43"/>
          <p:cNvSpPr/>
          <p:nvPr/>
        </p:nvSpPr>
        <p:spPr>
          <a:xfrm flipH="1">
            <a:off x="4114440" y="5257800"/>
            <a:ext cx="133020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verview of this lect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 flow and min 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ups of the max flow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AA39-8896-42E2-A320-AE7F4D4BAF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rg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33520" y="990360"/>
            <a:ext cx="7727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Edmonds-Karp).  Suppose that one augments along the augmentation with the largest residual capacity.  Then the maximum flow is determined after O(m log U) augmenting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find the maximum augmenting path is O(m log m).   (Why?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the total running time is O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m log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00E7-B98E-407A-A6E5-5528A940A1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ing the largest augmenting pat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ort the capacities in the residual network.  Suppose that sorted capacitie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 be the residual network as restricted to arcs with capacity at leas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inary search to find the largest value j so that there is a path from s to t in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7755-0320-4E0F-B0CD-FD51C9E18B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304920" y="4952880"/>
            <a:ext cx="8001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ation for the proof of the 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  Let v* be the maximum flow value out of s. Let 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amount of flow out of s immediately prior to the k-th augmentation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capacity of the k-th augmenta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emma 4 and Lemma 5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560" y="243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Theorem from Lemma 5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largest initial augmentation is at most U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2 for some k ≤ 2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4 for some k ≤ 4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 can show using induction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1  for some k ≤ 2m(⎡log U⎤+1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capacities are always integer valued.  So, there are at most  2m (log U+1) augmentation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3C3-A7D8-423D-AF4C-9D890A1E77E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Content Placeholder 2"/>
          <p:cNvSpPr/>
          <p:nvPr/>
        </p:nvSpPr>
        <p:spPr>
          <a:xfrm>
            <a:off x="30492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there exists k’ &lt; k + 2m such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’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l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Content Placeholder 2"/>
          <p:cNvSpPr/>
          <p:nvPr/>
        </p:nvSpPr>
        <p:spPr>
          <a:xfrm>
            <a:off x="304920" y="9144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(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/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s of Lemmas 4 and 5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5C18-8FD6-4369-B7FA-1C642B158C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304920" y="990720"/>
            <a:ext cx="8381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arc flows prior to the k-th iteration.  Then the max flow out of s in G(x’) is (v* - v’).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y be the maximum flow in G(x’).   The flow decomposition of y has most m paths from s to t.   The sum of these flows is (v* - v’) and so the maximum of the capacities of these paths is at least (v* - v’)/m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228600" y="42670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the theorem is false.  Suppose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 for j = k to k+2m.  The total amount of flow sent from s during these iterations is greater than 2m(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)  &gt; 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s is impossible, and so the lemma is true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Geometric convergence argument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240" y="9903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ppose that any algorithm for a maximization problem has objective valu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eration k, and let v* be the optimum value.  Suppose there is some positive integer B such that for all k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.      Then for all 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gt;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1904-2DA7-46F1-91C5-12E8274EDC0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Content Placeholder 2"/>
          <p:cNvSpPr/>
          <p:nvPr/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by contradi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Suppose th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≤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   By assump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j from k to k+2B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 ≥ 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B.  T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14" name="Object 2"/>
          <p:cNvGraphicFramePr/>
          <p:nvPr/>
        </p:nvGraphicFramePr>
        <p:xfrm>
          <a:off x="685800" y="5943600"/>
          <a:ext cx="68198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943600"/>
                    <a:ext cx="681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hort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Larg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convergence arg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BF5F-3222-4C1E-A31D-539E83AA6D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9449-BD29-4DEA-AD7F-47EE61E19E8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1219320"/>
            <a:ext cx="396216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directed networ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= (N, A)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part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N can be partitioned into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 that for every arc (i,j), i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j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3505320"/>
            <a:ext cx="3809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N is a set of arcs no two of which are incident to a common n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510552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matching of maximum cardi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05" name="Oval 7"/>
            <p:cNvSpPr/>
            <p:nvPr/>
          </p:nvSpPr>
          <p:spPr>
            <a:xfrm>
              <a:off x="495288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495288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495288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495288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685800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685800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685800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85800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685800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5410080" y="2971800"/>
              <a:ext cx="152424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5334120" y="3048120"/>
              <a:ext cx="1600200" cy="2361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V="1">
              <a:off x="5486400" y="396216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126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4572000" y="1066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670572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B588-5D6B-4797-AFBA-D687834861F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Cover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920" y="1219320"/>
            <a:ext cx="396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ubset S of nodes such that each arc of G is incident to a node of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3048120"/>
            <a:ext cx="381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node cover of minimum cardina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37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158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Box 32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Box 33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4" name="Group 44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65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334120" y="2743200"/>
            <a:ext cx="1676160" cy="2819520"/>
            <a:chOff x="5334120" y="2743200"/>
            <a:chExt cx="1676160" cy="2819520"/>
          </a:xfrm>
        </p:grpSpPr>
        <p:sp>
          <p:nvSpPr>
            <p:cNvPr id="17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5410080" y="2971800"/>
              <a:ext cx="1523880" cy="1524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334120" y="3047760"/>
              <a:ext cx="1600200" cy="236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V="1">
              <a:off x="5410080" y="2971800"/>
              <a:ext cx="160020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 Duality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0983-AF89-4C42-A854-22643AD6FC0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1219320"/>
            <a:ext cx="3962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önig-Egerváry.   The maximum cardinality of a matching is equal to the minimum cardinality of a node cover.  (Proof in 4 slid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0880" y="3581280"/>
            <a:ext cx="381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very node cover has at least as many nodes as any matching because each matched edge is incident to a different node of the node cov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80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0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201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Box 28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Box 29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7" name="Group 33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208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213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How to find a minimum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196D-8EA6-40C1-8855-C46C471E493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09480" y="1295280"/>
            <a:ext cx="281952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PUT: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iginal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876920" y="1295280"/>
            <a:ext cx="281916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 into a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876920" y="3276720"/>
            <a:ext cx="281916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lve the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3276720"/>
            <a:ext cx="281952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752480" y="5257800"/>
            <a:ext cx="495324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cut to 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node co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ight Arrow 8"/>
          <p:cNvSpPr/>
          <p:nvPr/>
        </p:nvSpPr>
        <p:spPr>
          <a:xfrm>
            <a:off x="3581280" y="1676520"/>
            <a:ext cx="12193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ight Arrow 9"/>
          <p:cNvSpPr/>
          <p:nvPr/>
        </p:nvSpPr>
        <p:spPr>
          <a:xfrm flipH="1">
            <a:off x="3505320" y="3581280"/>
            <a:ext cx="1218960" cy="5335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Down Arrow 10"/>
          <p:cNvSpPr/>
          <p:nvPr/>
        </p:nvSpPr>
        <p:spPr>
          <a:xfrm>
            <a:off x="5943600" y="243828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Down Arrow 11"/>
          <p:cNvSpPr/>
          <p:nvPr/>
        </p:nvSpPr>
        <p:spPr>
          <a:xfrm>
            <a:off x="2362320" y="4419720"/>
            <a:ext cx="457200" cy="7617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AB19-FB69-44BC-8C2F-F329C4A9913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ving the Matching Problem as a Max Flow Probl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val 3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Oval 33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1600200" y="1447920"/>
            <a:ext cx="1447920" cy="3657600"/>
            <a:chOff x="1600200" y="1447920"/>
            <a:chExt cx="1447920" cy="3657600"/>
          </a:xfrm>
        </p:grpSpPr>
        <p:sp>
          <p:nvSpPr>
            <p:cNvPr id="253" name="Line 3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59"/>
          <p:cNvGrpSpPr/>
          <p:nvPr/>
        </p:nvGrpSpPr>
        <p:grpSpPr>
          <a:xfrm>
            <a:off x="5486400" y="1447920"/>
            <a:ext cx="1676520" cy="3657600"/>
            <a:chOff x="5486400" y="1447920"/>
            <a:chExt cx="1676520" cy="3657600"/>
          </a:xfrm>
        </p:grpSpPr>
        <p:sp>
          <p:nvSpPr>
            <p:cNvPr id="259" name="Line 39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Line 41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42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Line 43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3429000" y="1295280"/>
            <a:ext cx="1676520" cy="3810240"/>
            <a:chOff x="3429000" y="1295280"/>
            <a:chExt cx="1676520" cy="3810240"/>
          </a:xfrm>
        </p:grpSpPr>
        <p:grpSp>
          <p:nvGrpSpPr>
            <p:cNvPr id="265" name="Group 56"/>
            <p:cNvGrpSpPr/>
            <p:nvPr/>
          </p:nvGrpSpPr>
          <p:grpSpPr>
            <a:xfrm>
              <a:off x="3505320" y="1295280"/>
              <a:ext cx="1600200" cy="3810240"/>
              <a:chOff x="3505320" y="1295280"/>
              <a:chExt cx="1600200" cy="3810240"/>
            </a:xfrm>
          </p:grpSpPr>
          <p:sp>
            <p:nvSpPr>
              <p:cNvPr id="266" name="Line 44"/>
              <p:cNvSpPr/>
              <p:nvPr/>
            </p:nvSpPr>
            <p:spPr>
              <a:xfrm>
                <a:off x="3581280" y="228600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5"/>
              <p:cNvSpPr/>
              <p:nvPr/>
            </p:nvSpPr>
            <p:spPr>
              <a:xfrm>
                <a:off x="3505320" y="2514600"/>
                <a:ext cx="1523880" cy="1523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Line 46"/>
              <p:cNvSpPr/>
              <p:nvPr/>
            </p:nvSpPr>
            <p:spPr>
              <a:xfrm>
                <a:off x="3581280" y="510552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Line 47"/>
              <p:cNvSpPr/>
              <p:nvPr/>
            </p:nvSpPr>
            <p:spPr>
              <a:xfrm flipV="1">
                <a:off x="3505320" y="2514240"/>
                <a:ext cx="1600200" cy="2438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Line 48"/>
              <p:cNvSpPr/>
              <p:nvPr/>
            </p:nvSpPr>
            <p:spPr>
              <a:xfrm>
                <a:off x="3581280" y="129528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Line 49"/>
              <p:cNvSpPr/>
              <p:nvPr/>
            </p:nvSpPr>
            <p:spPr>
              <a:xfrm>
                <a:off x="3581280" y="1523880"/>
                <a:ext cx="1447920" cy="1676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Line 50"/>
              <p:cNvSpPr/>
              <p:nvPr/>
            </p:nvSpPr>
            <p:spPr>
              <a:xfrm>
                <a:off x="3581280" y="3352680"/>
                <a:ext cx="14479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Line 51"/>
              <p:cNvSpPr/>
              <p:nvPr/>
            </p:nvSpPr>
            <p:spPr>
              <a:xfrm flipV="1">
                <a:off x="3505320" y="1523520"/>
                <a:ext cx="1600200" cy="2514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Line 52"/>
              <p:cNvSpPr/>
              <p:nvPr/>
            </p:nvSpPr>
            <p:spPr>
              <a:xfrm flipV="1">
                <a:off x="3581280" y="3504960"/>
                <a:ext cx="1447920" cy="68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54"/>
            <p:cNvSpPr/>
            <p:nvPr/>
          </p:nvSpPr>
          <p:spPr>
            <a:xfrm>
              <a:off x="3429000" y="2590920"/>
              <a:ext cx="1600200" cy="2361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Text Box 60"/>
          <p:cNvSpPr/>
          <p:nvPr/>
        </p:nvSpPr>
        <p:spPr>
          <a:xfrm>
            <a:off x="533520" y="562464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s, i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j, t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61"/>
          <p:cNvSpPr/>
          <p:nvPr/>
        </p:nvSpPr>
        <p:spPr>
          <a:xfrm>
            <a:off x="6095880" y="5105520"/>
            <a:ext cx="2590920" cy="1557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place original arcs by directed arcs with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5D96-34AF-4980-AD9C-EB8F4EB069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a max flow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1752480" y="56246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imum s-t flow is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 matching has cardinalit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26:29Z</dcterms:created>
  <dc:creator>Jim Orlin</dc:creator>
  <dc:description/>
  <dc:language>en-US</dc:language>
  <cp:lastModifiedBy>Sheenu Arora</cp:lastModifiedBy>
  <cp:lastPrinted>2010-10-13T19:28:07Z</cp:lastPrinted>
  <dcterms:modified xsi:type="dcterms:W3CDTF">2011-01-19T06:46:44Z</dcterms:modified>
  <cp:revision>51</cp:revision>
  <dc:subject/>
  <dc:title>15.082        Spring 1998</dc:title>
</cp:coreProperties>
</file>