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0F858C-CA1F-49B8-BB42-C438CDB69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9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3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velop 2 models based on IFAM, namely,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7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employ an iterative solution algorithm.  The algorithm works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9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implement ou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3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now present an overview of the airline schedule planning process.  It begins with schedule design, in which…  Next is fleet assignment, in which…. 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ircraft routing, in which…. And the last is crew scheduling, in which….  We will now move to 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ou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k at the fleet assignment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moving to th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schedule design.  Our approach to the schedule design problem is increme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pproach similar to the state of the practice.  The only difference is that we use model to select flights while airlines use human to select fl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7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velop 2 models based on IFAM, namely,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D09-3F9B-4AEE-9737-61143862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5B8-AABE-4001-A8CA-8E3DC072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3BC-53D9-46F4-8DE3-CA49F46C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245-E320-4268-A973-A727B397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73D-7864-4C82-9C85-FCFB426F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241-9718-4125-A537-7D456BCB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559-48A4-45E9-9385-AE8F4852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EF9-B393-4211-926D-AAF7E9CE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0D8-59E1-4075-9782-999B57AD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2501-64FB-4218-9ED8-DAE474BD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2D1-4B54-4883-8FB1-43795445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810-9764-4063-9ACD-94BC0427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41B5-CE88-4AF0-961B-D9F0CE16919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327B-DF83-4A8D-83E7-D4ABABC542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: Exampl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98560" y="1332000"/>
            <a:ext cx="5486040" cy="1944720"/>
            <a:chOff x="898560" y="1332000"/>
            <a:chExt cx="5486040" cy="1944720"/>
          </a:xfrm>
        </p:grpSpPr>
        <p:grpSp>
          <p:nvGrpSpPr>
            <p:cNvPr id="157" name=""/>
            <p:cNvGrpSpPr/>
            <p:nvPr/>
          </p:nvGrpSpPr>
          <p:grpSpPr>
            <a:xfrm>
              <a:off x="4022640" y="1447920"/>
              <a:ext cx="2361960" cy="1828800"/>
              <a:chOff x="4022640" y="1447920"/>
              <a:chExt cx="2361960" cy="1828800"/>
            </a:xfrm>
          </p:grpSpPr>
          <p:sp>
            <p:nvSpPr>
              <p:cNvPr id="158" name=""/>
              <p:cNvSpPr/>
              <p:nvPr/>
            </p:nvSpPr>
            <p:spPr>
              <a:xfrm>
                <a:off x="4022640" y="14479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7400" y="14479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403880" y="1752480"/>
              <a:ext cx="1600200" cy="381240"/>
              <a:chOff x="4403880" y="1752480"/>
              <a:chExt cx="1600200" cy="381240"/>
            </a:xfrm>
          </p:grpSpPr>
          <p:sp>
            <p:nvSpPr>
              <p:cNvPr id="161" name=""/>
              <p:cNvSpPr/>
              <p:nvPr/>
            </p:nvSpPr>
            <p:spPr>
              <a:xfrm>
                <a:off x="4403880" y="17524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80200" y="213372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403880" y="2514600"/>
              <a:ext cx="1600200" cy="380880"/>
              <a:chOff x="4403880" y="2514600"/>
              <a:chExt cx="1600200" cy="380880"/>
            </a:xfrm>
          </p:grpSpPr>
          <p:sp>
            <p:nvSpPr>
              <p:cNvPr id="164" name=""/>
              <p:cNvSpPr/>
              <p:nvPr/>
            </p:nvSpPr>
            <p:spPr>
              <a:xfrm>
                <a:off x="4480200" y="251460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03880" y="28954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898560" y="1905120"/>
              <a:ext cx="2186280" cy="1114560"/>
              <a:chOff x="898560" y="1905120"/>
              <a:chExt cx="2186280" cy="1114560"/>
            </a:xfrm>
          </p:grpSpPr>
          <p:sp>
            <p:nvSpPr>
              <p:cNvPr id="167" name=""/>
              <p:cNvSpPr/>
              <p:nvPr/>
            </p:nvSpPr>
            <p:spPr>
              <a:xfrm>
                <a:off x="898560" y="1905120"/>
                <a:ext cx="218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Market Shar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49360" y="2438280"/>
                <a:ext cx="73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45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108240" y="1332000"/>
              <a:ext cx="2352600" cy="1642320"/>
              <a:chOff x="3108240" y="1332000"/>
              <a:chExt cx="2352600" cy="1642320"/>
            </a:xfrm>
          </p:grpSpPr>
          <p:sp>
            <p:nvSpPr>
              <p:cNvPr id="170" name=""/>
              <p:cNvSpPr/>
              <p:nvPr/>
            </p:nvSpPr>
            <p:spPr>
              <a:xfrm>
                <a:off x="4848120" y="13320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48120" y="171288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63960" y="209376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63960" y="25146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08240" y="1981080"/>
                <a:ext cx="685800" cy="45720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838080" y="4419720"/>
            <a:ext cx="2186280" cy="1114560"/>
            <a:chOff x="838080" y="4419720"/>
            <a:chExt cx="2186280" cy="1114560"/>
          </a:xfrm>
        </p:grpSpPr>
        <p:sp>
          <p:nvSpPr>
            <p:cNvPr id="176" name=""/>
            <p:cNvSpPr/>
            <p:nvPr/>
          </p:nvSpPr>
          <p:spPr>
            <a:xfrm>
              <a:off x="838080" y="44197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5320" y="495288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5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124080" y="3922560"/>
            <a:ext cx="2352600" cy="2252160"/>
            <a:chOff x="3124080" y="3922560"/>
            <a:chExt cx="2352600" cy="2252160"/>
          </a:xfrm>
        </p:grpSpPr>
        <p:sp>
          <p:nvSpPr>
            <p:cNvPr id="179" name=""/>
            <p:cNvSpPr/>
            <p:nvPr/>
          </p:nvSpPr>
          <p:spPr>
            <a:xfrm>
              <a:off x="4863960" y="3922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3034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9800" y="46846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9800" y="5715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4572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724280" y="4338720"/>
            <a:ext cx="1122480" cy="1756800"/>
            <a:chOff x="4724280" y="4338720"/>
            <a:chExt cx="1122480" cy="1756800"/>
          </a:xfrm>
        </p:grpSpPr>
        <p:sp>
          <p:nvSpPr>
            <p:cNvPr id="185" name=""/>
            <p:cNvSpPr/>
            <p:nvPr/>
          </p:nvSpPr>
          <p:spPr>
            <a:xfrm>
              <a:off x="4724280" y="5105160"/>
              <a:ext cx="344520" cy="647640"/>
            </a:xfrm>
            <a:custGeom>
              <a:avLst/>
              <a:gdLst/>
              <a:ahLst/>
              <a:rect l="l" t="t" r="r" b="b"/>
              <a:pathLst>
                <a:path w="217" h="408">
                  <a:moveTo>
                    <a:pt x="217" y="408"/>
                  </a:moveTo>
                  <a:cubicBezTo>
                    <a:pt x="188" y="380"/>
                    <a:pt x="62" y="308"/>
                    <a:pt x="31" y="240"/>
                  </a:cubicBezTo>
                  <a:cubicBezTo>
                    <a:pt x="0" y="172"/>
                    <a:pt x="19" y="84"/>
                    <a:pt x="31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54560" y="4738680"/>
              <a:ext cx="344520" cy="985320"/>
            </a:xfrm>
            <a:custGeom>
              <a:avLst/>
              <a:gdLst/>
              <a:ahLst/>
              <a:rect l="l" t="t" r="r" b="b"/>
              <a:pathLst>
                <a:path w="217" h="621">
                  <a:moveTo>
                    <a:pt x="0" y="621"/>
                  </a:moveTo>
                  <a:cubicBezTo>
                    <a:pt x="31" y="581"/>
                    <a:pt x="161" y="472"/>
                    <a:pt x="189" y="369"/>
                  </a:cubicBezTo>
                  <a:cubicBezTo>
                    <a:pt x="217" y="266"/>
                    <a:pt x="175" y="77"/>
                    <a:pt x="171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83080" y="4338720"/>
              <a:ext cx="463680" cy="1376280"/>
            </a:xfrm>
            <a:custGeom>
              <a:avLst/>
              <a:gdLst/>
              <a:ahLst/>
              <a:rect l="l" t="t" r="r" b="b"/>
              <a:pathLst>
                <a:path w="292" h="867">
                  <a:moveTo>
                    <a:pt x="0" y="867"/>
                  </a:moveTo>
                  <a:cubicBezTo>
                    <a:pt x="42" y="826"/>
                    <a:pt x="212" y="765"/>
                    <a:pt x="252" y="621"/>
                  </a:cubicBezTo>
                  <a:cubicBezTo>
                    <a:pt x="292" y="477"/>
                    <a:pt x="245" y="129"/>
                    <a:pt x="243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952880" y="5790960"/>
              <a:ext cx="457200" cy="30456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629400" y="3922560"/>
            <a:ext cx="2361960" cy="1944720"/>
            <a:chOff x="6629400" y="3922560"/>
            <a:chExt cx="2361960" cy="1944720"/>
          </a:xfrm>
        </p:grpSpPr>
        <p:grpSp>
          <p:nvGrpSpPr>
            <p:cNvPr id="190" name=""/>
            <p:cNvGrpSpPr/>
            <p:nvPr/>
          </p:nvGrpSpPr>
          <p:grpSpPr>
            <a:xfrm>
              <a:off x="6629400" y="4038480"/>
              <a:ext cx="2361960" cy="1828800"/>
              <a:chOff x="6629400" y="4038480"/>
              <a:chExt cx="2361960" cy="18288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6629400" y="4038480"/>
                <a:ext cx="2361960" cy="1828800"/>
                <a:chOff x="6629400" y="4038480"/>
                <a:chExt cx="2361960" cy="1828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62940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53416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7004160" y="4343400"/>
                <a:ext cx="1600200" cy="380880"/>
                <a:chOff x="7004160" y="4343400"/>
                <a:chExt cx="1600200" cy="3808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004160" y="43434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080480" y="47242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7086600" y="5105160"/>
                <a:ext cx="144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027920" y="392256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0000" y="429588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0000" y="469116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038480" y="4038480"/>
            <a:ext cx="2361960" cy="2210040"/>
            <a:chOff x="4038480" y="4038480"/>
            <a:chExt cx="2361960" cy="2210040"/>
          </a:xfrm>
        </p:grpSpPr>
        <p:grpSp>
          <p:nvGrpSpPr>
            <p:cNvPr id="202" name=""/>
            <p:cNvGrpSpPr/>
            <p:nvPr/>
          </p:nvGrpSpPr>
          <p:grpSpPr>
            <a:xfrm>
              <a:off x="4038480" y="4038480"/>
              <a:ext cx="2361960" cy="1828800"/>
              <a:chOff x="4038480" y="4038480"/>
              <a:chExt cx="2361960" cy="18288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4038480" y="4038480"/>
                <a:ext cx="2361960" cy="1828800"/>
                <a:chOff x="4038480" y="4038480"/>
                <a:chExt cx="2361960" cy="18288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03848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94324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413240" y="4343400"/>
                <a:ext cx="1600200" cy="380880"/>
                <a:chOff x="4413240" y="4343400"/>
                <a:chExt cx="1600200" cy="3808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413240" y="43434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489560" y="47242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4495680" y="5105160"/>
                <a:ext cx="144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419720" y="624852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F48-D742-40AC-9C68-970E8873B7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C8F2E-3F2B-4655-A9AF-C050D35852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C6A-325F-49D5-BCB1-F4024359952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A0EDF-B4C2-4EEF-9AD7-2848ADEEF8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09680" y="2424240"/>
            <a:ext cx="6096240" cy="4856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 Narrow"/>
              </a:rPr>
              <a:t>Flight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47920" y="1295280"/>
            <a:ext cx="6858000" cy="2819520"/>
            <a:chOff x="1447920" y="1295280"/>
            <a:chExt cx="6858000" cy="2819520"/>
          </a:xfrm>
        </p:grpSpPr>
        <p:sp>
          <p:nvSpPr>
            <p:cNvPr id="217" name=""/>
            <p:cNvSpPr/>
            <p:nvPr/>
          </p:nvSpPr>
          <p:spPr>
            <a:xfrm>
              <a:off x="1447920" y="1295280"/>
              <a:ext cx="6858000" cy="2819520"/>
            </a:xfrm>
            <a:custGeom>
              <a:avLst/>
              <a:gdLst/>
              <a:ahLst/>
              <a:rect l="l" t="t" r="r" b="b"/>
              <a:pathLst>
                <a:path w="4320" h="1776">
                  <a:moveTo>
                    <a:pt x="4320" y="672"/>
                  </a:moveTo>
                  <a:lnTo>
                    <a:pt x="4320" y="384"/>
                  </a:lnTo>
                  <a:lnTo>
                    <a:pt x="2016" y="384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0" y="1776"/>
                  </a:lnTo>
                  <a:lnTo>
                    <a:pt x="4320" y="1776"/>
                  </a:lnTo>
                  <a:lnTo>
                    <a:pt x="4320" y="1056"/>
                  </a:lnTo>
                  <a:lnTo>
                    <a:pt x="432" y="1056"/>
                  </a:lnTo>
                  <a:lnTo>
                    <a:pt x="429" y="669"/>
                  </a:lnTo>
                  <a:lnTo>
                    <a:pt x="4320" y="67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24080" y="3032280"/>
              <a:ext cx="1533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FA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sp>
          <p:nvSpPr>
            <p:cNvPr id="220" name=""/>
            <p:cNvSpPr/>
            <p:nvPr/>
          </p:nvSpPr>
          <p:spPr>
            <a:xfrm>
              <a:off x="1447920" y="1295280"/>
              <a:ext cx="7238880" cy="3962520"/>
            </a:xfrm>
            <a:custGeom>
              <a:avLst/>
              <a:gdLst/>
              <a:ahLst/>
              <a:rect l="l" t="t" r="r" b="b"/>
              <a:pathLst>
                <a:path w="4560" h="2496">
                  <a:moveTo>
                    <a:pt x="2112" y="3"/>
                  </a:moveTo>
                  <a:lnTo>
                    <a:pt x="2112" y="336"/>
                  </a:lnTo>
                  <a:lnTo>
                    <a:pt x="4368" y="336"/>
                  </a:lnTo>
                  <a:lnTo>
                    <a:pt x="4368" y="1824"/>
                  </a:lnTo>
                  <a:lnTo>
                    <a:pt x="0" y="1824"/>
                  </a:lnTo>
                  <a:lnTo>
                    <a:pt x="0" y="2496"/>
                  </a:lnTo>
                  <a:lnTo>
                    <a:pt x="4560" y="2496"/>
                  </a:lnTo>
                  <a:lnTo>
                    <a:pt x="4560" y="0"/>
                  </a:lnTo>
                  <a:lnTo>
                    <a:pt x="2112" y="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4320" y="4191120"/>
              <a:ext cx="16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PM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7A7-6220-4CDD-9DBA-0182D72C04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89DFD-4679-44AF-954D-D6BC51545D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09680" y="2424240"/>
            <a:ext cx="6096240" cy="4856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 Narrow"/>
              </a:rPr>
              <a:t>Flight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447920" y="1295280"/>
            <a:ext cx="6858000" cy="2819520"/>
            <a:chOff x="1447920" y="1295280"/>
            <a:chExt cx="6858000" cy="2819520"/>
          </a:xfrm>
        </p:grpSpPr>
        <p:sp>
          <p:nvSpPr>
            <p:cNvPr id="226" name=""/>
            <p:cNvSpPr/>
            <p:nvPr/>
          </p:nvSpPr>
          <p:spPr>
            <a:xfrm>
              <a:off x="1447920" y="1295280"/>
              <a:ext cx="6858000" cy="2819520"/>
            </a:xfrm>
            <a:custGeom>
              <a:avLst/>
              <a:gdLst/>
              <a:ahLst/>
              <a:rect l="l" t="t" r="r" b="b"/>
              <a:pathLst>
                <a:path w="4320" h="1776">
                  <a:moveTo>
                    <a:pt x="4320" y="672"/>
                  </a:moveTo>
                  <a:lnTo>
                    <a:pt x="4320" y="384"/>
                  </a:lnTo>
                  <a:lnTo>
                    <a:pt x="2016" y="384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0" y="1776"/>
                  </a:lnTo>
                  <a:lnTo>
                    <a:pt x="4320" y="1776"/>
                  </a:lnTo>
                  <a:lnTo>
                    <a:pt x="4320" y="1056"/>
                  </a:lnTo>
                  <a:lnTo>
                    <a:pt x="432" y="1056"/>
                  </a:lnTo>
                  <a:lnTo>
                    <a:pt x="429" y="669"/>
                  </a:lnTo>
                  <a:lnTo>
                    <a:pt x="4320" y="67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24080" y="3032280"/>
              <a:ext cx="1533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FA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sp>
          <p:nvSpPr>
            <p:cNvPr id="229" name=""/>
            <p:cNvSpPr/>
            <p:nvPr/>
          </p:nvSpPr>
          <p:spPr>
            <a:xfrm>
              <a:off x="1447920" y="1295280"/>
              <a:ext cx="7238880" cy="3962520"/>
            </a:xfrm>
            <a:custGeom>
              <a:avLst/>
              <a:gdLst/>
              <a:ahLst/>
              <a:rect l="l" t="t" r="r" b="b"/>
              <a:pathLst>
                <a:path w="4560" h="2496">
                  <a:moveTo>
                    <a:pt x="2112" y="3"/>
                  </a:moveTo>
                  <a:lnTo>
                    <a:pt x="2112" y="336"/>
                  </a:lnTo>
                  <a:lnTo>
                    <a:pt x="4368" y="336"/>
                  </a:lnTo>
                  <a:lnTo>
                    <a:pt x="4368" y="1824"/>
                  </a:lnTo>
                  <a:lnTo>
                    <a:pt x="0" y="1824"/>
                  </a:lnTo>
                  <a:lnTo>
                    <a:pt x="0" y="2496"/>
                  </a:lnTo>
                  <a:lnTo>
                    <a:pt x="4560" y="2496"/>
                  </a:lnTo>
                  <a:lnTo>
                    <a:pt x="4560" y="0"/>
                  </a:lnTo>
                  <a:lnTo>
                    <a:pt x="2112" y="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64320" y="4191120"/>
              <a:ext cx="16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PM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1295280"/>
              <a:ext cx="6858000" cy="2819520"/>
              <a:chOff x="1447920" y="1295280"/>
              <a:chExt cx="6858000" cy="28195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1295280"/>
                <a:ext cx="6858000" cy="2819520"/>
              </a:xfrm>
              <a:custGeom>
                <a:avLst/>
                <a:gdLst/>
                <a:ahLst/>
                <a:rect l="l" t="t" r="r" b="b"/>
                <a:pathLst>
                  <a:path w="4320" h="1776">
                    <a:moveTo>
                      <a:pt x="4320" y="672"/>
                    </a:moveTo>
                    <a:lnTo>
                      <a:pt x="4320" y="384"/>
                    </a:lnTo>
                    <a:lnTo>
                      <a:pt x="2016" y="384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4320" y="1776"/>
                    </a:lnTo>
                    <a:lnTo>
                      <a:pt x="4320" y="1056"/>
                    </a:lnTo>
                    <a:lnTo>
                      <a:pt x="432" y="1056"/>
                    </a:lnTo>
                    <a:lnTo>
                      <a:pt x="429" y="669"/>
                    </a:lnTo>
                    <a:lnTo>
                      <a:pt x="4320" y="67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4800" y="3048120"/>
                <a:ext cx="538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 Narrow"/>
                  </a:rPr>
                  <a:t>Fleet Assignment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447920" y="1295280"/>
              <a:ext cx="7238880" cy="3962520"/>
              <a:chOff x="1447920" y="1295280"/>
              <a:chExt cx="7238880" cy="3962520"/>
            </a:xfrm>
          </p:grpSpPr>
          <p:sp>
            <p:nvSpPr>
              <p:cNvPr id="236" name=""/>
              <p:cNvSpPr/>
              <p:nvPr/>
            </p:nvSpPr>
            <p:spPr>
              <a:xfrm>
                <a:off x="1447920" y="1295280"/>
                <a:ext cx="7238880" cy="3962520"/>
              </a:xfrm>
              <a:custGeom>
                <a:avLst/>
                <a:gdLst/>
                <a:ahLst/>
                <a:rect l="l" t="t" r="r" b="b"/>
                <a:pathLst>
                  <a:path w="4560" h="2496">
                    <a:moveTo>
                      <a:pt x="2112" y="3"/>
                    </a:moveTo>
                    <a:lnTo>
                      <a:pt x="2112" y="336"/>
                    </a:lnTo>
                    <a:lnTo>
                      <a:pt x="4368" y="336"/>
                    </a:lnTo>
                    <a:lnTo>
                      <a:pt x="4368" y="1824"/>
                    </a:lnTo>
                    <a:lnTo>
                      <a:pt x="0" y="1824"/>
                    </a:lnTo>
                    <a:lnTo>
                      <a:pt x="0" y="2496"/>
                    </a:lnTo>
                    <a:lnTo>
                      <a:pt x="4560" y="2496"/>
                    </a:lnTo>
                    <a:lnTo>
                      <a:pt x="4560" y="0"/>
                    </a:lnTo>
                    <a:lnTo>
                      <a:pt x="2112" y="3"/>
                    </a:lnTo>
                    <a:close/>
                  </a:path>
                </a:pathLst>
              </a:custGeom>
              <a:solidFill>
                <a:srgbClr val="00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77720" y="4191120"/>
                <a:ext cx="52646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 Narrow"/>
                  </a:rPr>
                  <a:t>Spill + Recapture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2209680" y="2438280"/>
              <a:ext cx="6096240" cy="4860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99ff"/>
                  </a:solidFill>
                  <a:latin typeface="Arial Narrow"/>
                </a:rPr>
                <a:t>Schedule Desig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9C8-7246-42B7-BE95-6C852D23D1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D64A8-3CC9-4999-9A7D-F41C7F46B9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Schedule Design:  Variable Market Share Mode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Variable market share mode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tended Schedule Design and Fleet Assignment Model (ESD-FAM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Utilize demand correction term to adjust demand explicitl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B38-9D66-4DD4-9D60-704AC99E3E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9A0F6-1620-4E24-8B43-CF3DDF7EC6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919440" y="2743200"/>
            <a:ext cx="5176440" cy="3050640"/>
            <a:chOff x="919440" y="2743200"/>
            <a:chExt cx="5176440" cy="3050640"/>
          </a:xfrm>
        </p:grpSpPr>
        <p:sp>
          <p:nvSpPr>
            <p:cNvPr id="242" name=""/>
            <p:cNvSpPr/>
            <p:nvPr/>
          </p:nvSpPr>
          <p:spPr>
            <a:xfrm>
              <a:off x="5562720" y="2743200"/>
              <a:ext cx="533160" cy="1676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895480" y="4190760"/>
              <a:ext cx="2743200" cy="11430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19440" y="5334120"/>
              <a:ext cx="31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Demand Correction Ter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SD-FAM: Demand Correc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27160" y="874800"/>
            <a:ext cx="5486040" cy="1944720"/>
            <a:chOff x="1127160" y="874800"/>
            <a:chExt cx="5486040" cy="1944720"/>
          </a:xfrm>
        </p:grpSpPr>
        <p:grpSp>
          <p:nvGrpSpPr>
            <p:cNvPr id="247" name=""/>
            <p:cNvGrpSpPr/>
            <p:nvPr/>
          </p:nvGrpSpPr>
          <p:grpSpPr>
            <a:xfrm>
              <a:off x="4251240" y="990720"/>
              <a:ext cx="2361960" cy="1828800"/>
              <a:chOff x="4251240" y="990720"/>
              <a:chExt cx="2361960" cy="1828800"/>
            </a:xfrm>
          </p:grpSpPr>
          <p:sp>
            <p:nvSpPr>
              <p:cNvPr id="248" name=""/>
              <p:cNvSpPr/>
              <p:nvPr/>
            </p:nvSpPr>
            <p:spPr>
              <a:xfrm>
                <a:off x="4251240" y="9907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56000" y="9907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632480" y="1295280"/>
              <a:ext cx="1600200" cy="381240"/>
              <a:chOff x="4632480" y="1295280"/>
              <a:chExt cx="1600200" cy="381240"/>
            </a:xfrm>
          </p:grpSpPr>
          <p:sp>
            <p:nvSpPr>
              <p:cNvPr id="251" name=""/>
              <p:cNvSpPr/>
              <p:nvPr/>
            </p:nvSpPr>
            <p:spPr>
              <a:xfrm>
                <a:off x="4632480" y="12952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08800" y="167652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632480" y="2057400"/>
              <a:ext cx="1600200" cy="380880"/>
              <a:chOff x="4632480" y="2057400"/>
              <a:chExt cx="1600200" cy="380880"/>
            </a:xfrm>
          </p:grpSpPr>
          <p:sp>
            <p:nvSpPr>
              <p:cNvPr id="254" name=""/>
              <p:cNvSpPr/>
              <p:nvPr/>
            </p:nvSpPr>
            <p:spPr>
              <a:xfrm>
                <a:off x="4708800" y="205740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32480" y="24382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127160" y="1447920"/>
              <a:ext cx="2186280" cy="1114560"/>
              <a:chOff x="1127160" y="1447920"/>
              <a:chExt cx="2186280" cy="111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1127160" y="1447920"/>
                <a:ext cx="218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Market Shar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677960" y="1981080"/>
                <a:ext cx="73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45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336840" y="874800"/>
              <a:ext cx="2352600" cy="1642320"/>
              <a:chOff x="3336840" y="874800"/>
              <a:chExt cx="2352600" cy="1642320"/>
            </a:xfrm>
          </p:grpSpPr>
          <p:sp>
            <p:nvSpPr>
              <p:cNvPr id="260" name=""/>
              <p:cNvSpPr/>
              <p:nvPr/>
            </p:nvSpPr>
            <p:spPr>
              <a:xfrm>
                <a:off x="5076720" y="8748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76720" y="125568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92560" y="163656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92560" y="20574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336840" y="1523880"/>
                <a:ext cx="685800" cy="45720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4267080" y="4876920"/>
            <a:ext cx="2361960" cy="1828800"/>
            <a:chOff x="4267080" y="4876920"/>
            <a:chExt cx="2361960" cy="1828800"/>
          </a:xfrm>
        </p:grpSpPr>
        <p:sp>
          <p:nvSpPr>
            <p:cNvPr id="266" name=""/>
            <p:cNvSpPr/>
            <p:nvPr/>
          </p:nvSpPr>
          <p:spPr>
            <a:xfrm>
              <a:off x="426708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184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7960" y="5181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2428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723200" y="4761000"/>
            <a:ext cx="1443960" cy="840600"/>
            <a:chOff x="4723200" y="4761000"/>
            <a:chExt cx="1443960" cy="840600"/>
          </a:xfrm>
        </p:grpSpPr>
        <p:sp>
          <p:nvSpPr>
            <p:cNvPr id="271" name=""/>
            <p:cNvSpPr/>
            <p:nvPr/>
          </p:nvSpPr>
          <p:spPr>
            <a:xfrm>
              <a:off x="5092560" y="4761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3200" y="5141880"/>
              <a:ext cx="14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+40+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066680" y="1828800"/>
            <a:ext cx="6705360" cy="2935440"/>
            <a:chOff x="1066680" y="1828800"/>
            <a:chExt cx="6705360" cy="2935440"/>
          </a:xfrm>
        </p:grpSpPr>
        <p:grpSp>
          <p:nvGrpSpPr>
            <p:cNvPr id="274" name=""/>
            <p:cNvGrpSpPr/>
            <p:nvPr/>
          </p:nvGrpSpPr>
          <p:grpSpPr>
            <a:xfrm>
              <a:off x="1066680" y="2935440"/>
              <a:ext cx="5546520" cy="1828800"/>
              <a:chOff x="1066680" y="2935440"/>
              <a:chExt cx="5546520" cy="18288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4251240" y="2935440"/>
                <a:ext cx="2361960" cy="1828800"/>
                <a:chOff x="4251240" y="2935440"/>
                <a:chExt cx="2361960" cy="1828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251240" y="293544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156000" y="293544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632120" y="32400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08440" y="362124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708440" y="423072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066680" y="3352680"/>
                <a:ext cx="2186280" cy="1114920"/>
                <a:chOff x="1066680" y="3352680"/>
                <a:chExt cx="2186280" cy="11149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066680" y="3352680"/>
                  <a:ext cx="218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Arial Narrow"/>
                    </a:rPr>
                    <a:t>Market Shar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753920" y="3886200"/>
                  <a:ext cx="738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Arial Narrow"/>
                    </a:rPr>
                    <a:t>410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6781680" y="1828800"/>
              <a:ext cx="990360" cy="1981080"/>
              <a:chOff x="6781680" y="1828800"/>
              <a:chExt cx="990360" cy="1981080"/>
            </a:xfrm>
          </p:grpSpPr>
          <p:sp>
            <p:nvSpPr>
              <p:cNvPr id="285" name=""/>
              <p:cNvSpPr/>
              <p:nvPr/>
            </p:nvSpPr>
            <p:spPr>
              <a:xfrm>
                <a:off x="6781680" y="182880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781680" y="380988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1680" y="1828800"/>
                <a:ext cx="914400" cy="1981080"/>
              </a:xfrm>
              <a:prstGeom prst="downArrow">
                <a:avLst>
                  <a:gd name="adj1" fmla="val 50000"/>
                  <a:gd name="adj2" fmla="val 54163"/>
                </a:avLst>
              </a:prstGeom>
              <a:gradFill rotWithShape="0">
                <a:gsLst>
                  <a:gs pos="0">
                    <a:srgbClr val="5e7575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4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282840" y="2819520"/>
            <a:ext cx="2428920" cy="1413720"/>
            <a:chOff x="3282840" y="2819520"/>
            <a:chExt cx="2428920" cy="1413720"/>
          </a:xfrm>
        </p:grpSpPr>
        <p:sp>
          <p:nvSpPr>
            <p:cNvPr id="289" name=""/>
            <p:cNvSpPr/>
            <p:nvPr/>
          </p:nvSpPr>
          <p:spPr>
            <a:xfrm>
              <a:off x="5099040" y="2819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99040" y="3200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14880" y="3773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282840" y="2819520"/>
            <a:ext cx="2774160" cy="1413720"/>
            <a:chOff x="3282840" y="2819520"/>
            <a:chExt cx="2774160" cy="1413720"/>
          </a:xfrm>
        </p:grpSpPr>
        <p:sp>
          <p:nvSpPr>
            <p:cNvPr id="294" name=""/>
            <p:cNvSpPr/>
            <p:nvPr/>
          </p:nvSpPr>
          <p:spPr>
            <a:xfrm>
              <a:off x="4880160" y="2819520"/>
              <a:ext cx="102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80520" y="320040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 + 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96360" y="377352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81680" y="3809880"/>
            <a:ext cx="990360" cy="1981080"/>
            <a:chOff x="6781680" y="3809880"/>
            <a:chExt cx="990360" cy="1981080"/>
          </a:xfrm>
        </p:grpSpPr>
        <p:sp>
          <p:nvSpPr>
            <p:cNvPr id="299" name=""/>
            <p:cNvSpPr/>
            <p:nvPr/>
          </p:nvSpPr>
          <p:spPr>
            <a:xfrm>
              <a:off x="6781680" y="380988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1680" y="57909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1680" y="3809880"/>
              <a:ext cx="914400" cy="1981080"/>
            </a:xfrm>
            <a:prstGeom prst="downArrow">
              <a:avLst>
                <a:gd name="adj1" fmla="val 50000"/>
                <a:gd name="adj2" fmla="val 54163"/>
              </a:avLst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8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118280" y="1828800"/>
            <a:ext cx="1873440" cy="4525920"/>
            <a:chOff x="7118280" y="1828800"/>
            <a:chExt cx="1873440" cy="4525920"/>
          </a:xfrm>
        </p:grpSpPr>
        <p:grpSp>
          <p:nvGrpSpPr>
            <p:cNvPr id="303" name=""/>
            <p:cNvGrpSpPr/>
            <p:nvPr/>
          </p:nvGrpSpPr>
          <p:grpSpPr>
            <a:xfrm>
              <a:off x="7118280" y="1828800"/>
              <a:ext cx="1873440" cy="4525920"/>
              <a:chOff x="7118280" y="1828800"/>
              <a:chExt cx="1873440" cy="45259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8001000" y="1828800"/>
                <a:ext cx="990720" cy="3962520"/>
                <a:chOff x="8001000" y="1828800"/>
                <a:chExt cx="990720" cy="39625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8001000" y="579132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077320" y="1828800"/>
                  <a:ext cx="914400" cy="3962520"/>
                </a:xfrm>
                <a:prstGeom prst="downArrow">
                  <a:avLst>
                    <a:gd name="adj1" fmla="val 50000"/>
                    <a:gd name="adj2" fmla="val 108337"/>
                  </a:avLst>
                </a:prstGeom>
                <a:gradFill rotWithShape="0">
                  <a:gsLst>
                    <a:gs pos="0">
                      <a:srgbClr val="755e46"/>
                    </a:gs>
                    <a:gs pos="100000">
                      <a:srgbClr val="ffcc99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15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001000" y="182880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7118280" y="58356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924680" y="373392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24680" y="380988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8001000" y="3657600"/>
              <a:ext cx="7632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815720" y="5522760"/>
            <a:ext cx="13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-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2</a:t>
            </a:r>
            <a:r>
              <a:rPr b="0" lang="en-US" sz="2400" spc="-1" strike="noStrike" baseline="30000">
                <a:solidFill>
                  <a:srgbClr val="cc99ff"/>
                </a:solidFill>
                <a:latin typeface="Arial Narrow"/>
              </a:rPr>
              <a:t>nd</a:t>
            </a: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 deg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corr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11240" y="62485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99ff"/>
                </a:solidFill>
                <a:latin typeface="Arial Narrow"/>
              </a:rPr>
              <a:t>Data Quality Iss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D84-4188-4022-9DB2-A98FF7A7F0C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D2DB5-5D6C-4F3A-9DAB-1F1D477A79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4E3-A30F-4374-8448-4754F5F00C6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4D2E0-5C2A-4C57-9AC3-CC02075878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990720" y="1295280"/>
            <a:ext cx="7619760" cy="3733920"/>
            <a:chOff x="990720" y="1295280"/>
            <a:chExt cx="7619760" cy="3733920"/>
          </a:xfrm>
        </p:grpSpPr>
        <p:sp>
          <p:nvSpPr>
            <p:cNvPr id="319" name=""/>
            <p:cNvSpPr/>
            <p:nvPr/>
          </p:nvSpPr>
          <p:spPr>
            <a:xfrm>
              <a:off x="990720" y="1295280"/>
              <a:ext cx="7619760" cy="3733920"/>
            </a:xfrm>
            <a:custGeom>
              <a:avLst/>
              <a:gdLst/>
              <a:ahLst/>
              <a:rect l="l" t="t" r="r" b="b"/>
              <a:pathLst>
                <a:path w="4800" h="2352">
                  <a:moveTo>
                    <a:pt x="3504" y="2352"/>
                  </a:moveTo>
                  <a:lnTo>
                    <a:pt x="4800" y="2352"/>
                  </a:lnTo>
                  <a:lnTo>
                    <a:pt x="4800" y="432"/>
                  </a:lnTo>
                  <a:lnTo>
                    <a:pt x="2640" y="432"/>
                  </a:lnTo>
                  <a:lnTo>
                    <a:pt x="2640" y="0"/>
                  </a:lnTo>
                  <a:lnTo>
                    <a:pt x="0" y="0"/>
                  </a:lnTo>
                  <a:lnTo>
                    <a:pt x="0" y="1632"/>
                  </a:lnTo>
                  <a:lnTo>
                    <a:pt x="1488" y="1632"/>
                  </a:lnTo>
                  <a:lnTo>
                    <a:pt x="1488" y="2064"/>
                  </a:lnTo>
                  <a:lnTo>
                    <a:pt x="3504" y="2064"/>
                  </a:lnTo>
                  <a:lnTo>
                    <a:pt x="3504" y="23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43560" y="2438280"/>
              <a:ext cx="4415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99ff"/>
                  </a:solidFill>
                  <a:latin typeface="Arial"/>
                </a:rPr>
                <a:t>ISD-FAM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990720" y="1295280"/>
            <a:ext cx="8001000" cy="4724640"/>
            <a:chOff x="990720" y="1295280"/>
            <a:chExt cx="8001000" cy="4724640"/>
          </a:xfrm>
        </p:grpSpPr>
        <p:sp>
          <p:nvSpPr>
            <p:cNvPr id="322" name=""/>
            <p:cNvSpPr/>
            <p:nvPr/>
          </p:nvSpPr>
          <p:spPr>
            <a:xfrm>
              <a:off x="990720" y="1295280"/>
              <a:ext cx="8001000" cy="4724640"/>
            </a:xfrm>
            <a:custGeom>
              <a:avLst/>
              <a:gdLst/>
              <a:ahLst/>
              <a:rect l="l" t="t" r="r" b="b"/>
              <a:pathLst>
                <a:path w="5040" h="2976">
                  <a:moveTo>
                    <a:pt x="2688" y="0"/>
                  </a:moveTo>
                  <a:lnTo>
                    <a:pt x="2688" y="384"/>
                  </a:lnTo>
                  <a:lnTo>
                    <a:pt x="4848" y="384"/>
                  </a:lnTo>
                  <a:lnTo>
                    <a:pt x="4848" y="2400"/>
                  </a:lnTo>
                  <a:lnTo>
                    <a:pt x="3456" y="2400"/>
                  </a:lnTo>
                  <a:lnTo>
                    <a:pt x="3456" y="2112"/>
                  </a:lnTo>
                  <a:lnTo>
                    <a:pt x="1440" y="2112"/>
                  </a:lnTo>
                  <a:lnTo>
                    <a:pt x="1440" y="1680"/>
                  </a:lnTo>
                  <a:lnTo>
                    <a:pt x="0" y="1680"/>
                  </a:lnTo>
                  <a:lnTo>
                    <a:pt x="0" y="2976"/>
                  </a:lnTo>
                  <a:lnTo>
                    <a:pt x="5040" y="2976"/>
                  </a:lnTo>
                  <a:lnTo>
                    <a:pt x="5040" y="0"/>
                  </a:lnTo>
                  <a:lnTo>
                    <a:pt x="2688" y="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27960" y="5105520"/>
              <a:ext cx="75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99ff"/>
                  </a:solidFill>
                  <a:latin typeface="Arial"/>
                </a:rPr>
                <a:t>Market Share Adjustmen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601-1FF5-4A3D-8568-D3B3F4CEE48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C5A55-0DA6-4956-9EB5-6386329230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990720" y="1295280"/>
            <a:ext cx="7619760" cy="3733920"/>
            <a:chOff x="990720" y="1295280"/>
            <a:chExt cx="7619760" cy="3733920"/>
          </a:xfrm>
        </p:grpSpPr>
        <p:sp>
          <p:nvSpPr>
            <p:cNvPr id="327" name=""/>
            <p:cNvSpPr/>
            <p:nvPr/>
          </p:nvSpPr>
          <p:spPr>
            <a:xfrm>
              <a:off x="990720" y="1295280"/>
              <a:ext cx="7619760" cy="3733920"/>
            </a:xfrm>
            <a:custGeom>
              <a:avLst/>
              <a:gdLst/>
              <a:ahLst/>
              <a:rect l="l" t="t" r="r" b="b"/>
              <a:pathLst>
                <a:path w="4800" h="2352">
                  <a:moveTo>
                    <a:pt x="3504" y="2352"/>
                  </a:moveTo>
                  <a:lnTo>
                    <a:pt x="4800" y="2352"/>
                  </a:lnTo>
                  <a:lnTo>
                    <a:pt x="4800" y="432"/>
                  </a:lnTo>
                  <a:lnTo>
                    <a:pt x="2640" y="432"/>
                  </a:lnTo>
                  <a:lnTo>
                    <a:pt x="2640" y="0"/>
                  </a:lnTo>
                  <a:lnTo>
                    <a:pt x="0" y="0"/>
                  </a:lnTo>
                  <a:lnTo>
                    <a:pt x="0" y="1632"/>
                  </a:lnTo>
                  <a:lnTo>
                    <a:pt x="1488" y="1632"/>
                  </a:lnTo>
                  <a:lnTo>
                    <a:pt x="1488" y="2064"/>
                  </a:lnTo>
                  <a:lnTo>
                    <a:pt x="3504" y="2064"/>
                  </a:lnTo>
                  <a:lnTo>
                    <a:pt x="3504" y="23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560" y="2438280"/>
              <a:ext cx="4415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99ff"/>
                  </a:solidFill>
                  <a:latin typeface="Arial"/>
                </a:rPr>
                <a:t>ISD-FAM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90720" y="1295280"/>
            <a:ext cx="8001000" cy="4724640"/>
            <a:chOff x="990720" y="1295280"/>
            <a:chExt cx="8001000" cy="4724640"/>
          </a:xfrm>
        </p:grpSpPr>
        <p:sp>
          <p:nvSpPr>
            <p:cNvPr id="330" name=""/>
            <p:cNvSpPr/>
            <p:nvPr/>
          </p:nvSpPr>
          <p:spPr>
            <a:xfrm>
              <a:off x="990720" y="1295280"/>
              <a:ext cx="8001000" cy="4724640"/>
            </a:xfrm>
            <a:custGeom>
              <a:avLst/>
              <a:gdLst/>
              <a:ahLst/>
              <a:rect l="l" t="t" r="r" b="b"/>
              <a:pathLst>
                <a:path w="5040" h="2976">
                  <a:moveTo>
                    <a:pt x="2688" y="0"/>
                  </a:moveTo>
                  <a:lnTo>
                    <a:pt x="2688" y="384"/>
                  </a:lnTo>
                  <a:lnTo>
                    <a:pt x="4848" y="384"/>
                  </a:lnTo>
                  <a:lnTo>
                    <a:pt x="4848" y="2400"/>
                  </a:lnTo>
                  <a:lnTo>
                    <a:pt x="3456" y="2400"/>
                  </a:lnTo>
                  <a:lnTo>
                    <a:pt x="3456" y="2112"/>
                  </a:lnTo>
                  <a:lnTo>
                    <a:pt x="1440" y="2112"/>
                  </a:lnTo>
                  <a:lnTo>
                    <a:pt x="1440" y="1680"/>
                  </a:lnTo>
                  <a:lnTo>
                    <a:pt x="0" y="1680"/>
                  </a:lnTo>
                  <a:lnTo>
                    <a:pt x="0" y="2976"/>
                  </a:lnTo>
                  <a:lnTo>
                    <a:pt x="5040" y="2976"/>
                  </a:lnTo>
                  <a:lnTo>
                    <a:pt x="5040" y="0"/>
                  </a:lnTo>
                  <a:lnTo>
                    <a:pt x="2688" y="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27960" y="5105520"/>
              <a:ext cx="75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99ff"/>
                  </a:solidFill>
                  <a:latin typeface="Arial"/>
                </a:rPr>
                <a:t>Market Share Adjustmen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143000" y="1219320"/>
            <a:ext cx="8001000" cy="5104440"/>
            <a:chOff x="1143000" y="1219320"/>
            <a:chExt cx="8001000" cy="5104440"/>
          </a:xfrm>
        </p:grpSpPr>
        <p:grpSp>
          <p:nvGrpSpPr>
            <p:cNvPr id="333" name=""/>
            <p:cNvGrpSpPr/>
            <p:nvPr/>
          </p:nvGrpSpPr>
          <p:grpSpPr>
            <a:xfrm>
              <a:off x="1143000" y="1219320"/>
              <a:ext cx="7619760" cy="4047480"/>
              <a:chOff x="1143000" y="1219320"/>
              <a:chExt cx="7619760" cy="4047480"/>
            </a:xfrm>
          </p:grpSpPr>
          <p:sp>
            <p:nvSpPr>
              <p:cNvPr id="334" name=""/>
              <p:cNvSpPr/>
              <p:nvPr/>
            </p:nvSpPr>
            <p:spPr>
              <a:xfrm>
                <a:off x="1143000" y="1283400"/>
                <a:ext cx="7619760" cy="3983400"/>
              </a:xfrm>
              <a:custGeom>
                <a:avLst/>
                <a:gdLst/>
                <a:ahLst/>
                <a:rect l="l" t="t" r="r" b="b"/>
                <a:pathLst>
                  <a:path w="4800" h="2352">
                    <a:moveTo>
                      <a:pt x="3504" y="2352"/>
                    </a:moveTo>
                    <a:lnTo>
                      <a:pt x="4800" y="2352"/>
                    </a:lnTo>
                    <a:lnTo>
                      <a:pt x="4800" y="432"/>
                    </a:lnTo>
                    <a:lnTo>
                      <a:pt x="2640" y="432"/>
                    </a:lnTo>
                    <a:lnTo>
                      <a:pt x="2640" y="0"/>
                    </a:lnTo>
                    <a:lnTo>
                      <a:pt x="0" y="0"/>
                    </a:lnTo>
                    <a:lnTo>
                      <a:pt x="0" y="1632"/>
                    </a:lnTo>
                    <a:lnTo>
                      <a:pt x="1488" y="1632"/>
                    </a:lnTo>
                    <a:lnTo>
                      <a:pt x="1488" y="2064"/>
                    </a:lnTo>
                    <a:lnTo>
                      <a:pt x="3504" y="2064"/>
                    </a:lnTo>
                    <a:lnTo>
                      <a:pt x="3504" y="235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20040" y="1219320"/>
                <a:ext cx="7470000" cy="32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Constant 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Market Share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Schedule Design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  </a:t>
                </a:r>
                <a:r>
                  <a:rPr b="1" lang="en-US" sz="4000" spc="-1" strike="noStrike">
                    <a:solidFill>
                      <a:srgbClr val="cc99ff"/>
                    </a:solidFill>
                    <a:latin typeface="Arial"/>
                  </a:rPr>
                  <a:t>&amp; 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Fleet Assgn.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143000" y="1283400"/>
              <a:ext cx="8001000" cy="5040360"/>
              <a:chOff x="1143000" y="1283400"/>
              <a:chExt cx="8001000" cy="5040360"/>
            </a:xfrm>
          </p:grpSpPr>
          <p:sp>
            <p:nvSpPr>
              <p:cNvPr id="337" name=""/>
              <p:cNvSpPr/>
              <p:nvPr/>
            </p:nvSpPr>
            <p:spPr>
              <a:xfrm>
                <a:off x="1143000" y="1283400"/>
                <a:ext cx="8001000" cy="5040360"/>
              </a:xfrm>
              <a:custGeom>
                <a:avLst/>
                <a:gdLst/>
                <a:ahLst/>
                <a:rect l="l" t="t" r="r" b="b"/>
                <a:pathLst>
                  <a:path w="5040" h="2976">
                    <a:moveTo>
                      <a:pt x="2688" y="0"/>
                    </a:moveTo>
                    <a:lnTo>
                      <a:pt x="2688" y="384"/>
                    </a:lnTo>
                    <a:lnTo>
                      <a:pt x="4848" y="384"/>
                    </a:lnTo>
                    <a:lnTo>
                      <a:pt x="4848" y="2400"/>
                    </a:lnTo>
                    <a:lnTo>
                      <a:pt x="3456" y="2400"/>
                    </a:lnTo>
                    <a:lnTo>
                      <a:pt x="3456" y="2112"/>
                    </a:lnTo>
                    <a:lnTo>
                      <a:pt x="1440" y="2112"/>
                    </a:lnTo>
                    <a:lnTo>
                      <a:pt x="1440" y="1680"/>
                    </a:lnTo>
                    <a:lnTo>
                      <a:pt x="0" y="1680"/>
                    </a:lnTo>
                    <a:lnTo>
                      <a:pt x="0" y="2976"/>
                    </a:lnTo>
                    <a:lnTo>
                      <a:pt x="5040" y="2976"/>
                    </a:lnTo>
                    <a:lnTo>
                      <a:pt x="5040" y="0"/>
                    </a:lnTo>
                    <a:lnTo>
                      <a:pt x="2688" y="0"/>
                    </a:lnTo>
                    <a:close/>
                  </a:path>
                </a:pathLst>
              </a:custGeom>
              <a:solidFill>
                <a:srgbClr val="ccffcc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80240" y="5348520"/>
                <a:ext cx="7524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c99ff"/>
                    </a:solidFill>
                    <a:latin typeface="Arial"/>
                  </a:rPr>
                  <a:t>Market Share Adjustment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EF9-A010-4540-BE55-45D9E86886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32838-F18F-48C0-A6D8-29A939340A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1219320"/>
            <a:ext cx="1219320" cy="4572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43000" y="2895480"/>
            <a:ext cx="3124080" cy="1447560"/>
            <a:chOff x="1143000" y="2895480"/>
            <a:chExt cx="3124080" cy="1447560"/>
          </a:xfrm>
        </p:grpSpPr>
        <p:sp>
          <p:nvSpPr>
            <p:cNvPr id="342" name=""/>
            <p:cNvSpPr/>
            <p:nvPr/>
          </p:nvSpPr>
          <p:spPr>
            <a:xfrm>
              <a:off x="1143000" y="3504960"/>
              <a:ext cx="3124080" cy="838080"/>
            </a:xfrm>
            <a:prstGeom prst="flowChartProcess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Calculate new deman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for the resulting schedu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289548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733920" y="1371600"/>
            <a:ext cx="1752480" cy="1219320"/>
            <a:chOff x="3733920" y="1371600"/>
            <a:chExt cx="1752480" cy="1219320"/>
          </a:xfrm>
        </p:grpSpPr>
        <p:sp>
          <p:nvSpPr>
            <p:cNvPr id="345" name=""/>
            <p:cNvSpPr/>
            <p:nvPr/>
          </p:nvSpPr>
          <p:spPr>
            <a:xfrm>
              <a:off x="3733920" y="2590920"/>
              <a:ext cx="106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13716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00600" y="1371600"/>
              <a:ext cx="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410080" y="1066680"/>
            <a:ext cx="3124440" cy="1447560"/>
            <a:chOff x="5410080" y="1066680"/>
            <a:chExt cx="3124440" cy="1447560"/>
          </a:xfrm>
        </p:grpSpPr>
        <p:sp>
          <p:nvSpPr>
            <p:cNvPr id="349" name=""/>
            <p:cNvSpPr/>
            <p:nvPr/>
          </p:nvSpPr>
          <p:spPr>
            <a:xfrm>
              <a:off x="6934320" y="190476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0080" y="1066680"/>
              <a:ext cx="3124440" cy="838080"/>
            </a:xfrm>
            <a:prstGeom prst="flowChartProcess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Update modifi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324480" y="5486400"/>
            <a:ext cx="1427760" cy="1066320"/>
            <a:chOff x="6324480" y="5486400"/>
            <a:chExt cx="1427760" cy="1066320"/>
          </a:xfrm>
        </p:grpSpPr>
        <p:grpSp>
          <p:nvGrpSpPr>
            <p:cNvPr id="352" name=""/>
            <p:cNvGrpSpPr/>
            <p:nvPr/>
          </p:nvGrpSpPr>
          <p:grpSpPr>
            <a:xfrm>
              <a:off x="6324480" y="5486400"/>
              <a:ext cx="1219320" cy="1066320"/>
              <a:chOff x="6324480" y="5486400"/>
              <a:chExt cx="1219320" cy="1066320"/>
            </a:xfrm>
          </p:grpSpPr>
          <p:sp>
            <p:nvSpPr>
              <p:cNvPr id="353" name=""/>
              <p:cNvSpPr/>
              <p:nvPr/>
            </p:nvSpPr>
            <p:spPr>
              <a:xfrm>
                <a:off x="6324480" y="6095880"/>
                <a:ext cx="1219320" cy="456840"/>
              </a:xfrm>
              <a:prstGeom prst="flowChartAlternate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STO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34320" y="5486400"/>
                <a:ext cx="0" cy="609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7073280" y="5675040"/>
              <a:ext cx="6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410080" y="2286000"/>
            <a:ext cx="3124440" cy="1447920"/>
            <a:chOff x="5410080" y="2286000"/>
            <a:chExt cx="3124440" cy="1447920"/>
          </a:xfrm>
        </p:grpSpPr>
        <p:grpSp>
          <p:nvGrpSpPr>
            <p:cNvPr id="357" name=""/>
            <p:cNvGrpSpPr/>
            <p:nvPr/>
          </p:nvGrpSpPr>
          <p:grpSpPr>
            <a:xfrm>
              <a:off x="5410080" y="2286000"/>
              <a:ext cx="3124440" cy="1447920"/>
              <a:chOff x="5410080" y="2286000"/>
              <a:chExt cx="3124440" cy="1447920"/>
            </a:xfrm>
          </p:grpSpPr>
          <p:sp>
            <p:nvSpPr>
              <p:cNvPr id="358" name=""/>
              <p:cNvSpPr/>
              <p:nvPr/>
            </p:nvSpPr>
            <p:spPr>
              <a:xfrm>
                <a:off x="5410080" y="2286000"/>
                <a:ext cx="3124440" cy="83844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Identify itineraries tha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cause discrepanci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34320" y="3124440"/>
                <a:ext cx="0" cy="609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996960" y="31244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267080" y="3505320"/>
            <a:ext cx="4038840" cy="2286000"/>
            <a:chOff x="4267080" y="3505320"/>
            <a:chExt cx="4038840" cy="2286000"/>
          </a:xfrm>
        </p:grpSpPr>
        <p:sp>
          <p:nvSpPr>
            <p:cNvPr id="362" name=""/>
            <p:cNvSpPr/>
            <p:nvPr/>
          </p:nvSpPr>
          <p:spPr>
            <a:xfrm>
              <a:off x="4952880" y="4648320"/>
              <a:ext cx="609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080" y="54104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464832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2720" y="3505320"/>
              <a:ext cx="2743200" cy="2286000"/>
            </a:xfrm>
            <a:prstGeom prst="flowChartDecision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Has th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stopping criter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been met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676520" y="1676520"/>
            <a:ext cx="2737440" cy="1678680"/>
            <a:chOff x="1676520" y="1676520"/>
            <a:chExt cx="2737440" cy="1678680"/>
          </a:xfrm>
        </p:grpSpPr>
        <p:grpSp>
          <p:nvGrpSpPr>
            <p:cNvPr id="367" name=""/>
            <p:cNvGrpSpPr/>
            <p:nvPr/>
          </p:nvGrpSpPr>
          <p:grpSpPr>
            <a:xfrm>
              <a:off x="1676520" y="1676520"/>
              <a:ext cx="2057400" cy="1218600"/>
              <a:chOff x="1676520" y="1676520"/>
              <a:chExt cx="2057400" cy="1218600"/>
            </a:xfrm>
          </p:grpSpPr>
          <p:sp>
            <p:nvSpPr>
              <p:cNvPr id="368" name=""/>
              <p:cNvSpPr/>
              <p:nvPr/>
            </p:nvSpPr>
            <p:spPr>
              <a:xfrm>
                <a:off x="1676520" y="2285640"/>
                <a:ext cx="2057400" cy="60948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Solve I/ESD-FA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66880" y="1676520"/>
                <a:ext cx="0" cy="609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678760" y="289548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ontribution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43000" y="4343400"/>
            <a:ext cx="3270960" cy="1907640"/>
            <a:chOff x="1143000" y="4343400"/>
            <a:chExt cx="3270960" cy="1907640"/>
          </a:xfrm>
        </p:grpSpPr>
        <p:grpSp>
          <p:nvGrpSpPr>
            <p:cNvPr id="372" name=""/>
            <p:cNvGrpSpPr/>
            <p:nvPr/>
          </p:nvGrpSpPr>
          <p:grpSpPr>
            <a:xfrm>
              <a:off x="1143000" y="4343400"/>
              <a:ext cx="3124080" cy="1447920"/>
              <a:chOff x="1143000" y="4343400"/>
              <a:chExt cx="3124080" cy="144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1143000" y="4953240"/>
                <a:ext cx="3124080" cy="83808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Obtain revenue estimates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from PM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66880" y="4343400"/>
                <a:ext cx="0" cy="609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2678760" y="579132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ontribution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24B-6846-4362-A16A-0B35D48E470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B18A5-1C74-401D-9269-C7FB7F9D80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963/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Schedule Design Probl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Definition and Object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with Constant Market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with Variable Market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Solution Algorith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Look to the Future in Airline Schedule Opti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8E4-9AC3-4214-BB57-6E72C5B2E6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D4EED-FEDA-402C-9DC7-63F2621E45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tate Of The Practice/ Theor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ctic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st schedule decisions made without opti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least one major airline uses Fleet Assignment with Time Wind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ementation of Incremental Schedule Design approach underway at a major air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ory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s and algorithms for incremental schedule design have been developed and prototyp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lidation in progr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C2D-B8A0-4E1D-A9BF-AB58DC3EB234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CA0ED-4AF7-4277-9CA1-968AA2F265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Experienc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D-FAM requires long runtimes and large amounts of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 40 minutes on a workstation class computer for medium size (800 legs) schedul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 20 hours on a 6-processor workstation, running parallel CPLEX for full size (2,000 legs)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D-FAM takes even longer runtimes and exhausts the memory in some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 mins (ISD-FAM) vs. 12 hrs (ESD-FAM) on same medium size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85A-B310-435E-824E-8B7B58FF0B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012E6-6527-4A6E-BD74-E3AAB3165B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and supply inter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D-FAM captures interactions more accurat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ing schedules operate fewer fl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er operating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er aircraft requi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~$100 - $350 million improvement annu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ed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lanners’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lude benefits from saved aircra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EBF-7AEB-4E4F-8DF2-C72D43757D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90C0B-0F8E-4C67-A055-E77DB33866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 are subject to several cavea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s are often disrup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etitors’ respon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lying assum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erministic dem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al control of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mand foreca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apture rates/Demand correction ter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etheless, significant improvements are 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59A-6457-49DB-BF31-2FED954118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4150F-571C-40A3-89D6-DF7F678D66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otential for Improved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lace IFAM with SF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8229600" cy="42256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391520" y="3124080"/>
            <a:ext cx="457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33cc"/>
                </a:solidFill>
                <a:latin typeface="Garamond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89C-E3B7-4608-B9C3-51F613B488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1E2D6-9E8B-4A2D-84DD-48A9FAC2AD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FAM Basic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olate network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occurs only on </a:t>
            </a:r>
            <a:r>
              <a:rPr b="0" i="1" lang="en-US" sz="2800" spc="-1" strike="noStrike">
                <a:solidFill>
                  <a:srgbClr val="ffff00"/>
                </a:solidFill>
                <a:latin typeface="Garamond"/>
              </a:rPr>
              <a:t>constrained le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112760" y="2317680"/>
            <a:ext cx="2656080" cy="3355920"/>
            <a:chOff x="1112760" y="2317680"/>
            <a:chExt cx="2656080" cy="3355920"/>
          </a:xfrm>
        </p:grpSpPr>
        <p:sp>
          <p:nvSpPr>
            <p:cNvPr id="392" name=""/>
            <p:cNvSpPr/>
            <p:nvPr/>
          </p:nvSpPr>
          <p:spPr>
            <a:xfrm>
              <a:off x="1112760" y="2317680"/>
              <a:ext cx="2656080" cy="3355920"/>
            </a:xfrm>
            <a:prstGeom prst="rect">
              <a:avLst/>
            </a:prstGeom>
            <a:solidFill>
              <a:srgbClr val="ccffcc"/>
            </a:solidFill>
            <a:ln w="65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527120" y="2571840"/>
              <a:ext cx="552600" cy="768240"/>
              <a:chOff x="1527120" y="2571840"/>
              <a:chExt cx="552600" cy="768240"/>
            </a:xfrm>
          </p:grpSpPr>
          <p:sp>
            <p:nvSpPr>
              <p:cNvPr id="394" name=""/>
              <p:cNvSpPr/>
              <p:nvPr/>
            </p:nvSpPr>
            <p:spPr>
              <a:xfrm>
                <a:off x="1547640" y="2577960"/>
                <a:ext cx="508320" cy="739800"/>
              </a:xfrm>
              <a:custGeom>
                <a:avLst/>
                <a:gdLst/>
                <a:ahLst/>
                <a:rect l="l" t="t" r="r" b="b"/>
                <a:pathLst>
                  <a:path w="1918" h="2330">
                    <a:moveTo>
                      <a:pt x="0" y="467"/>
                    </a:moveTo>
                    <a:lnTo>
                      <a:pt x="173" y="423"/>
                    </a:lnTo>
                    <a:lnTo>
                      <a:pt x="291" y="500"/>
                    </a:lnTo>
                    <a:lnTo>
                      <a:pt x="335" y="657"/>
                    </a:lnTo>
                    <a:lnTo>
                      <a:pt x="321" y="857"/>
                    </a:lnTo>
                    <a:lnTo>
                      <a:pt x="847" y="911"/>
                    </a:lnTo>
                    <a:lnTo>
                      <a:pt x="1134" y="34"/>
                    </a:lnTo>
                    <a:lnTo>
                      <a:pt x="1209" y="0"/>
                    </a:lnTo>
                    <a:lnTo>
                      <a:pt x="1302" y="11"/>
                    </a:lnTo>
                    <a:lnTo>
                      <a:pt x="1365" y="74"/>
                    </a:lnTo>
                    <a:lnTo>
                      <a:pt x="1393" y="230"/>
                    </a:lnTo>
                    <a:lnTo>
                      <a:pt x="1344" y="705"/>
                    </a:lnTo>
                    <a:lnTo>
                      <a:pt x="1312" y="984"/>
                    </a:lnTo>
                    <a:lnTo>
                      <a:pt x="1658" y="1064"/>
                    </a:lnTo>
                    <a:lnTo>
                      <a:pt x="1827" y="1139"/>
                    </a:lnTo>
                    <a:lnTo>
                      <a:pt x="1918" y="1253"/>
                    </a:lnTo>
                    <a:lnTo>
                      <a:pt x="1900" y="1342"/>
                    </a:lnTo>
                    <a:lnTo>
                      <a:pt x="1795" y="1406"/>
                    </a:lnTo>
                    <a:lnTo>
                      <a:pt x="1228" y="1334"/>
                    </a:lnTo>
                    <a:lnTo>
                      <a:pt x="1029" y="1953"/>
                    </a:lnTo>
                    <a:lnTo>
                      <a:pt x="929" y="2203"/>
                    </a:lnTo>
                    <a:lnTo>
                      <a:pt x="824" y="2330"/>
                    </a:lnTo>
                    <a:lnTo>
                      <a:pt x="636" y="2305"/>
                    </a:lnTo>
                    <a:lnTo>
                      <a:pt x="591" y="2162"/>
                    </a:lnTo>
                    <a:lnTo>
                      <a:pt x="749" y="1284"/>
                    </a:lnTo>
                    <a:lnTo>
                      <a:pt x="65" y="993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4760" y="2736720"/>
                <a:ext cx="501480" cy="276480"/>
              </a:xfrm>
              <a:custGeom>
                <a:avLst/>
                <a:gdLst/>
                <a:ahLst/>
                <a:rect l="l" t="t" r="r" b="b"/>
                <a:pathLst>
                  <a:path w="1898" h="871">
                    <a:moveTo>
                      <a:pt x="1898" y="806"/>
                    </a:moveTo>
                    <a:lnTo>
                      <a:pt x="290" y="457"/>
                    </a:lnTo>
                    <a:lnTo>
                      <a:pt x="230" y="122"/>
                    </a:lnTo>
                    <a:lnTo>
                      <a:pt x="0" y="0"/>
                    </a:lnTo>
                    <a:lnTo>
                      <a:pt x="40" y="444"/>
                    </a:lnTo>
                    <a:lnTo>
                      <a:pt x="383" y="643"/>
                    </a:lnTo>
                    <a:lnTo>
                      <a:pt x="1658" y="871"/>
                    </a:lnTo>
                    <a:lnTo>
                      <a:pt x="1857" y="855"/>
                    </a:lnTo>
                    <a:lnTo>
                      <a:pt x="1898" y="806"/>
                    </a:lnTo>
                    <a:lnTo>
                      <a:pt x="1898" y="806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46160" y="294156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01" h="97">
                    <a:moveTo>
                      <a:pt x="38" y="96"/>
                    </a:moveTo>
                    <a:lnTo>
                      <a:pt x="19" y="87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0" y="35"/>
                    </a:lnTo>
                    <a:lnTo>
                      <a:pt x="10" y="17"/>
                    </a:lnTo>
                    <a:lnTo>
                      <a:pt x="18" y="13"/>
                    </a:lnTo>
                    <a:lnTo>
                      <a:pt x="24" y="7"/>
                    </a:lnTo>
                    <a:lnTo>
                      <a:pt x="34" y="3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5" y="3"/>
                    </a:lnTo>
                    <a:lnTo>
                      <a:pt x="83" y="11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1" y="62"/>
                    </a:lnTo>
                    <a:lnTo>
                      <a:pt x="91" y="79"/>
                    </a:lnTo>
                    <a:lnTo>
                      <a:pt x="85" y="85"/>
                    </a:lnTo>
                    <a:lnTo>
                      <a:pt x="76" y="91"/>
                    </a:lnTo>
                    <a:lnTo>
                      <a:pt x="68" y="95"/>
                    </a:lnTo>
                    <a:lnTo>
                      <a:pt x="57" y="96"/>
                    </a:lnTo>
                    <a:lnTo>
                      <a:pt x="48" y="97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93960" y="2930400"/>
                <a:ext cx="25200" cy="3204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38" y="96"/>
                    </a:moveTo>
                    <a:lnTo>
                      <a:pt x="20" y="88"/>
                    </a:lnTo>
                    <a:lnTo>
                      <a:pt x="7" y="73"/>
                    </a:lnTo>
                    <a:lnTo>
                      <a:pt x="0" y="56"/>
                    </a:lnTo>
                    <a:lnTo>
                      <a:pt x="2" y="35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3" y="0"/>
                    </a:lnTo>
                    <a:lnTo>
                      <a:pt x="54" y="1"/>
                    </a:lnTo>
                    <a:lnTo>
                      <a:pt x="65" y="1"/>
                    </a:lnTo>
                    <a:lnTo>
                      <a:pt x="82" y="10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0" y="61"/>
                    </a:lnTo>
                    <a:lnTo>
                      <a:pt x="91" y="79"/>
                    </a:lnTo>
                    <a:lnTo>
                      <a:pt x="85" y="85"/>
                    </a:lnTo>
                    <a:lnTo>
                      <a:pt x="76" y="92"/>
                    </a:lnTo>
                    <a:lnTo>
                      <a:pt x="67" y="95"/>
                    </a:lnTo>
                    <a:lnTo>
                      <a:pt x="57" y="96"/>
                    </a:lnTo>
                    <a:lnTo>
                      <a:pt x="49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39960" y="291924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03" h="98">
                    <a:moveTo>
                      <a:pt x="38" y="95"/>
                    </a:moveTo>
                    <a:lnTo>
                      <a:pt x="18" y="87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3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82" y="11"/>
                    </a:lnTo>
                    <a:lnTo>
                      <a:pt x="95" y="26"/>
                    </a:lnTo>
                    <a:lnTo>
                      <a:pt x="103" y="43"/>
                    </a:lnTo>
                    <a:lnTo>
                      <a:pt x="100" y="62"/>
                    </a:lnTo>
                    <a:lnTo>
                      <a:pt x="92" y="80"/>
                    </a:lnTo>
                    <a:lnTo>
                      <a:pt x="85" y="86"/>
                    </a:lnTo>
                    <a:lnTo>
                      <a:pt x="77" y="92"/>
                    </a:lnTo>
                    <a:lnTo>
                      <a:pt x="67" y="95"/>
                    </a:lnTo>
                    <a:lnTo>
                      <a:pt x="58" y="98"/>
                    </a:lnTo>
                    <a:lnTo>
                      <a:pt x="47" y="98"/>
                    </a:lnTo>
                    <a:lnTo>
                      <a:pt x="38" y="95"/>
                    </a:lnTo>
                    <a:lnTo>
                      <a:pt x="38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87400" y="29098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02" h="97">
                    <a:moveTo>
                      <a:pt x="37" y="94"/>
                    </a:moveTo>
                    <a:lnTo>
                      <a:pt x="19" y="86"/>
                    </a:lnTo>
                    <a:lnTo>
                      <a:pt x="7" y="73"/>
                    </a:lnTo>
                    <a:lnTo>
                      <a:pt x="0" y="55"/>
                    </a:lnTo>
                    <a:lnTo>
                      <a:pt x="1" y="35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7"/>
                    </a:lnTo>
                    <a:lnTo>
                      <a:pt x="34" y="2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82" y="11"/>
                    </a:lnTo>
                    <a:lnTo>
                      <a:pt x="96" y="25"/>
                    </a:lnTo>
                    <a:lnTo>
                      <a:pt x="102" y="43"/>
                    </a:lnTo>
                    <a:lnTo>
                      <a:pt x="100" y="61"/>
                    </a:lnTo>
                    <a:lnTo>
                      <a:pt x="92" y="79"/>
                    </a:lnTo>
                    <a:lnTo>
                      <a:pt x="84" y="85"/>
                    </a:lnTo>
                    <a:lnTo>
                      <a:pt x="78" y="90"/>
                    </a:lnTo>
                    <a:lnTo>
                      <a:pt x="67" y="94"/>
                    </a:lnTo>
                    <a:lnTo>
                      <a:pt x="59" y="97"/>
                    </a:lnTo>
                    <a:lnTo>
                      <a:pt x="49" y="96"/>
                    </a:lnTo>
                    <a:lnTo>
                      <a:pt x="37" y="94"/>
                    </a:lnTo>
                    <a:lnTo>
                      <a:pt x="3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33400" y="28987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02" h="96">
                    <a:moveTo>
                      <a:pt x="37" y="95"/>
                    </a:moveTo>
                    <a:lnTo>
                      <a:pt x="20" y="85"/>
                    </a:lnTo>
                    <a:lnTo>
                      <a:pt x="6" y="72"/>
                    </a:lnTo>
                    <a:lnTo>
                      <a:pt x="0" y="53"/>
                    </a:lnTo>
                    <a:lnTo>
                      <a:pt x="2" y="35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2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82" y="11"/>
                    </a:lnTo>
                    <a:lnTo>
                      <a:pt x="96" y="23"/>
                    </a:lnTo>
                    <a:lnTo>
                      <a:pt x="102" y="41"/>
                    </a:lnTo>
                    <a:lnTo>
                      <a:pt x="101" y="61"/>
                    </a:lnTo>
                    <a:lnTo>
                      <a:pt x="92" y="78"/>
                    </a:lnTo>
                    <a:lnTo>
                      <a:pt x="84" y="84"/>
                    </a:lnTo>
                    <a:lnTo>
                      <a:pt x="77" y="90"/>
                    </a:lnTo>
                    <a:lnTo>
                      <a:pt x="67" y="94"/>
                    </a:lnTo>
                    <a:lnTo>
                      <a:pt x="58" y="96"/>
                    </a:lnTo>
                    <a:lnTo>
                      <a:pt x="48" y="96"/>
                    </a:lnTo>
                    <a:lnTo>
                      <a:pt x="37" y="95"/>
                    </a:lnTo>
                    <a:lnTo>
                      <a:pt x="3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81200" y="288756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37" y="96"/>
                    </a:moveTo>
                    <a:lnTo>
                      <a:pt x="19" y="87"/>
                    </a:lnTo>
                    <a:lnTo>
                      <a:pt x="6" y="72"/>
                    </a:lnTo>
                    <a:lnTo>
                      <a:pt x="0" y="55"/>
                    </a:lnTo>
                    <a:lnTo>
                      <a:pt x="0" y="36"/>
                    </a:lnTo>
                    <a:lnTo>
                      <a:pt x="10" y="18"/>
                    </a:lnTo>
                    <a:lnTo>
                      <a:pt x="16" y="12"/>
                    </a:lnTo>
                    <a:lnTo>
                      <a:pt x="24" y="7"/>
                    </a:lnTo>
                    <a:lnTo>
                      <a:pt x="34" y="3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3" y="3"/>
                    </a:lnTo>
                    <a:lnTo>
                      <a:pt x="82" y="11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0" y="62"/>
                    </a:lnTo>
                    <a:lnTo>
                      <a:pt x="90" y="79"/>
                    </a:lnTo>
                    <a:lnTo>
                      <a:pt x="84" y="85"/>
                    </a:lnTo>
                    <a:lnTo>
                      <a:pt x="76" y="92"/>
                    </a:lnTo>
                    <a:lnTo>
                      <a:pt x="68" y="95"/>
                    </a:lnTo>
                    <a:lnTo>
                      <a:pt x="57" y="97"/>
                    </a:lnTo>
                    <a:lnTo>
                      <a:pt x="48" y="98"/>
                    </a:lnTo>
                    <a:lnTo>
                      <a:pt x="37" y="96"/>
                    </a:lnTo>
                    <a:lnTo>
                      <a:pt x="37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27200" y="2876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01" h="99">
                    <a:moveTo>
                      <a:pt x="38" y="96"/>
                    </a:moveTo>
                    <a:lnTo>
                      <a:pt x="20" y="88"/>
                    </a:lnTo>
                    <a:lnTo>
                      <a:pt x="6" y="73"/>
                    </a:lnTo>
                    <a:lnTo>
                      <a:pt x="0" y="56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3"/>
                    </a:lnTo>
                    <a:lnTo>
                      <a:pt x="25" y="8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82" y="11"/>
                    </a:lnTo>
                    <a:lnTo>
                      <a:pt x="94" y="26"/>
                    </a:lnTo>
                    <a:lnTo>
                      <a:pt x="101" y="43"/>
                    </a:lnTo>
                    <a:lnTo>
                      <a:pt x="100" y="63"/>
                    </a:lnTo>
                    <a:lnTo>
                      <a:pt x="91" y="80"/>
                    </a:lnTo>
                    <a:lnTo>
                      <a:pt x="85" y="86"/>
                    </a:lnTo>
                    <a:lnTo>
                      <a:pt x="75" y="92"/>
                    </a:lnTo>
                    <a:lnTo>
                      <a:pt x="67" y="96"/>
                    </a:lnTo>
                    <a:lnTo>
                      <a:pt x="57" y="98"/>
                    </a:lnTo>
                    <a:lnTo>
                      <a:pt x="47" y="99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54280" y="2571840"/>
                <a:ext cx="168120" cy="326880"/>
              </a:xfrm>
              <a:custGeom>
                <a:avLst/>
                <a:gdLst/>
                <a:ahLst/>
                <a:rect l="l" t="t" r="r" b="b"/>
                <a:pathLst>
                  <a:path w="636" h="1031">
                    <a:moveTo>
                      <a:pt x="0" y="944"/>
                    </a:moveTo>
                    <a:lnTo>
                      <a:pt x="23" y="804"/>
                    </a:lnTo>
                    <a:lnTo>
                      <a:pt x="52" y="661"/>
                    </a:lnTo>
                    <a:lnTo>
                      <a:pt x="72" y="579"/>
                    </a:lnTo>
                    <a:lnTo>
                      <a:pt x="94" y="494"/>
                    </a:lnTo>
                    <a:lnTo>
                      <a:pt x="121" y="409"/>
                    </a:lnTo>
                    <a:lnTo>
                      <a:pt x="150" y="326"/>
                    </a:lnTo>
                    <a:lnTo>
                      <a:pt x="166" y="285"/>
                    </a:lnTo>
                    <a:lnTo>
                      <a:pt x="183" y="247"/>
                    </a:lnTo>
                    <a:lnTo>
                      <a:pt x="201" y="209"/>
                    </a:lnTo>
                    <a:lnTo>
                      <a:pt x="219" y="174"/>
                    </a:lnTo>
                    <a:lnTo>
                      <a:pt x="239" y="142"/>
                    </a:lnTo>
                    <a:lnTo>
                      <a:pt x="258" y="113"/>
                    </a:lnTo>
                    <a:lnTo>
                      <a:pt x="303" y="60"/>
                    </a:lnTo>
                    <a:lnTo>
                      <a:pt x="314" y="50"/>
                    </a:lnTo>
                    <a:lnTo>
                      <a:pt x="325" y="40"/>
                    </a:lnTo>
                    <a:lnTo>
                      <a:pt x="350" y="24"/>
                    </a:lnTo>
                    <a:lnTo>
                      <a:pt x="374" y="13"/>
                    </a:lnTo>
                    <a:lnTo>
                      <a:pt x="401" y="5"/>
                    </a:lnTo>
                    <a:lnTo>
                      <a:pt x="474" y="0"/>
                    </a:lnTo>
                    <a:lnTo>
                      <a:pt x="544" y="19"/>
                    </a:lnTo>
                    <a:lnTo>
                      <a:pt x="573" y="43"/>
                    </a:lnTo>
                    <a:lnTo>
                      <a:pt x="588" y="60"/>
                    </a:lnTo>
                    <a:lnTo>
                      <a:pt x="599" y="81"/>
                    </a:lnTo>
                    <a:lnTo>
                      <a:pt x="636" y="199"/>
                    </a:lnTo>
                    <a:lnTo>
                      <a:pt x="634" y="412"/>
                    </a:lnTo>
                    <a:lnTo>
                      <a:pt x="600" y="690"/>
                    </a:lnTo>
                    <a:lnTo>
                      <a:pt x="561" y="929"/>
                    </a:lnTo>
                    <a:lnTo>
                      <a:pt x="542" y="1031"/>
                    </a:lnTo>
                    <a:lnTo>
                      <a:pt x="488" y="1030"/>
                    </a:lnTo>
                    <a:lnTo>
                      <a:pt x="511" y="910"/>
                    </a:lnTo>
                    <a:lnTo>
                      <a:pt x="554" y="638"/>
                    </a:lnTo>
                    <a:lnTo>
                      <a:pt x="585" y="338"/>
                    </a:lnTo>
                    <a:lnTo>
                      <a:pt x="585" y="218"/>
                    </a:lnTo>
                    <a:lnTo>
                      <a:pt x="580" y="172"/>
                    </a:lnTo>
                    <a:lnTo>
                      <a:pt x="570" y="139"/>
                    </a:lnTo>
                    <a:lnTo>
                      <a:pt x="544" y="94"/>
                    </a:lnTo>
                    <a:lnTo>
                      <a:pt x="530" y="78"/>
                    </a:lnTo>
                    <a:lnTo>
                      <a:pt x="516" y="65"/>
                    </a:lnTo>
                    <a:lnTo>
                      <a:pt x="488" y="47"/>
                    </a:lnTo>
                    <a:lnTo>
                      <a:pt x="464" y="39"/>
                    </a:lnTo>
                    <a:lnTo>
                      <a:pt x="424" y="40"/>
                    </a:lnTo>
                    <a:lnTo>
                      <a:pt x="408" y="46"/>
                    </a:lnTo>
                    <a:lnTo>
                      <a:pt x="461" y="166"/>
                    </a:lnTo>
                    <a:lnTo>
                      <a:pt x="362" y="209"/>
                    </a:lnTo>
                    <a:lnTo>
                      <a:pt x="439" y="293"/>
                    </a:lnTo>
                    <a:lnTo>
                      <a:pt x="334" y="359"/>
                    </a:lnTo>
                    <a:lnTo>
                      <a:pt x="430" y="472"/>
                    </a:lnTo>
                    <a:lnTo>
                      <a:pt x="307" y="552"/>
                    </a:lnTo>
                    <a:lnTo>
                      <a:pt x="381" y="671"/>
                    </a:lnTo>
                    <a:lnTo>
                      <a:pt x="272" y="748"/>
                    </a:lnTo>
                    <a:lnTo>
                      <a:pt x="343" y="1010"/>
                    </a:lnTo>
                    <a:lnTo>
                      <a:pt x="0" y="944"/>
                    </a:lnTo>
                    <a:lnTo>
                      <a:pt x="0" y="9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87680" y="2952720"/>
                <a:ext cx="191880" cy="387360"/>
              </a:xfrm>
              <a:custGeom>
                <a:avLst/>
                <a:gdLst/>
                <a:ahLst/>
                <a:rect l="l" t="t" r="r" b="b"/>
                <a:pathLst>
                  <a:path w="724" h="1220">
                    <a:moveTo>
                      <a:pt x="178" y="0"/>
                    </a:moveTo>
                    <a:lnTo>
                      <a:pt x="164" y="45"/>
                    </a:lnTo>
                    <a:lnTo>
                      <a:pt x="132" y="166"/>
                    </a:lnTo>
                    <a:lnTo>
                      <a:pt x="110" y="247"/>
                    </a:lnTo>
                    <a:lnTo>
                      <a:pt x="89" y="338"/>
                    </a:lnTo>
                    <a:lnTo>
                      <a:pt x="46" y="541"/>
                    </a:lnTo>
                    <a:lnTo>
                      <a:pt x="14" y="748"/>
                    </a:lnTo>
                    <a:lnTo>
                      <a:pt x="4" y="846"/>
                    </a:lnTo>
                    <a:lnTo>
                      <a:pt x="0" y="938"/>
                    </a:lnTo>
                    <a:lnTo>
                      <a:pt x="5" y="1020"/>
                    </a:lnTo>
                    <a:lnTo>
                      <a:pt x="17" y="1089"/>
                    </a:lnTo>
                    <a:lnTo>
                      <a:pt x="40" y="1143"/>
                    </a:lnTo>
                    <a:lnTo>
                      <a:pt x="56" y="1162"/>
                    </a:lnTo>
                    <a:lnTo>
                      <a:pt x="74" y="1177"/>
                    </a:lnTo>
                    <a:lnTo>
                      <a:pt x="98" y="1190"/>
                    </a:lnTo>
                    <a:lnTo>
                      <a:pt x="121" y="1202"/>
                    </a:lnTo>
                    <a:lnTo>
                      <a:pt x="165" y="1219"/>
                    </a:lnTo>
                    <a:lnTo>
                      <a:pt x="252" y="1220"/>
                    </a:lnTo>
                    <a:lnTo>
                      <a:pt x="294" y="1202"/>
                    </a:lnTo>
                    <a:lnTo>
                      <a:pt x="318" y="1187"/>
                    </a:lnTo>
                    <a:lnTo>
                      <a:pt x="339" y="1169"/>
                    </a:lnTo>
                    <a:lnTo>
                      <a:pt x="364" y="1147"/>
                    </a:lnTo>
                    <a:lnTo>
                      <a:pt x="375" y="1135"/>
                    </a:lnTo>
                    <a:lnTo>
                      <a:pt x="388" y="1121"/>
                    </a:lnTo>
                    <a:lnTo>
                      <a:pt x="439" y="1054"/>
                    </a:lnTo>
                    <a:lnTo>
                      <a:pt x="467" y="1011"/>
                    </a:lnTo>
                    <a:lnTo>
                      <a:pt x="492" y="954"/>
                    </a:lnTo>
                    <a:lnTo>
                      <a:pt x="519" y="890"/>
                    </a:lnTo>
                    <a:lnTo>
                      <a:pt x="545" y="817"/>
                    </a:lnTo>
                    <a:lnTo>
                      <a:pt x="569" y="738"/>
                    </a:lnTo>
                    <a:lnTo>
                      <a:pt x="592" y="658"/>
                    </a:lnTo>
                    <a:lnTo>
                      <a:pt x="636" y="490"/>
                    </a:lnTo>
                    <a:lnTo>
                      <a:pt x="672" y="332"/>
                    </a:lnTo>
                    <a:lnTo>
                      <a:pt x="700" y="200"/>
                    </a:lnTo>
                    <a:lnTo>
                      <a:pt x="724" y="76"/>
                    </a:lnTo>
                    <a:lnTo>
                      <a:pt x="669" y="55"/>
                    </a:lnTo>
                    <a:lnTo>
                      <a:pt x="648" y="150"/>
                    </a:lnTo>
                    <a:lnTo>
                      <a:pt x="624" y="251"/>
                    </a:lnTo>
                    <a:lnTo>
                      <a:pt x="593" y="376"/>
                    </a:lnTo>
                    <a:lnTo>
                      <a:pt x="557" y="514"/>
                    </a:lnTo>
                    <a:lnTo>
                      <a:pt x="519" y="652"/>
                    </a:lnTo>
                    <a:lnTo>
                      <a:pt x="498" y="720"/>
                    </a:lnTo>
                    <a:lnTo>
                      <a:pt x="476" y="783"/>
                    </a:lnTo>
                    <a:lnTo>
                      <a:pt x="455" y="842"/>
                    </a:lnTo>
                    <a:lnTo>
                      <a:pt x="435" y="895"/>
                    </a:lnTo>
                    <a:lnTo>
                      <a:pt x="412" y="939"/>
                    </a:lnTo>
                    <a:lnTo>
                      <a:pt x="391" y="977"/>
                    </a:lnTo>
                    <a:lnTo>
                      <a:pt x="369" y="1009"/>
                    </a:lnTo>
                    <a:lnTo>
                      <a:pt x="346" y="1034"/>
                    </a:lnTo>
                    <a:lnTo>
                      <a:pt x="335" y="1045"/>
                    </a:lnTo>
                    <a:lnTo>
                      <a:pt x="323" y="1053"/>
                    </a:lnTo>
                    <a:lnTo>
                      <a:pt x="303" y="1069"/>
                    </a:lnTo>
                    <a:lnTo>
                      <a:pt x="280" y="1080"/>
                    </a:lnTo>
                    <a:lnTo>
                      <a:pt x="262" y="1087"/>
                    </a:lnTo>
                    <a:lnTo>
                      <a:pt x="198" y="1089"/>
                    </a:lnTo>
                    <a:lnTo>
                      <a:pt x="173" y="1083"/>
                    </a:lnTo>
                    <a:lnTo>
                      <a:pt x="309" y="877"/>
                    </a:lnTo>
                    <a:lnTo>
                      <a:pt x="178" y="729"/>
                    </a:lnTo>
                    <a:lnTo>
                      <a:pt x="353" y="656"/>
                    </a:lnTo>
                    <a:lnTo>
                      <a:pt x="213" y="466"/>
                    </a:lnTo>
                    <a:lnTo>
                      <a:pt x="416" y="383"/>
                    </a:lnTo>
                    <a:lnTo>
                      <a:pt x="278" y="191"/>
                    </a:lnTo>
                    <a:lnTo>
                      <a:pt x="500" y="58"/>
                    </a:lnTo>
                    <a:lnTo>
                      <a:pt x="178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7120" y="2705040"/>
                <a:ext cx="552600" cy="354240"/>
              </a:xfrm>
              <a:custGeom>
                <a:avLst/>
                <a:gdLst/>
                <a:ahLst/>
                <a:rect l="l" t="t" r="r" b="b"/>
                <a:pathLst>
                  <a:path w="2084" h="1113">
                    <a:moveTo>
                      <a:pt x="401" y="440"/>
                    </a:moveTo>
                    <a:lnTo>
                      <a:pt x="368" y="477"/>
                    </a:lnTo>
                    <a:lnTo>
                      <a:pt x="588" y="504"/>
                    </a:lnTo>
                    <a:lnTo>
                      <a:pt x="814" y="534"/>
                    </a:lnTo>
                    <a:lnTo>
                      <a:pt x="1077" y="570"/>
                    </a:lnTo>
                    <a:lnTo>
                      <a:pt x="1344" y="613"/>
                    </a:lnTo>
                    <a:lnTo>
                      <a:pt x="1471" y="636"/>
                    </a:lnTo>
                    <a:lnTo>
                      <a:pt x="1586" y="660"/>
                    </a:lnTo>
                    <a:lnTo>
                      <a:pt x="1685" y="684"/>
                    </a:lnTo>
                    <a:lnTo>
                      <a:pt x="1767" y="707"/>
                    </a:lnTo>
                    <a:lnTo>
                      <a:pt x="1839" y="740"/>
                    </a:lnTo>
                    <a:lnTo>
                      <a:pt x="1880" y="768"/>
                    </a:lnTo>
                    <a:lnTo>
                      <a:pt x="1900" y="790"/>
                    </a:lnTo>
                    <a:lnTo>
                      <a:pt x="1915" y="810"/>
                    </a:lnTo>
                    <a:lnTo>
                      <a:pt x="1933" y="840"/>
                    </a:lnTo>
                    <a:lnTo>
                      <a:pt x="1945" y="867"/>
                    </a:lnTo>
                    <a:lnTo>
                      <a:pt x="1945" y="904"/>
                    </a:lnTo>
                    <a:lnTo>
                      <a:pt x="1930" y="923"/>
                    </a:lnTo>
                    <a:lnTo>
                      <a:pt x="1916" y="935"/>
                    </a:lnTo>
                    <a:lnTo>
                      <a:pt x="1898" y="941"/>
                    </a:lnTo>
                    <a:lnTo>
                      <a:pt x="1863" y="941"/>
                    </a:lnTo>
                    <a:lnTo>
                      <a:pt x="1810" y="940"/>
                    </a:lnTo>
                    <a:lnTo>
                      <a:pt x="1732" y="927"/>
                    </a:lnTo>
                    <a:lnTo>
                      <a:pt x="1630" y="908"/>
                    </a:lnTo>
                    <a:lnTo>
                      <a:pt x="1509" y="887"/>
                    </a:lnTo>
                    <a:lnTo>
                      <a:pt x="1376" y="860"/>
                    </a:lnTo>
                    <a:lnTo>
                      <a:pt x="1236" y="833"/>
                    </a:lnTo>
                    <a:lnTo>
                      <a:pt x="1093" y="804"/>
                    </a:lnTo>
                    <a:lnTo>
                      <a:pt x="949" y="773"/>
                    </a:lnTo>
                    <a:lnTo>
                      <a:pt x="812" y="743"/>
                    </a:lnTo>
                    <a:lnTo>
                      <a:pt x="684" y="717"/>
                    </a:lnTo>
                    <a:lnTo>
                      <a:pt x="569" y="690"/>
                    </a:lnTo>
                    <a:lnTo>
                      <a:pt x="472" y="671"/>
                    </a:lnTo>
                    <a:lnTo>
                      <a:pt x="398" y="653"/>
                    </a:lnTo>
                    <a:lnTo>
                      <a:pt x="334" y="639"/>
                    </a:lnTo>
                    <a:lnTo>
                      <a:pt x="154" y="400"/>
                    </a:lnTo>
                    <a:lnTo>
                      <a:pt x="255" y="396"/>
                    </a:lnTo>
                    <a:lnTo>
                      <a:pt x="173" y="232"/>
                    </a:lnTo>
                    <a:lnTo>
                      <a:pt x="298" y="224"/>
                    </a:lnTo>
                    <a:lnTo>
                      <a:pt x="106" y="0"/>
                    </a:lnTo>
                    <a:lnTo>
                      <a:pt x="36" y="66"/>
                    </a:lnTo>
                    <a:lnTo>
                      <a:pt x="0" y="174"/>
                    </a:lnTo>
                    <a:lnTo>
                      <a:pt x="3" y="288"/>
                    </a:lnTo>
                    <a:lnTo>
                      <a:pt x="13" y="369"/>
                    </a:lnTo>
                    <a:lnTo>
                      <a:pt x="29" y="449"/>
                    </a:lnTo>
                    <a:lnTo>
                      <a:pt x="46" y="521"/>
                    </a:lnTo>
                    <a:lnTo>
                      <a:pt x="61" y="583"/>
                    </a:lnTo>
                    <a:lnTo>
                      <a:pt x="77" y="638"/>
                    </a:lnTo>
                    <a:lnTo>
                      <a:pt x="119" y="656"/>
                    </a:lnTo>
                    <a:lnTo>
                      <a:pt x="166" y="675"/>
                    </a:lnTo>
                    <a:lnTo>
                      <a:pt x="225" y="701"/>
                    </a:lnTo>
                    <a:lnTo>
                      <a:pt x="258" y="716"/>
                    </a:lnTo>
                    <a:lnTo>
                      <a:pt x="292" y="729"/>
                    </a:lnTo>
                    <a:lnTo>
                      <a:pt x="329" y="744"/>
                    </a:lnTo>
                    <a:lnTo>
                      <a:pt x="365" y="761"/>
                    </a:lnTo>
                    <a:lnTo>
                      <a:pt x="402" y="776"/>
                    </a:lnTo>
                    <a:lnTo>
                      <a:pt x="440" y="791"/>
                    </a:lnTo>
                    <a:lnTo>
                      <a:pt x="477" y="806"/>
                    </a:lnTo>
                    <a:lnTo>
                      <a:pt x="512" y="821"/>
                    </a:lnTo>
                    <a:lnTo>
                      <a:pt x="578" y="847"/>
                    </a:lnTo>
                    <a:lnTo>
                      <a:pt x="638" y="869"/>
                    </a:lnTo>
                    <a:lnTo>
                      <a:pt x="694" y="888"/>
                    </a:lnTo>
                    <a:lnTo>
                      <a:pt x="740" y="904"/>
                    </a:lnTo>
                    <a:lnTo>
                      <a:pt x="830" y="929"/>
                    </a:lnTo>
                    <a:lnTo>
                      <a:pt x="867" y="829"/>
                    </a:lnTo>
                    <a:lnTo>
                      <a:pt x="1285" y="905"/>
                    </a:lnTo>
                    <a:lnTo>
                      <a:pt x="1257" y="1049"/>
                    </a:lnTo>
                    <a:lnTo>
                      <a:pt x="1332" y="1065"/>
                    </a:lnTo>
                    <a:lnTo>
                      <a:pt x="1412" y="1080"/>
                    </a:lnTo>
                    <a:lnTo>
                      <a:pt x="1513" y="1096"/>
                    </a:lnTo>
                    <a:lnTo>
                      <a:pt x="1628" y="1110"/>
                    </a:lnTo>
                    <a:lnTo>
                      <a:pt x="1737" y="1113"/>
                    </a:lnTo>
                    <a:lnTo>
                      <a:pt x="1836" y="1112"/>
                    </a:lnTo>
                    <a:lnTo>
                      <a:pt x="1925" y="1096"/>
                    </a:lnTo>
                    <a:lnTo>
                      <a:pt x="1992" y="1074"/>
                    </a:lnTo>
                    <a:lnTo>
                      <a:pt x="2038" y="1047"/>
                    </a:lnTo>
                    <a:lnTo>
                      <a:pt x="2062" y="1024"/>
                    </a:lnTo>
                    <a:lnTo>
                      <a:pt x="2078" y="992"/>
                    </a:lnTo>
                    <a:lnTo>
                      <a:pt x="2084" y="958"/>
                    </a:lnTo>
                    <a:lnTo>
                      <a:pt x="2082" y="928"/>
                    </a:lnTo>
                    <a:lnTo>
                      <a:pt x="2073" y="896"/>
                    </a:lnTo>
                    <a:lnTo>
                      <a:pt x="2053" y="857"/>
                    </a:lnTo>
                    <a:lnTo>
                      <a:pt x="2026" y="819"/>
                    </a:lnTo>
                    <a:lnTo>
                      <a:pt x="1997" y="788"/>
                    </a:lnTo>
                    <a:lnTo>
                      <a:pt x="1983" y="775"/>
                    </a:lnTo>
                    <a:lnTo>
                      <a:pt x="1969" y="762"/>
                    </a:lnTo>
                    <a:lnTo>
                      <a:pt x="1951" y="749"/>
                    </a:lnTo>
                    <a:lnTo>
                      <a:pt x="1931" y="736"/>
                    </a:lnTo>
                    <a:lnTo>
                      <a:pt x="1908" y="723"/>
                    </a:lnTo>
                    <a:lnTo>
                      <a:pt x="1882" y="708"/>
                    </a:lnTo>
                    <a:lnTo>
                      <a:pt x="1852" y="694"/>
                    </a:lnTo>
                    <a:lnTo>
                      <a:pt x="1818" y="679"/>
                    </a:lnTo>
                    <a:lnTo>
                      <a:pt x="1780" y="665"/>
                    </a:lnTo>
                    <a:lnTo>
                      <a:pt x="1736" y="649"/>
                    </a:lnTo>
                    <a:lnTo>
                      <a:pt x="1681" y="632"/>
                    </a:lnTo>
                    <a:lnTo>
                      <a:pt x="1608" y="616"/>
                    </a:lnTo>
                    <a:lnTo>
                      <a:pt x="1523" y="598"/>
                    </a:lnTo>
                    <a:lnTo>
                      <a:pt x="1425" y="580"/>
                    </a:lnTo>
                    <a:lnTo>
                      <a:pt x="1207" y="544"/>
                    </a:lnTo>
                    <a:lnTo>
                      <a:pt x="978" y="512"/>
                    </a:lnTo>
                    <a:lnTo>
                      <a:pt x="760" y="484"/>
                    </a:lnTo>
                    <a:lnTo>
                      <a:pt x="576" y="461"/>
                    </a:lnTo>
                    <a:lnTo>
                      <a:pt x="401" y="440"/>
                    </a:lnTo>
                    <a:lnTo>
                      <a:pt x="40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47640" y="269892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366" h="496">
                    <a:moveTo>
                      <a:pt x="0" y="44"/>
                    </a:moveTo>
                    <a:lnTo>
                      <a:pt x="60" y="6"/>
                    </a:lnTo>
                    <a:lnTo>
                      <a:pt x="112" y="0"/>
                    </a:lnTo>
                    <a:lnTo>
                      <a:pt x="177" y="12"/>
                    </a:lnTo>
                    <a:lnTo>
                      <a:pt x="243" y="44"/>
                    </a:lnTo>
                    <a:lnTo>
                      <a:pt x="275" y="67"/>
                    </a:lnTo>
                    <a:lnTo>
                      <a:pt x="301" y="97"/>
                    </a:lnTo>
                    <a:lnTo>
                      <a:pt x="341" y="164"/>
                    </a:lnTo>
                    <a:lnTo>
                      <a:pt x="360" y="229"/>
                    </a:lnTo>
                    <a:lnTo>
                      <a:pt x="366" y="332"/>
                    </a:lnTo>
                    <a:lnTo>
                      <a:pt x="350" y="413"/>
                    </a:lnTo>
                    <a:lnTo>
                      <a:pt x="336" y="464"/>
                    </a:lnTo>
                    <a:lnTo>
                      <a:pt x="298" y="496"/>
                    </a:lnTo>
                    <a:lnTo>
                      <a:pt x="310" y="219"/>
                    </a:lnTo>
                    <a:lnTo>
                      <a:pt x="282" y="170"/>
                    </a:lnTo>
                    <a:lnTo>
                      <a:pt x="268" y="152"/>
                    </a:lnTo>
                    <a:lnTo>
                      <a:pt x="256" y="136"/>
                    </a:lnTo>
                    <a:lnTo>
                      <a:pt x="241" y="123"/>
                    </a:lnTo>
                    <a:lnTo>
                      <a:pt x="226" y="115"/>
                    </a:lnTo>
                    <a:lnTo>
                      <a:pt x="194" y="101"/>
                    </a:lnTo>
                    <a:lnTo>
                      <a:pt x="158" y="100"/>
                    </a:lnTo>
                    <a:lnTo>
                      <a:pt x="122" y="108"/>
                    </a:lnTo>
                    <a:lnTo>
                      <a:pt x="95" y="120"/>
                    </a:lnTo>
                    <a:lnTo>
                      <a:pt x="84" y="125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38160" y="309240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228" h="207">
                    <a:moveTo>
                      <a:pt x="61" y="0"/>
                    </a:moveTo>
                    <a:lnTo>
                      <a:pt x="156" y="26"/>
                    </a:lnTo>
                    <a:lnTo>
                      <a:pt x="217" y="72"/>
                    </a:lnTo>
                    <a:lnTo>
                      <a:pt x="228" y="123"/>
                    </a:lnTo>
                    <a:lnTo>
                      <a:pt x="215" y="173"/>
                    </a:lnTo>
                    <a:lnTo>
                      <a:pt x="177" y="203"/>
                    </a:lnTo>
                    <a:lnTo>
                      <a:pt x="137" y="207"/>
                    </a:lnTo>
                    <a:lnTo>
                      <a:pt x="0" y="19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95520" y="3059280"/>
                <a:ext cx="102960" cy="45720"/>
              </a:xfrm>
              <a:custGeom>
                <a:avLst/>
                <a:gdLst/>
                <a:ahLst/>
                <a:rect l="l" t="t" r="r" b="b"/>
                <a:pathLst>
                  <a:path w="389" h="143">
                    <a:moveTo>
                      <a:pt x="389" y="30"/>
                    </a:moveTo>
                    <a:lnTo>
                      <a:pt x="357" y="143"/>
                    </a:lnTo>
                    <a:lnTo>
                      <a:pt x="0" y="0"/>
                    </a:lnTo>
                    <a:lnTo>
                      <a:pt x="389" y="30"/>
                    </a:lnTo>
                    <a:lnTo>
                      <a:pt x="38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68600" y="2692440"/>
                <a:ext cx="93600" cy="34920"/>
              </a:xfrm>
              <a:custGeom>
                <a:avLst/>
                <a:gdLst/>
                <a:ahLst/>
                <a:rect l="l" t="t" r="r" b="b"/>
                <a:pathLst>
                  <a:path w="359" h="106">
                    <a:moveTo>
                      <a:pt x="359" y="17"/>
                    </a:moveTo>
                    <a:lnTo>
                      <a:pt x="338" y="106"/>
                    </a:lnTo>
                    <a:lnTo>
                      <a:pt x="0" y="0"/>
                    </a:lnTo>
                    <a:lnTo>
                      <a:pt x="359" y="17"/>
                    </a:lnTo>
                    <a:lnTo>
                      <a:pt x="35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03320" y="272088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228" h="219">
                    <a:moveTo>
                      <a:pt x="28" y="0"/>
                    </a:moveTo>
                    <a:lnTo>
                      <a:pt x="157" y="38"/>
                    </a:lnTo>
                    <a:lnTo>
                      <a:pt x="217" y="84"/>
                    </a:lnTo>
                    <a:lnTo>
                      <a:pt x="228" y="136"/>
                    </a:lnTo>
                    <a:lnTo>
                      <a:pt x="214" y="185"/>
                    </a:lnTo>
                    <a:lnTo>
                      <a:pt x="176" y="213"/>
                    </a:lnTo>
                    <a:lnTo>
                      <a:pt x="137" y="219"/>
                    </a:lnTo>
                    <a:lnTo>
                      <a:pt x="0" y="20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436760" y="3583080"/>
              <a:ext cx="647640" cy="279360"/>
              <a:chOff x="1436760" y="3583080"/>
              <a:chExt cx="647640" cy="279360"/>
            </a:xfrm>
          </p:grpSpPr>
          <p:sp>
            <p:nvSpPr>
              <p:cNvPr id="412" name=""/>
              <p:cNvSpPr/>
              <p:nvPr/>
            </p:nvSpPr>
            <p:spPr>
              <a:xfrm>
                <a:off x="1436760" y="3583080"/>
                <a:ext cx="647640" cy="279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11440" y="3641760"/>
                <a:ext cx="68040" cy="49320"/>
              </a:xfrm>
              <a:custGeom>
                <a:avLst/>
                <a:gdLst/>
                <a:ahLst/>
                <a:rect l="l" t="t" r="r" b="b"/>
                <a:pathLst>
                  <a:path w="215" h="155">
                    <a:moveTo>
                      <a:pt x="98" y="60"/>
                    </a:moveTo>
                    <a:lnTo>
                      <a:pt x="79" y="71"/>
                    </a:lnTo>
                    <a:lnTo>
                      <a:pt x="62" y="82"/>
                    </a:lnTo>
                    <a:lnTo>
                      <a:pt x="47" y="95"/>
                    </a:lnTo>
                    <a:lnTo>
                      <a:pt x="34" y="107"/>
                    </a:lnTo>
                    <a:lnTo>
                      <a:pt x="23" y="120"/>
                    </a:lnTo>
                    <a:lnTo>
                      <a:pt x="14" y="132"/>
                    </a:lnTo>
                    <a:lnTo>
                      <a:pt x="9" y="143"/>
                    </a:lnTo>
                    <a:lnTo>
                      <a:pt x="6" y="155"/>
                    </a:lnTo>
                    <a:lnTo>
                      <a:pt x="4" y="152"/>
                    </a:lnTo>
                    <a:lnTo>
                      <a:pt x="2" y="151"/>
                    </a:lnTo>
                    <a:lnTo>
                      <a:pt x="1" y="148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4" y="120"/>
                    </a:lnTo>
                    <a:lnTo>
                      <a:pt x="13" y="104"/>
                    </a:lnTo>
                    <a:lnTo>
                      <a:pt x="27" y="85"/>
                    </a:lnTo>
                    <a:lnTo>
                      <a:pt x="42" y="67"/>
                    </a:lnTo>
                    <a:lnTo>
                      <a:pt x="61" y="49"/>
                    </a:lnTo>
                    <a:lnTo>
                      <a:pt x="82" y="33"/>
                    </a:lnTo>
                    <a:lnTo>
                      <a:pt x="104" y="19"/>
                    </a:lnTo>
                    <a:lnTo>
                      <a:pt x="126" y="9"/>
                    </a:lnTo>
                    <a:lnTo>
                      <a:pt x="145" y="3"/>
                    </a:lnTo>
                    <a:lnTo>
                      <a:pt x="162" y="0"/>
                    </a:lnTo>
                    <a:lnTo>
                      <a:pt x="178" y="1"/>
                    </a:lnTo>
                    <a:lnTo>
                      <a:pt x="191" y="5"/>
                    </a:lnTo>
                    <a:lnTo>
                      <a:pt x="202" y="10"/>
                    </a:lnTo>
                    <a:lnTo>
                      <a:pt x="209" y="19"/>
                    </a:lnTo>
                    <a:lnTo>
                      <a:pt x="214" y="28"/>
                    </a:lnTo>
                    <a:lnTo>
                      <a:pt x="215" y="30"/>
                    </a:lnTo>
                    <a:lnTo>
                      <a:pt x="215" y="33"/>
                    </a:lnTo>
                    <a:lnTo>
                      <a:pt x="215" y="36"/>
                    </a:lnTo>
                    <a:lnTo>
                      <a:pt x="214" y="39"/>
                    </a:lnTo>
                    <a:lnTo>
                      <a:pt x="207" y="34"/>
                    </a:lnTo>
                    <a:lnTo>
                      <a:pt x="197" y="31"/>
                    </a:lnTo>
                    <a:lnTo>
                      <a:pt x="184" y="31"/>
                    </a:lnTo>
                    <a:lnTo>
                      <a:pt x="170" y="33"/>
                    </a:lnTo>
                    <a:lnTo>
                      <a:pt x="153" y="36"/>
                    </a:lnTo>
                    <a:lnTo>
                      <a:pt x="135" y="43"/>
                    </a:lnTo>
                    <a:lnTo>
                      <a:pt x="117" y="50"/>
                    </a:lnTo>
                    <a:lnTo>
                      <a:pt x="9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09560" y="3629160"/>
                <a:ext cx="66960" cy="69840"/>
              </a:xfrm>
              <a:custGeom>
                <a:avLst/>
                <a:gdLst/>
                <a:ahLst/>
                <a:rect l="l" t="t" r="r" b="b"/>
                <a:pathLst>
                  <a:path w="212" h="218">
                    <a:moveTo>
                      <a:pt x="0" y="97"/>
                    </a:moveTo>
                    <a:lnTo>
                      <a:pt x="202" y="0"/>
                    </a:lnTo>
                    <a:lnTo>
                      <a:pt x="67" y="101"/>
                    </a:lnTo>
                    <a:lnTo>
                      <a:pt x="212" y="205"/>
                    </a:lnTo>
                    <a:lnTo>
                      <a:pt x="185" y="218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82840" y="3778200"/>
                <a:ext cx="317520" cy="81000"/>
              </a:xfrm>
              <a:custGeom>
                <a:avLst/>
                <a:gdLst/>
                <a:ahLst/>
                <a:rect l="l" t="t" r="r" b="b"/>
                <a:pathLst>
                  <a:path w="997" h="253">
                    <a:moveTo>
                      <a:pt x="0" y="253"/>
                    </a:moveTo>
                    <a:lnTo>
                      <a:pt x="0" y="253"/>
                    </a:lnTo>
                    <a:lnTo>
                      <a:pt x="2" y="251"/>
                    </a:lnTo>
                    <a:lnTo>
                      <a:pt x="4" y="248"/>
                    </a:lnTo>
                    <a:lnTo>
                      <a:pt x="9" y="244"/>
                    </a:lnTo>
                    <a:lnTo>
                      <a:pt x="14" y="239"/>
                    </a:lnTo>
                    <a:lnTo>
                      <a:pt x="21" y="233"/>
                    </a:lnTo>
                    <a:lnTo>
                      <a:pt x="29" y="226"/>
                    </a:lnTo>
                    <a:lnTo>
                      <a:pt x="40" y="218"/>
                    </a:lnTo>
                    <a:lnTo>
                      <a:pt x="52" y="209"/>
                    </a:lnTo>
                    <a:lnTo>
                      <a:pt x="66" y="199"/>
                    </a:lnTo>
                    <a:lnTo>
                      <a:pt x="83" y="188"/>
                    </a:lnTo>
                    <a:lnTo>
                      <a:pt x="101" y="177"/>
                    </a:lnTo>
                    <a:lnTo>
                      <a:pt x="123" y="165"/>
                    </a:lnTo>
                    <a:lnTo>
                      <a:pt x="147" y="151"/>
                    </a:lnTo>
                    <a:lnTo>
                      <a:pt x="174" y="137"/>
                    </a:lnTo>
                    <a:lnTo>
                      <a:pt x="203" y="122"/>
                    </a:lnTo>
                    <a:lnTo>
                      <a:pt x="214" y="117"/>
                    </a:lnTo>
                    <a:lnTo>
                      <a:pt x="227" y="112"/>
                    </a:lnTo>
                    <a:lnTo>
                      <a:pt x="242" y="107"/>
                    </a:lnTo>
                    <a:lnTo>
                      <a:pt x="258" y="104"/>
                    </a:lnTo>
                    <a:lnTo>
                      <a:pt x="274" y="99"/>
                    </a:lnTo>
                    <a:lnTo>
                      <a:pt x="292" y="94"/>
                    </a:lnTo>
                    <a:lnTo>
                      <a:pt x="311" y="89"/>
                    </a:lnTo>
                    <a:lnTo>
                      <a:pt x="328" y="85"/>
                    </a:lnTo>
                    <a:lnTo>
                      <a:pt x="345" y="81"/>
                    </a:lnTo>
                    <a:lnTo>
                      <a:pt x="361" y="78"/>
                    </a:lnTo>
                    <a:lnTo>
                      <a:pt x="376" y="74"/>
                    </a:lnTo>
                    <a:lnTo>
                      <a:pt x="389" y="71"/>
                    </a:lnTo>
                    <a:lnTo>
                      <a:pt x="399" y="69"/>
                    </a:lnTo>
                    <a:lnTo>
                      <a:pt x="407" y="68"/>
                    </a:lnTo>
                    <a:lnTo>
                      <a:pt x="413" y="66"/>
                    </a:lnTo>
                    <a:lnTo>
                      <a:pt x="415" y="66"/>
                    </a:lnTo>
                    <a:lnTo>
                      <a:pt x="193" y="166"/>
                    </a:lnTo>
                    <a:lnTo>
                      <a:pt x="209" y="165"/>
                    </a:lnTo>
                    <a:lnTo>
                      <a:pt x="225" y="162"/>
                    </a:lnTo>
                    <a:lnTo>
                      <a:pt x="245" y="160"/>
                    </a:lnTo>
                    <a:lnTo>
                      <a:pt x="265" y="156"/>
                    </a:lnTo>
                    <a:lnTo>
                      <a:pt x="288" y="153"/>
                    </a:lnTo>
                    <a:lnTo>
                      <a:pt x="311" y="150"/>
                    </a:lnTo>
                    <a:lnTo>
                      <a:pt x="336" y="145"/>
                    </a:lnTo>
                    <a:lnTo>
                      <a:pt x="361" y="141"/>
                    </a:lnTo>
                    <a:lnTo>
                      <a:pt x="388" y="136"/>
                    </a:lnTo>
                    <a:lnTo>
                      <a:pt x="415" y="131"/>
                    </a:lnTo>
                    <a:lnTo>
                      <a:pt x="443" y="126"/>
                    </a:lnTo>
                    <a:lnTo>
                      <a:pt x="472" y="120"/>
                    </a:lnTo>
                    <a:lnTo>
                      <a:pt x="501" y="115"/>
                    </a:lnTo>
                    <a:lnTo>
                      <a:pt x="531" y="109"/>
                    </a:lnTo>
                    <a:lnTo>
                      <a:pt x="561" y="102"/>
                    </a:lnTo>
                    <a:lnTo>
                      <a:pt x="591" y="96"/>
                    </a:lnTo>
                    <a:lnTo>
                      <a:pt x="621" y="90"/>
                    </a:lnTo>
                    <a:lnTo>
                      <a:pt x="651" y="84"/>
                    </a:lnTo>
                    <a:lnTo>
                      <a:pt x="681" y="78"/>
                    </a:lnTo>
                    <a:lnTo>
                      <a:pt x="711" y="70"/>
                    </a:lnTo>
                    <a:lnTo>
                      <a:pt x="740" y="64"/>
                    </a:lnTo>
                    <a:lnTo>
                      <a:pt x="769" y="58"/>
                    </a:lnTo>
                    <a:lnTo>
                      <a:pt x="796" y="51"/>
                    </a:lnTo>
                    <a:lnTo>
                      <a:pt x="823" y="45"/>
                    </a:lnTo>
                    <a:lnTo>
                      <a:pt x="849" y="39"/>
                    </a:lnTo>
                    <a:lnTo>
                      <a:pt x="874" y="33"/>
                    </a:lnTo>
                    <a:lnTo>
                      <a:pt x="898" y="26"/>
                    </a:lnTo>
                    <a:lnTo>
                      <a:pt x="921" y="22"/>
                    </a:lnTo>
                    <a:lnTo>
                      <a:pt x="943" y="15"/>
                    </a:lnTo>
                    <a:lnTo>
                      <a:pt x="963" y="10"/>
                    </a:lnTo>
                    <a:lnTo>
                      <a:pt x="980" y="5"/>
                    </a:lnTo>
                    <a:lnTo>
                      <a:pt x="997" y="0"/>
                    </a:lnTo>
                    <a:lnTo>
                      <a:pt x="977" y="9"/>
                    </a:lnTo>
                    <a:lnTo>
                      <a:pt x="953" y="19"/>
                    </a:lnTo>
                    <a:lnTo>
                      <a:pt x="927" y="28"/>
                    </a:lnTo>
                    <a:lnTo>
                      <a:pt x="898" y="38"/>
                    </a:lnTo>
                    <a:lnTo>
                      <a:pt x="867" y="48"/>
                    </a:lnTo>
                    <a:lnTo>
                      <a:pt x="832" y="59"/>
                    </a:lnTo>
                    <a:lnTo>
                      <a:pt x="797" y="69"/>
                    </a:lnTo>
                    <a:lnTo>
                      <a:pt x="759" y="79"/>
                    </a:lnTo>
                    <a:lnTo>
                      <a:pt x="720" y="90"/>
                    </a:lnTo>
                    <a:lnTo>
                      <a:pt x="679" y="100"/>
                    </a:lnTo>
                    <a:lnTo>
                      <a:pt x="638" y="111"/>
                    </a:lnTo>
                    <a:lnTo>
                      <a:pt x="596" y="121"/>
                    </a:lnTo>
                    <a:lnTo>
                      <a:pt x="553" y="132"/>
                    </a:lnTo>
                    <a:lnTo>
                      <a:pt x="511" y="142"/>
                    </a:lnTo>
                    <a:lnTo>
                      <a:pt x="468" y="152"/>
                    </a:lnTo>
                    <a:lnTo>
                      <a:pt x="425" y="162"/>
                    </a:lnTo>
                    <a:lnTo>
                      <a:pt x="384" y="171"/>
                    </a:lnTo>
                    <a:lnTo>
                      <a:pt x="343" y="181"/>
                    </a:lnTo>
                    <a:lnTo>
                      <a:pt x="303" y="190"/>
                    </a:lnTo>
                    <a:lnTo>
                      <a:pt x="264" y="198"/>
                    </a:lnTo>
                    <a:lnTo>
                      <a:pt x="227" y="206"/>
                    </a:lnTo>
                    <a:lnTo>
                      <a:pt x="192" y="213"/>
                    </a:lnTo>
                    <a:lnTo>
                      <a:pt x="160" y="221"/>
                    </a:lnTo>
                    <a:lnTo>
                      <a:pt x="128" y="227"/>
                    </a:lnTo>
                    <a:lnTo>
                      <a:pt x="100" y="233"/>
                    </a:lnTo>
                    <a:lnTo>
                      <a:pt x="75" y="238"/>
                    </a:lnTo>
                    <a:lnTo>
                      <a:pt x="53" y="242"/>
                    </a:lnTo>
                    <a:lnTo>
                      <a:pt x="35" y="246"/>
                    </a:lnTo>
                    <a:lnTo>
                      <a:pt x="20" y="249"/>
                    </a:lnTo>
                    <a:lnTo>
                      <a:pt x="10" y="252"/>
                    </a:lnTo>
                    <a:lnTo>
                      <a:pt x="2" y="253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36760" y="3621240"/>
                <a:ext cx="242640" cy="96840"/>
              </a:xfrm>
              <a:custGeom>
                <a:avLst/>
                <a:gdLst/>
                <a:ahLst/>
                <a:rect l="l" t="t" r="r" b="b"/>
                <a:pathLst>
                  <a:path w="762" h="307">
                    <a:moveTo>
                      <a:pt x="491" y="88"/>
                    </a:moveTo>
                    <a:lnTo>
                      <a:pt x="368" y="124"/>
                    </a:lnTo>
                    <a:lnTo>
                      <a:pt x="391" y="151"/>
                    </a:lnTo>
                    <a:lnTo>
                      <a:pt x="389" y="151"/>
                    </a:lnTo>
                    <a:lnTo>
                      <a:pt x="383" y="154"/>
                    </a:lnTo>
                    <a:lnTo>
                      <a:pt x="374" y="156"/>
                    </a:lnTo>
                    <a:lnTo>
                      <a:pt x="362" y="159"/>
                    </a:lnTo>
                    <a:lnTo>
                      <a:pt x="347" y="162"/>
                    </a:lnTo>
                    <a:lnTo>
                      <a:pt x="330" y="167"/>
                    </a:lnTo>
                    <a:lnTo>
                      <a:pt x="312" y="172"/>
                    </a:lnTo>
                    <a:lnTo>
                      <a:pt x="292" y="178"/>
                    </a:lnTo>
                    <a:lnTo>
                      <a:pt x="271" y="185"/>
                    </a:lnTo>
                    <a:lnTo>
                      <a:pt x="250" y="191"/>
                    </a:lnTo>
                    <a:lnTo>
                      <a:pt x="230" y="197"/>
                    </a:lnTo>
                    <a:lnTo>
                      <a:pt x="209" y="205"/>
                    </a:lnTo>
                    <a:lnTo>
                      <a:pt x="190" y="211"/>
                    </a:lnTo>
                    <a:lnTo>
                      <a:pt x="171" y="217"/>
                    </a:lnTo>
                    <a:lnTo>
                      <a:pt x="156" y="225"/>
                    </a:lnTo>
                    <a:lnTo>
                      <a:pt x="141" y="231"/>
                    </a:lnTo>
                    <a:lnTo>
                      <a:pt x="115" y="243"/>
                    </a:lnTo>
                    <a:lnTo>
                      <a:pt x="90" y="257"/>
                    </a:lnTo>
                    <a:lnTo>
                      <a:pt x="66" y="269"/>
                    </a:lnTo>
                    <a:lnTo>
                      <a:pt x="44" y="282"/>
                    </a:lnTo>
                    <a:lnTo>
                      <a:pt x="27" y="292"/>
                    </a:lnTo>
                    <a:lnTo>
                      <a:pt x="12" y="299"/>
                    </a:lnTo>
                    <a:lnTo>
                      <a:pt x="3" y="304"/>
                    </a:lnTo>
                    <a:lnTo>
                      <a:pt x="0" y="307"/>
                    </a:lnTo>
                    <a:lnTo>
                      <a:pt x="1" y="305"/>
                    </a:lnTo>
                    <a:lnTo>
                      <a:pt x="3" y="300"/>
                    </a:lnTo>
                    <a:lnTo>
                      <a:pt x="7" y="293"/>
                    </a:lnTo>
                    <a:lnTo>
                      <a:pt x="14" y="283"/>
                    </a:lnTo>
                    <a:lnTo>
                      <a:pt x="23" y="273"/>
                    </a:lnTo>
                    <a:lnTo>
                      <a:pt x="36" y="261"/>
                    </a:lnTo>
                    <a:lnTo>
                      <a:pt x="53" y="249"/>
                    </a:lnTo>
                    <a:lnTo>
                      <a:pt x="72" y="238"/>
                    </a:lnTo>
                    <a:lnTo>
                      <a:pt x="84" y="233"/>
                    </a:lnTo>
                    <a:lnTo>
                      <a:pt x="97" y="228"/>
                    </a:lnTo>
                    <a:lnTo>
                      <a:pt x="114" y="222"/>
                    </a:lnTo>
                    <a:lnTo>
                      <a:pt x="132" y="216"/>
                    </a:lnTo>
                    <a:lnTo>
                      <a:pt x="151" y="210"/>
                    </a:lnTo>
                    <a:lnTo>
                      <a:pt x="169" y="202"/>
                    </a:lnTo>
                    <a:lnTo>
                      <a:pt x="189" y="196"/>
                    </a:lnTo>
                    <a:lnTo>
                      <a:pt x="209" y="190"/>
                    </a:lnTo>
                    <a:lnTo>
                      <a:pt x="228" y="183"/>
                    </a:lnTo>
                    <a:lnTo>
                      <a:pt x="246" y="178"/>
                    </a:lnTo>
                    <a:lnTo>
                      <a:pt x="262" y="173"/>
                    </a:lnTo>
                    <a:lnTo>
                      <a:pt x="277" y="169"/>
                    </a:lnTo>
                    <a:lnTo>
                      <a:pt x="289" y="165"/>
                    </a:lnTo>
                    <a:lnTo>
                      <a:pt x="297" y="162"/>
                    </a:lnTo>
                    <a:lnTo>
                      <a:pt x="304" y="160"/>
                    </a:lnTo>
                    <a:lnTo>
                      <a:pt x="306" y="160"/>
                    </a:lnTo>
                    <a:lnTo>
                      <a:pt x="310" y="155"/>
                    </a:lnTo>
                    <a:lnTo>
                      <a:pt x="321" y="142"/>
                    </a:lnTo>
                    <a:lnTo>
                      <a:pt x="339" y="124"/>
                    </a:lnTo>
                    <a:lnTo>
                      <a:pt x="360" y="103"/>
                    </a:lnTo>
                    <a:lnTo>
                      <a:pt x="384" y="81"/>
                    </a:lnTo>
                    <a:lnTo>
                      <a:pt x="407" y="61"/>
                    </a:lnTo>
                    <a:lnTo>
                      <a:pt x="430" y="48"/>
                    </a:lnTo>
                    <a:lnTo>
                      <a:pt x="448" y="40"/>
                    </a:lnTo>
                    <a:lnTo>
                      <a:pt x="463" y="40"/>
                    </a:lnTo>
                    <a:lnTo>
                      <a:pt x="475" y="44"/>
                    </a:lnTo>
                    <a:lnTo>
                      <a:pt x="486" y="50"/>
                    </a:lnTo>
                    <a:lnTo>
                      <a:pt x="494" y="58"/>
                    </a:lnTo>
                    <a:lnTo>
                      <a:pt x="499" y="65"/>
                    </a:lnTo>
                    <a:lnTo>
                      <a:pt x="504" y="71"/>
                    </a:lnTo>
                    <a:lnTo>
                      <a:pt x="506" y="76"/>
                    </a:lnTo>
                    <a:lnTo>
                      <a:pt x="507" y="79"/>
                    </a:lnTo>
                    <a:lnTo>
                      <a:pt x="762" y="0"/>
                    </a:lnTo>
                    <a:lnTo>
                      <a:pt x="521" y="110"/>
                    </a:lnTo>
                    <a:lnTo>
                      <a:pt x="491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714680" y="3586320"/>
                <a:ext cx="368280" cy="188640"/>
              </a:xfrm>
              <a:custGeom>
                <a:avLst/>
                <a:gdLst/>
                <a:ahLst/>
                <a:rect l="l" t="t" r="r" b="b"/>
                <a:pathLst>
                  <a:path w="1160" h="593">
                    <a:moveTo>
                      <a:pt x="1083" y="173"/>
                    </a:moveTo>
                    <a:lnTo>
                      <a:pt x="1094" y="161"/>
                    </a:lnTo>
                    <a:lnTo>
                      <a:pt x="1099" y="146"/>
                    </a:lnTo>
                    <a:lnTo>
                      <a:pt x="1100" y="131"/>
                    </a:lnTo>
                    <a:lnTo>
                      <a:pt x="1098" y="116"/>
                    </a:lnTo>
                    <a:lnTo>
                      <a:pt x="1092" y="102"/>
                    </a:lnTo>
                    <a:lnTo>
                      <a:pt x="1082" y="91"/>
                    </a:lnTo>
                    <a:lnTo>
                      <a:pt x="1069" y="82"/>
                    </a:lnTo>
                    <a:lnTo>
                      <a:pt x="1053" y="79"/>
                    </a:lnTo>
                    <a:lnTo>
                      <a:pt x="1038" y="77"/>
                    </a:lnTo>
                    <a:lnTo>
                      <a:pt x="1022" y="77"/>
                    </a:lnTo>
                    <a:lnTo>
                      <a:pt x="1004" y="79"/>
                    </a:lnTo>
                    <a:lnTo>
                      <a:pt x="986" y="79"/>
                    </a:lnTo>
                    <a:lnTo>
                      <a:pt x="969" y="80"/>
                    </a:lnTo>
                    <a:lnTo>
                      <a:pt x="950" y="81"/>
                    </a:lnTo>
                    <a:lnTo>
                      <a:pt x="932" y="82"/>
                    </a:lnTo>
                    <a:lnTo>
                      <a:pt x="914" y="84"/>
                    </a:lnTo>
                    <a:lnTo>
                      <a:pt x="898" y="85"/>
                    </a:lnTo>
                    <a:lnTo>
                      <a:pt x="882" y="87"/>
                    </a:lnTo>
                    <a:lnTo>
                      <a:pt x="868" y="89"/>
                    </a:lnTo>
                    <a:lnTo>
                      <a:pt x="855" y="90"/>
                    </a:lnTo>
                    <a:lnTo>
                      <a:pt x="845" y="90"/>
                    </a:lnTo>
                    <a:lnTo>
                      <a:pt x="836" y="91"/>
                    </a:lnTo>
                    <a:lnTo>
                      <a:pt x="831" y="91"/>
                    </a:lnTo>
                    <a:lnTo>
                      <a:pt x="829" y="91"/>
                    </a:lnTo>
                    <a:lnTo>
                      <a:pt x="822" y="94"/>
                    </a:lnTo>
                    <a:lnTo>
                      <a:pt x="811" y="97"/>
                    </a:lnTo>
                    <a:lnTo>
                      <a:pt x="800" y="101"/>
                    </a:lnTo>
                    <a:lnTo>
                      <a:pt x="788" y="106"/>
                    </a:lnTo>
                    <a:lnTo>
                      <a:pt x="776" y="111"/>
                    </a:lnTo>
                    <a:lnTo>
                      <a:pt x="766" y="116"/>
                    </a:lnTo>
                    <a:lnTo>
                      <a:pt x="756" y="120"/>
                    </a:lnTo>
                    <a:lnTo>
                      <a:pt x="749" y="125"/>
                    </a:lnTo>
                    <a:lnTo>
                      <a:pt x="741" y="132"/>
                    </a:lnTo>
                    <a:lnTo>
                      <a:pt x="731" y="142"/>
                    </a:lnTo>
                    <a:lnTo>
                      <a:pt x="721" y="152"/>
                    </a:lnTo>
                    <a:lnTo>
                      <a:pt x="711" y="163"/>
                    </a:lnTo>
                    <a:lnTo>
                      <a:pt x="703" y="173"/>
                    </a:lnTo>
                    <a:lnTo>
                      <a:pt x="695" y="181"/>
                    </a:lnTo>
                    <a:lnTo>
                      <a:pt x="689" y="184"/>
                    </a:lnTo>
                    <a:lnTo>
                      <a:pt x="684" y="186"/>
                    </a:lnTo>
                    <a:lnTo>
                      <a:pt x="680" y="181"/>
                    </a:lnTo>
                    <a:lnTo>
                      <a:pt x="674" y="171"/>
                    </a:lnTo>
                    <a:lnTo>
                      <a:pt x="668" y="156"/>
                    </a:lnTo>
                    <a:lnTo>
                      <a:pt x="660" y="138"/>
                    </a:lnTo>
                    <a:lnTo>
                      <a:pt x="654" y="121"/>
                    </a:lnTo>
                    <a:lnTo>
                      <a:pt x="649" y="106"/>
                    </a:lnTo>
                    <a:lnTo>
                      <a:pt x="646" y="94"/>
                    </a:lnTo>
                    <a:lnTo>
                      <a:pt x="646" y="86"/>
                    </a:lnTo>
                    <a:lnTo>
                      <a:pt x="649" y="80"/>
                    </a:lnTo>
                    <a:lnTo>
                      <a:pt x="655" y="74"/>
                    </a:lnTo>
                    <a:lnTo>
                      <a:pt x="662" y="69"/>
                    </a:lnTo>
                    <a:lnTo>
                      <a:pt x="671" y="64"/>
                    </a:lnTo>
                    <a:lnTo>
                      <a:pt x="680" y="60"/>
                    </a:lnTo>
                    <a:lnTo>
                      <a:pt x="689" y="57"/>
                    </a:lnTo>
                    <a:lnTo>
                      <a:pt x="698" y="55"/>
                    </a:lnTo>
                    <a:lnTo>
                      <a:pt x="705" y="52"/>
                    </a:lnTo>
                    <a:lnTo>
                      <a:pt x="699" y="51"/>
                    </a:lnTo>
                    <a:lnTo>
                      <a:pt x="693" y="51"/>
                    </a:lnTo>
                    <a:lnTo>
                      <a:pt x="686" y="51"/>
                    </a:lnTo>
                    <a:lnTo>
                      <a:pt x="681" y="51"/>
                    </a:lnTo>
                    <a:lnTo>
                      <a:pt x="675" y="51"/>
                    </a:lnTo>
                    <a:lnTo>
                      <a:pt x="670" y="51"/>
                    </a:lnTo>
                    <a:lnTo>
                      <a:pt x="665" y="52"/>
                    </a:lnTo>
                    <a:lnTo>
                      <a:pt x="659" y="54"/>
                    </a:lnTo>
                    <a:lnTo>
                      <a:pt x="643" y="60"/>
                    </a:lnTo>
                    <a:lnTo>
                      <a:pt x="615" y="70"/>
                    </a:lnTo>
                    <a:lnTo>
                      <a:pt x="577" y="85"/>
                    </a:lnTo>
                    <a:lnTo>
                      <a:pt x="531" y="104"/>
                    </a:lnTo>
                    <a:lnTo>
                      <a:pt x="480" y="125"/>
                    </a:lnTo>
                    <a:lnTo>
                      <a:pt x="425" y="147"/>
                    </a:lnTo>
                    <a:lnTo>
                      <a:pt x="367" y="171"/>
                    </a:lnTo>
                    <a:lnTo>
                      <a:pt x="308" y="196"/>
                    </a:lnTo>
                    <a:lnTo>
                      <a:pt x="249" y="221"/>
                    </a:lnTo>
                    <a:lnTo>
                      <a:pt x="194" y="244"/>
                    </a:lnTo>
                    <a:lnTo>
                      <a:pt x="142" y="267"/>
                    </a:lnTo>
                    <a:lnTo>
                      <a:pt x="95" y="286"/>
                    </a:lnTo>
                    <a:lnTo>
                      <a:pt x="56" y="303"/>
                    </a:lnTo>
                    <a:lnTo>
                      <a:pt x="26" y="315"/>
                    </a:lnTo>
                    <a:lnTo>
                      <a:pt x="6" y="324"/>
                    </a:lnTo>
                    <a:lnTo>
                      <a:pt x="0" y="326"/>
                    </a:lnTo>
                    <a:lnTo>
                      <a:pt x="1" y="326"/>
                    </a:lnTo>
                    <a:lnTo>
                      <a:pt x="4" y="324"/>
                    </a:lnTo>
                    <a:lnTo>
                      <a:pt x="9" y="321"/>
                    </a:lnTo>
                    <a:lnTo>
                      <a:pt x="16" y="319"/>
                    </a:lnTo>
                    <a:lnTo>
                      <a:pt x="25" y="314"/>
                    </a:lnTo>
                    <a:lnTo>
                      <a:pt x="37" y="308"/>
                    </a:lnTo>
                    <a:lnTo>
                      <a:pt x="50" y="300"/>
                    </a:lnTo>
                    <a:lnTo>
                      <a:pt x="67" y="293"/>
                    </a:lnTo>
                    <a:lnTo>
                      <a:pt x="86" y="283"/>
                    </a:lnTo>
                    <a:lnTo>
                      <a:pt x="106" y="272"/>
                    </a:lnTo>
                    <a:lnTo>
                      <a:pt x="131" y="259"/>
                    </a:lnTo>
                    <a:lnTo>
                      <a:pt x="157" y="245"/>
                    </a:lnTo>
                    <a:lnTo>
                      <a:pt x="188" y="230"/>
                    </a:lnTo>
                    <a:lnTo>
                      <a:pt x="220" y="213"/>
                    </a:lnTo>
                    <a:lnTo>
                      <a:pt x="256" y="194"/>
                    </a:lnTo>
                    <a:lnTo>
                      <a:pt x="295" y="174"/>
                    </a:lnTo>
                    <a:lnTo>
                      <a:pt x="226" y="75"/>
                    </a:lnTo>
                    <a:lnTo>
                      <a:pt x="326" y="158"/>
                    </a:lnTo>
                    <a:lnTo>
                      <a:pt x="341" y="152"/>
                    </a:lnTo>
                    <a:lnTo>
                      <a:pt x="358" y="143"/>
                    </a:lnTo>
                    <a:lnTo>
                      <a:pt x="378" y="135"/>
                    </a:lnTo>
                    <a:lnTo>
                      <a:pt x="401" y="123"/>
                    </a:lnTo>
                    <a:lnTo>
                      <a:pt x="426" y="112"/>
                    </a:lnTo>
                    <a:lnTo>
                      <a:pt x="451" y="100"/>
                    </a:lnTo>
                    <a:lnTo>
                      <a:pt x="478" y="87"/>
                    </a:lnTo>
                    <a:lnTo>
                      <a:pt x="504" y="75"/>
                    </a:lnTo>
                    <a:lnTo>
                      <a:pt x="530" y="62"/>
                    </a:lnTo>
                    <a:lnTo>
                      <a:pt x="556" y="50"/>
                    </a:lnTo>
                    <a:lnTo>
                      <a:pt x="580" y="39"/>
                    </a:lnTo>
                    <a:lnTo>
                      <a:pt x="602" y="29"/>
                    </a:lnTo>
                    <a:lnTo>
                      <a:pt x="622" y="20"/>
                    </a:lnTo>
                    <a:lnTo>
                      <a:pt x="639" y="13"/>
                    </a:lnTo>
                    <a:lnTo>
                      <a:pt x="652" y="8"/>
                    </a:lnTo>
                    <a:lnTo>
                      <a:pt x="661" y="4"/>
                    </a:lnTo>
                    <a:lnTo>
                      <a:pt x="674" y="1"/>
                    </a:lnTo>
                    <a:lnTo>
                      <a:pt x="687" y="0"/>
                    </a:lnTo>
                    <a:lnTo>
                      <a:pt x="702" y="0"/>
                    </a:lnTo>
                    <a:lnTo>
                      <a:pt x="718" y="3"/>
                    </a:lnTo>
                    <a:lnTo>
                      <a:pt x="733" y="5"/>
                    </a:lnTo>
                    <a:lnTo>
                      <a:pt x="749" y="9"/>
                    </a:lnTo>
                    <a:lnTo>
                      <a:pt x="765" y="14"/>
                    </a:lnTo>
                    <a:lnTo>
                      <a:pt x="780" y="19"/>
                    </a:lnTo>
                    <a:lnTo>
                      <a:pt x="794" y="24"/>
                    </a:lnTo>
                    <a:lnTo>
                      <a:pt x="807" y="29"/>
                    </a:lnTo>
                    <a:lnTo>
                      <a:pt x="820" y="34"/>
                    </a:lnTo>
                    <a:lnTo>
                      <a:pt x="830" y="39"/>
                    </a:lnTo>
                    <a:lnTo>
                      <a:pt x="838" y="43"/>
                    </a:lnTo>
                    <a:lnTo>
                      <a:pt x="846" y="46"/>
                    </a:lnTo>
                    <a:lnTo>
                      <a:pt x="850" y="47"/>
                    </a:lnTo>
                    <a:lnTo>
                      <a:pt x="851" y="49"/>
                    </a:lnTo>
                    <a:lnTo>
                      <a:pt x="853" y="49"/>
                    </a:lnTo>
                    <a:lnTo>
                      <a:pt x="857" y="47"/>
                    </a:lnTo>
                    <a:lnTo>
                      <a:pt x="864" y="46"/>
                    </a:lnTo>
                    <a:lnTo>
                      <a:pt x="874" y="45"/>
                    </a:lnTo>
                    <a:lnTo>
                      <a:pt x="886" y="43"/>
                    </a:lnTo>
                    <a:lnTo>
                      <a:pt x="900" y="40"/>
                    </a:lnTo>
                    <a:lnTo>
                      <a:pt x="916" y="39"/>
                    </a:lnTo>
                    <a:lnTo>
                      <a:pt x="931" y="36"/>
                    </a:lnTo>
                    <a:lnTo>
                      <a:pt x="949" y="34"/>
                    </a:lnTo>
                    <a:lnTo>
                      <a:pt x="966" y="33"/>
                    </a:lnTo>
                    <a:lnTo>
                      <a:pt x="984" y="30"/>
                    </a:lnTo>
                    <a:lnTo>
                      <a:pt x="1002" y="29"/>
                    </a:lnTo>
                    <a:lnTo>
                      <a:pt x="1019" y="29"/>
                    </a:lnTo>
                    <a:lnTo>
                      <a:pt x="1035" y="29"/>
                    </a:lnTo>
                    <a:lnTo>
                      <a:pt x="1051" y="29"/>
                    </a:lnTo>
                    <a:lnTo>
                      <a:pt x="1065" y="30"/>
                    </a:lnTo>
                    <a:lnTo>
                      <a:pt x="1085" y="33"/>
                    </a:lnTo>
                    <a:lnTo>
                      <a:pt x="1102" y="36"/>
                    </a:lnTo>
                    <a:lnTo>
                      <a:pt x="1117" y="41"/>
                    </a:lnTo>
                    <a:lnTo>
                      <a:pt x="1129" y="46"/>
                    </a:lnTo>
                    <a:lnTo>
                      <a:pt x="1138" y="52"/>
                    </a:lnTo>
                    <a:lnTo>
                      <a:pt x="1147" y="60"/>
                    </a:lnTo>
                    <a:lnTo>
                      <a:pt x="1153" y="67"/>
                    </a:lnTo>
                    <a:lnTo>
                      <a:pt x="1157" y="75"/>
                    </a:lnTo>
                    <a:lnTo>
                      <a:pt x="1160" y="85"/>
                    </a:lnTo>
                    <a:lnTo>
                      <a:pt x="1160" y="95"/>
                    </a:lnTo>
                    <a:lnTo>
                      <a:pt x="1160" y="105"/>
                    </a:lnTo>
                    <a:lnTo>
                      <a:pt x="1157" y="116"/>
                    </a:lnTo>
                    <a:lnTo>
                      <a:pt x="1153" y="126"/>
                    </a:lnTo>
                    <a:lnTo>
                      <a:pt x="1149" y="137"/>
                    </a:lnTo>
                    <a:lnTo>
                      <a:pt x="1143" y="148"/>
                    </a:lnTo>
                    <a:lnTo>
                      <a:pt x="1136" y="158"/>
                    </a:lnTo>
                    <a:lnTo>
                      <a:pt x="1130" y="167"/>
                    </a:lnTo>
                    <a:lnTo>
                      <a:pt x="1123" y="176"/>
                    </a:lnTo>
                    <a:lnTo>
                      <a:pt x="1117" y="184"/>
                    </a:lnTo>
                    <a:lnTo>
                      <a:pt x="1109" y="192"/>
                    </a:lnTo>
                    <a:lnTo>
                      <a:pt x="1103" y="199"/>
                    </a:lnTo>
                    <a:lnTo>
                      <a:pt x="1097" y="207"/>
                    </a:lnTo>
                    <a:lnTo>
                      <a:pt x="1090" y="213"/>
                    </a:lnTo>
                    <a:lnTo>
                      <a:pt x="1085" y="218"/>
                    </a:lnTo>
                    <a:lnTo>
                      <a:pt x="1063" y="239"/>
                    </a:lnTo>
                    <a:lnTo>
                      <a:pt x="1038" y="259"/>
                    </a:lnTo>
                    <a:lnTo>
                      <a:pt x="1013" y="279"/>
                    </a:lnTo>
                    <a:lnTo>
                      <a:pt x="986" y="298"/>
                    </a:lnTo>
                    <a:lnTo>
                      <a:pt x="958" y="316"/>
                    </a:lnTo>
                    <a:lnTo>
                      <a:pt x="929" y="335"/>
                    </a:lnTo>
                    <a:lnTo>
                      <a:pt x="899" y="352"/>
                    </a:lnTo>
                    <a:lnTo>
                      <a:pt x="868" y="370"/>
                    </a:lnTo>
                    <a:lnTo>
                      <a:pt x="836" y="387"/>
                    </a:lnTo>
                    <a:lnTo>
                      <a:pt x="804" y="403"/>
                    </a:lnTo>
                    <a:lnTo>
                      <a:pt x="772" y="418"/>
                    </a:lnTo>
                    <a:lnTo>
                      <a:pt x="740" y="433"/>
                    </a:lnTo>
                    <a:lnTo>
                      <a:pt x="707" y="448"/>
                    </a:lnTo>
                    <a:lnTo>
                      <a:pt x="675" y="462"/>
                    </a:lnTo>
                    <a:lnTo>
                      <a:pt x="644" y="476"/>
                    </a:lnTo>
                    <a:lnTo>
                      <a:pt x="612" y="488"/>
                    </a:lnTo>
                    <a:lnTo>
                      <a:pt x="582" y="501"/>
                    </a:lnTo>
                    <a:lnTo>
                      <a:pt x="552" y="512"/>
                    </a:lnTo>
                    <a:lnTo>
                      <a:pt x="524" y="523"/>
                    </a:lnTo>
                    <a:lnTo>
                      <a:pt x="496" y="533"/>
                    </a:lnTo>
                    <a:lnTo>
                      <a:pt x="470" y="542"/>
                    </a:lnTo>
                    <a:lnTo>
                      <a:pt x="445" y="550"/>
                    </a:lnTo>
                    <a:lnTo>
                      <a:pt x="422" y="558"/>
                    </a:lnTo>
                    <a:lnTo>
                      <a:pt x="400" y="565"/>
                    </a:lnTo>
                    <a:lnTo>
                      <a:pt x="380" y="571"/>
                    </a:lnTo>
                    <a:lnTo>
                      <a:pt x="364" y="576"/>
                    </a:lnTo>
                    <a:lnTo>
                      <a:pt x="348" y="581"/>
                    </a:lnTo>
                    <a:lnTo>
                      <a:pt x="335" y="585"/>
                    </a:lnTo>
                    <a:lnTo>
                      <a:pt x="325" y="589"/>
                    </a:lnTo>
                    <a:lnTo>
                      <a:pt x="318" y="591"/>
                    </a:lnTo>
                    <a:lnTo>
                      <a:pt x="314" y="593"/>
                    </a:lnTo>
                    <a:lnTo>
                      <a:pt x="312" y="593"/>
                    </a:lnTo>
                    <a:lnTo>
                      <a:pt x="314" y="591"/>
                    </a:lnTo>
                    <a:lnTo>
                      <a:pt x="318" y="590"/>
                    </a:lnTo>
                    <a:lnTo>
                      <a:pt x="325" y="588"/>
                    </a:lnTo>
                    <a:lnTo>
                      <a:pt x="337" y="583"/>
                    </a:lnTo>
                    <a:lnTo>
                      <a:pt x="349" y="578"/>
                    </a:lnTo>
                    <a:lnTo>
                      <a:pt x="365" y="571"/>
                    </a:lnTo>
                    <a:lnTo>
                      <a:pt x="382" y="564"/>
                    </a:lnTo>
                    <a:lnTo>
                      <a:pt x="402" y="555"/>
                    </a:lnTo>
                    <a:lnTo>
                      <a:pt x="424" y="547"/>
                    </a:lnTo>
                    <a:lnTo>
                      <a:pt x="448" y="535"/>
                    </a:lnTo>
                    <a:lnTo>
                      <a:pt x="473" y="525"/>
                    </a:lnTo>
                    <a:lnTo>
                      <a:pt x="500" y="513"/>
                    </a:lnTo>
                    <a:lnTo>
                      <a:pt x="528" y="501"/>
                    </a:lnTo>
                    <a:lnTo>
                      <a:pt x="557" y="487"/>
                    </a:lnTo>
                    <a:lnTo>
                      <a:pt x="588" y="473"/>
                    </a:lnTo>
                    <a:lnTo>
                      <a:pt x="619" y="458"/>
                    </a:lnTo>
                    <a:lnTo>
                      <a:pt x="650" y="443"/>
                    </a:lnTo>
                    <a:lnTo>
                      <a:pt x="682" y="427"/>
                    </a:lnTo>
                    <a:lnTo>
                      <a:pt x="715" y="411"/>
                    </a:lnTo>
                    <a:lnTo>
                      <a:pt x="747" y="395"/>
                    </a:lnTo>
                    <a:lnTo>
                      <a:pt x="779" y="377"/>
                    </a:lnTo>
                    <a:lnTo>
                      <a:pt x="811" y="360"/>
                    </a:lnTo>
                    <a:lnTo>
                      <a:pt x="843" y="342"/>
                    </a:lnTo>
                    <a:lnTo>
                      <a:pt x="874" y="324"/>
                    </a:lnTo>
                    <a:lnTo>
                      <a:pt x="904" y="305"/>
                    </a:lnTo>
                    <a:lnTo>
                      <a:pt x="934" y="286"/>
                    </a:lnTo>
                    <a:lnTo>
                      <a:pt x="962" y="268"/>
                    </a:lnTo>
                    <a:lnTo>
                      <a:pt x="989" y="249"/>
                    </a:lnTo>
                    <a:lnTo>
                      <a:pt x="1015" y="230"/>
                    </a:lnTo>
                    <a:lnTo>
                      <a:pt x="1039" y="211"/>
                    </a:lnTo>
                    <a:lnTo>
                      <a:pt x="1062" y="192"/>
                    </a:lnTo>
                    <a:lnTo>
                      <a:pt x="1083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77800" y="367200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1147" h="361">
                    <a:moveTo>
                      <a:pt x="239" y="74"/>
                    </a:moveTo>
                    <a:lnTo>
                      <a:pt x="0" y="114"/>
                    </a:lnTo>
                    <a:lnTo>
                      <a:pt x="367" y="0"/>
                    </a:lnTo>
                    <a:lnTo>
                      <a:pt x="365" y="1"/>
                    </a:lnTo>
                    <a:lnTo>
                      <a:pt x="359" y="5"/>
                    </a:lnTo>
                    <a:lnTo>
                      <a:pt x="349" y="11"/>
                    </a:lnTo>
                    <a:lnTo>
                      <a:pt x="340" y="19"/>
                    </a:lnTo>
                    <a:lnTo>
                      <a:pt x="331" y="29"/>
                    </a:lnTo>
                    <a:lnTo>
                      <a:pt x="322" y="41"/>
                    </a:lnTo>
                    <a:lnTo>
                      <a:pt x="318" y="53"/>
                    </a:lnTo>
                    <a:lnTo>
                      <a:pt x="317" y="66"/>
                    </a:lnTo>
                    <a:lnTo>
                      <a:pt x="323" y="83"/>
                    </a:lnTo>
                    <a:lnTo>
                      <a:pt x="338" y="107"/>
                    </a:lnTo>
                    <a:lnTo>
                      <a:pt x="358" y="133"/>
                    </a:lnTo>
                    <a:lnTo>
                      <a:pt x="380" y="161"/>
                    </a:lnTo>
                    <a:lnTo>
                      <a:pt x="401" y="187"/>
                    </a:lnTo>
                    <a:lnTo>
                      <a:pt x="420" y="210"/>
                    </a:lnTo>
                    <a:lnTo>
                      <a:pt x="433" y="225"/>
                    </a:lnTo>
                    <a:lnTo>
                      <a:pt x="438" y="231"/>
                    </a:lnTo>
                    <a:lnTo>
                      <a:pt x="496" y="205"/>
                    </a:lnTo>
                    <a:lnTo>
                      <a:pt x="495" y="206"/>
                    </a:lnTo>
                    <a:lnTo>
                      <a:pt x="491" y="210"/>
                    </a:lnTo>
                    <a:lnTo>
                      <a:pt x="486" y="215"/>
                    </a:lnTo>
                    <a:lnTo>
                      <a:pt x="480" y="222"/>
                    </a:lnTo>
                    <a:lnTo>
                      <a:pt x="472" y="230"/>
                    </a:lnTo>
                    <a:lnTo>
                      <a:pt x="465" y="237"/>
                    </a:lnTo>
                    <a:lnTo>
                      <a:pt x="459" y="245"/>
                    </a:lnTo>
                    <a:lnTo>
                      <a:pt x="454" y="252"/>
                    </a:lnTo>
                    <a:lnTo>
                      <a:pt x="446" y="265"/>
                    </a:lnTo>
                    <a:lnTo>
                      <a:pt x="443" y="282"/>
                    </a:lnTo>
                    <a:lnTo>
                      <a:pt x="445" y="301"/>
                    </a:lnTo>
                    <a:lnTo>
                      <a:pt x="457" y="318"/>
                    </a:lnTo>
                    <a:lnTo>
                      <a:pt x="468" y="326"/>
                    </a:lnTo>
                    <a:lnTo>
                      <a:pt x="487" y="331"/>
                    </a:lnTo>
                    <a:lnTo>
                      <a:pt x="510" y="334"/>
                    </a:lnTo>
                    <a:lnTo>
                      <a:pt x="534" y="336"/>
                    </a:lnTo>
                    <a:lnTo>
                      <a:pt x="557" y="337"/>
                    </a:lnTo>
                    <a:lnTo>
                      <a:pt x="576" y="338"/>
                    </a:lnTo>
                    <a:lnTo>
                      <a:pt x="590" y="338"/>
                    </a:lnTo>
                    <a:lnTo>
                      <a:pt x="595" y="338"/>
                    </a:lnTo>
                    <a:lnTo>
                      <a:pt x="611" y="329"/>
                    </a:lnTo>
                    <a:lnTo>
                      <a:pt x="627" y="322"/>
                    </a:lnTo>
                    <a:lnTo>
                      <a:pt x="645" y="313"/>
                    </a:lnTo>
                    <a:lnTo>
                      <a:pt x="664" y="304"/>
                    </a:lnTo>
                    <a:lnTo>
                      <a:pt x="684" y="296"/>
                    </a:lnTo>
                    <a:lnTo>
                      <a:pt x="703" y="288"/>
                    </a:lnTo>
                    <a:lnTo>
                      <a:pt x="724" y="280"/>
                    </a:lnTo>
                    <a:lnTo>
                      <a:pt x="744" y="272"/>
                    </a:lnTo>
                    <a:lnTo>
                      <a:pt x="774" y="261"/>
                    </a:lnTo>
                    <a:lnTo>
                      <a:pt x="806" y="251"/>
                    </a:lnTo>
                    <a:lnTo>
                      <a:pt x="836" y="242"/>
                    </a:lnTo>
                    <a:lnTo>
                      <a:pt x="866" y="234"/>
                    </a:lnTo>
                    <a:lnTo>
                      <a:pt x="896" y="226"/>
                    </a:lnTo>
                    <a:lnTo>
                      <a:pt x="924" y="220"/>
                    </a:lnTo>
                    <a:lnTo>
                      <a:pt x="952" y="215"/>
                    </a:lnTo>
                    <a:lnTo>
                      <a:pt x="979" y="210"/>
                    </a:lnTo>
                    <a:lnTo>
                      <a:pt x="1005" y="206"/>
                    </a:lnTo>
                    <a:lnTo>
                      <a:pt x="1029" y="205"/>
                    </a:lnTo>
                    <a:lnTo>
                      <a:pt x="1052" y="204"/>
                    </a:lnTo>
                    <a:lnTo>
                      <a:pt x="1073" y="204"/>
                    </a:lnTo>
                    <a:lnTo>
                      <a:pt x="1091" y="205"/>
                    </a:lnTo>
                    <a:lnTo>
                      <a:pt x="1108" y="206"/>
                    </a:lnTo>
                    <a:lnTo>
                      <a:pt x="1121" y="210"/>
                    </a:lnTo>
                    <a:lnTo>
                      <a:pt x="1133" y="215"/>
                    </a:lnTo>
                    <a:lnTo>
                      <a:pt x="1140" y="221"/>
                    </a:lnTo>
                    <a:lnTo>
                      <a:pt x="1145" y="227"/>
                    </a:lnTo>
                    <a:lnTo>
                      <a:pt x="1147" y="236"/>
                    </a:lnTo>
                    <a:lnTo>
                      <a:pt x="1145" y="244"/>
                    </a:lnTo>
                    <a:lnTo>
                      <a:pt x="1141" y="253"/>
                    </a:lnTo>
                    <a:lnTo>
                      <a:pt x="1135" y="263"/>
                    </a:lnTo>
                    <a:lnTo>
                      <a:pt x="1125" y="273"/>
                    </a:lnTo>
                    <a:lnTo>
                      <a:pt x="1113" y="285"/>
                    </a:lnTo>
                    <a:lnTo>
                      <a:pt x="1118" y="272"/>
                    </a:lnTo>
                    <a:lnTo>
                      <a:pt x="1119" y="261"/>
                    </a:lnTo>
                    <a:lnTo>
                      <a:pt x="1115" y="252"/>
                    </a:lnTo>
                    <a:lnTo>
                      <a:pt x="1104" y="244"/>
                    </a:lnTo>
                    <a:lnTo>
                      <a:pt x="1093" y="239"/>
                    </a:lnTo>
                    <a:lnTo>
                      <a:pt x="1079" y="235"/>
                    </a:lnTo>
                    <a:lnTo>
                      <a:pt x="1064" y="234"/>
                    </a:lnTo>
                    <a:lnTo>
                      <a:pt x="1045" y="232"/>
                    </a:lnTo>
                    <a:lnTo>
                      <a:pt x="1024" y="232"/>
                    </a:lnTo>
                    <a:lnTo>
                      <a:pt x="1002" y="234"/>
                    </a:lnTo>
                    <a:lnTo>
                      <a:pt x="978" y="235"/>
                    </a:lnTo>
                    <a:lnTo>
                      <a:pt x="952" y="239"/>
                    </a:lnTo>
                    <a:lnTo>
                      <a:pt x="925" y="244"/>
                    </a:lnTo>
                    <a:lnTo>
                      <a:pt x="897" y="248"/>
                    </a:lnTo>
                    <a:lnTo>
                      <a:pt x="869" y="255"/>
                    </a:lnTo>
                    <a:lnTo>
                      <a:pt x="839" y="262"/>
                    </a:lnTo>
                    <a:lnTo>
                      <a:pt x="809" y="271"/>
                    </a:lnTo>
                    <a:lnTo>
                      <a:pt x="778" y="280"/>
                    </a:lnTo>
                    <a:lnTo>
                      <a:pt x="747" y="290"/>
                    </a:lnTo>
                    <a:lnTo>
                      <a:pt x="717" y="301"/>
                    </a:lnTo>
                    <a:lnTo>
                      <a:pt x="701" y="307"/>
                    </a:lnTo>
                    <a:lnTo>
                      <a:pt x="686" y="312"/>
                    </a:lnTo>
                    <a:lnTo>
                      <a:pt x="671" y="318"/>
                    </a:lnTo>
                    <a:lnTo>
                      <a:pt x="656" y="323"/>
                    </a:lnTo>
                    <a:lnTo>
                      <a:pt x="641" y="328"/>
                    </a:lnTo>
                    <a:lnTo>
                      <a:pt x="627" y="333"/>
                    </a:lnTo>
                    <a:lnTo>
                      <a:pt x="614" y="338"/>
                    </a:lnTo>
                    <a:lnTo>
                      <a:pt x="601" y="342"/>
                    </a:lnTo>
                    <a:lnTo>
                      <a:pt x="590" y="347"/>
                    </a:lnTo>
                    <a:lnTo>
                      <a:pt x="580" y="349"/>
                    </a:lnTo>
                    <a:lnTo>
                      <a:pt x="571" y="353"/>
                    </a:lnTo>
                    <a:lnTo>
                      <a:pt x="563" y="356"/>
                    </a:lnTo>
                    <a:lnTo>
                      <a:pt x="557" y="358"/>
                    </a:lnTo>
                    <a:lnTo>
                      <a:pt x="552" y="359"/>
                    </a:lnTo>
                    <a:lnTo>
                      <a:pt x="549" y="361"/>
                    </a:lnTo>
                    <a:lnTo>
                      <a:pt x="548" y="361"/>
                    </a:lnTo>
                    <a:lnTo>
                      <a:pt x="543" y="361"/>
                    </a:lnTo>
                    <a:lnTo>
                      <a:pt x="531" y="361"/>
                    </a:lnTo>
                    <a:lnTo>
                      <a:pt x="511" y="361"/>
                    </a:lnTo>
                    <a:lnTo>
                      <a:pt x="488" y="359"/>
                    </a:lnTo>
                    <a:lnTo>
                      <a:pt x="464" y="357"/>
                    </a:lnTo>
                    <a:lnTo>
                      <a:pt x="440" y="353"/>
                    </a:lnTo>
                    <a:lnTo>
                      <a:pt x="420" y="347"/>
                    </a:lnTo>
                    <a:lnTo>
                      <a:pt x="406" y="339"/>
                    </a:lnTo>
                    <a:lnTo>
                      <a:pt x="395" y="327"/>
                    </a:lnTo>
                    <a:lnTo>
                      <a:pt x="389" y="314"/>
                    </a:lnTo>
                    <a:lnTo>
                      <a:pt x="386" y="302"/>
                    </a:lnTo>
                    <a:lnTo>
                      <a:pt x="386" y="290"/>
                    </a:lnTo>
                    <a:lnTo>
                      <a:pt x="387" y="280"/>
                    </a:lnTo>
                    <a:lnTo>
                      <a:pt x="389" y="271"/>
                    </a:lnTo>
                    <a:lnTo>
                      <a:pt x="390" y="266"/>
                    </a:lnTo>
                    <a:lnTo>
                      <a:pt x="391" y="263"/>
                    </a:lnTo>
                    <a:lnTo>
                      <a:pt x="23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36560" y="3673440"/>
                <a:ext cx="92160" cy="74520"/>
              </a:xfrm>
              <a:custGeom>
                <a:avLst/>
                <a:gdLst/>
                <a:ahLst/>
                <a:rect l="l" t="t" r="r" b="b"/>
                <a:pathLst>
                  <a:path w="293" h="236">
                    <a:moveTo>
                      <a:pt x="0" y="166"/>
                    </a:moveTo>
                    <a:lnTo>
                      <a:pt x="6" y="146"/>
                    </a:lnTo>
                    <a:lnTo>
                      <a:pt x="16" y="127"/>
                    </a:lnTo>
                    <a:lnTo>
                      <a:pt x="31" y="109"/>
                    </a:lnTo>
                    <a:lnTo>
                      <a:pt x="50" y="91"/>
                    </a:lnTo>
                    <a:lnTo>
                      <a:pt x="71" y="75"/>
                    </a:lnTo>
                    <a:lnTo>
                      <a:pt x="95" y="59"/>
                    </a:lnTo>
                    <a:lnTo>
                      <a:pt x="121" y="44"/>
                    </a:lnTo>
                    <a:lnTo>
                      <a:pt x="146" y="30"/>
                    </a:lnTo>
                    <a:lnTo>
                      <a:pt x="171" y="18"/>
                    </a:lnTo>
                    <a:lnTo>
                      <a:pt x="192" y="9"/>
                    </a:lnTo>
                    <a:lnTo>
                      <a:pt x="209" y="3"/>
                    </a:lnTo>
                    <a:lnTo>
                      <a:pt x="222" y="0"/>
                    </a:lnTo>
                    <a:lnTo>
                      <a:pt x="233" y="0"/>
                    </a:lnTo>
                    <a:lnTo>
                      <a:pt x="241" y="3"/>
                    </a:lnTo>
                    <a:lnTo>
                      <a:pt x="248" y="5"/>
                    </a:lnTo>
                    <a:lnTo>
                      <a:pt x="255" y="9"/>
                    </a:lnTo>
                    <a:lnTo>
                      <a:pt x="261" y="14"/>
                    </a:lnTo>
                    <a:lnTo>
                      <a:pt x="266" y="19"/>
                    </a:lnTo>
                    <a:lnTo>
                      <a:pt x="271" y="25"/>
                    </a:lnTo>
                    <a:lnTo>
                      <a:pt x="275" y="33"/>
                    </a:lnTo>
                    <a:lnTo>
                      <a:pt x="280" y="41"/>
                    </a:lnTo>
                    <a:lnTo>
                      <a:pt x="283" y="50"/>
                    </a:lnTo>
                    <a:lnTo>
                      <a:pt x="286" y="60"/>
                    </a:lnTo>
                    <a:lnTo>
                      <a:pt x="289" y="71"/>
                    </a:lnTo>
                    <a:lnTo>
                      <a:pt x="293" y="101"/>
                    </a:lnTo>
                    <a:lnTo>
                      <a:pt x="291" y="128"/>
                    </a:lnTo>
                    <a:lnTo>
                      <a:pt x="284" y="148"/>
                    </a:lnTo>
                    <a:lnTo>
                      <a:pt x="271" y="161"/>
                    </a:lnTo>
                    <a:lnTo>
                      <a:pt x="266" y="162"/>
                    </a:lnTo>
                    <a:lnTo>
                      <a:pt x="261" y="162"/>
                    </a:lnTo>
                    <a:lnTo>
                      <a:pt x="255" y="161"/>
                    </a:lnTo>
                    <a:lnTo>
                      <a:pt x="249" y="158"/>
                    </a:lnTo>
                    <a:lnTo>
                      <a:pt x="244" y="153"/>
                    </a:lnTo>
                    <a:lnTo>
                      <a:pt x="240" y="148"/>
                    </a:lnTo>
                    <a:lnTo>
                      <a:pt x="235" y="141"/>
                    </a:lnTo>
                    <a:lnTo>
                      <a:pt x="231" y="133"/>
                    </a:lnTo>
                    <a:lnTo>
                      <a:pt x="234" y="137"/>
                    </a:lnTo>
                    <a:lnTo>
                      <a:pt x="238" y="140"/>
                    </a:lnTo>
                    <a:lnTo>
                      <a:pt x="241" y="140"/>
                    </a:lnTo>
                    <a:lnTo>
                      <a:pt x="244" y="140"/>
                    </a:lnTo>
                    <a:lnTo>
                      <a:pt x="250" y="133"/>
                    </a:lnTo>
                    <a:lnTo>
                      <a:pt x="254" y="122"/>
                    </a:lnTo>
                    <a:lnTo>
                      <a:pt x="255" y="109"/>
                    </a:lnTo>
                    <a:lnTo>
                      <a:pt x="252" y="92"/>
                    </a:lnTo>
                    <a:lnTo>
                      <a:pt x="247" y="77"/>
                    </a:lnTo>
                    <a:lnTo>
                      <a:pt x="241" y="66"/>
                    </a:lnTo>
                    <a:lnTo>
                      <a:pt x="234" y="60"/>
                    </a:lnTo>
                    <a:lnTo>
                      <a:pt x="226" y="60"/>
                    </a:lnTo>
                    <a:lnTo>
                      <a:pt x="222" y="64"/>
                    </a:lnTo>
                    <a:lnTo>
                      <a:pt x="219" y="69"/>
                    </a:lnTo>
                    <a:lnTo>
                      <a:pt x="216" y="76"/>
                    </a:lnTo>
                    <a:lnTo>
                      <a:pt x="215" y="85"/>
                    </a:lnTo>
                    <a:lnTo>
                      <a:pt x="214" y="70"/>
                    </a:lnTo>
                    <a:lnTo>
                      <a:pt x="215" y="58"/>
                    </a:lnTo>
                    <a:lnTo>
                      <a:pt x="216" y="45"/>
                    </a:lnTo>
                    <a:lnTo>
                      <a:pt x="219" y="34"/>
                    </a:lnTo>
                    <a:lnTo>
                      <a:pt x="214" y="35"/>
                    </a:lnTo>
                    <a:lnTo>
                      <a:pt x="209" y="38"/>
                    </a:lnTo>
                    <a:lnTo>
                      <a:pt x="202" y="39"/>
                    </a:lnTo>
                    <a:lnTo>
                      <a:pt x="195" y="41"/>
                    </a:lnTo>
                    <a:lnTo>
                      <a:pt x="190" y="55"/>
                    </a:lnTo>
                    <a:lnTo>
                      <a:pt x="188" y="71"/>
                    </a:lnTo>
                    <a:lnTo>
                      <a:pt x="188" y="89"/>
                    </a:lnTo>
                    <a:lnTo>
                      <a:pt x="190" y="107"/>
                    </a:lnTo>
                    <a:lnTo>
                      <a:pt x="196" y="128"/>
                    </a:lnTo>
                    <a:lnTo>
                      <a:pt x="204" y="145"/>
                    </a:lnTo>
                    <a:lnTo>
                      <a:pt x="210" y="157"/>
                    </a:lnTo>
                    <a:lnTo>
                      <a:pt x="217" y="166"/>
                    </a:lnTo>
                    <a:lnTo>
                      <a:pt x="222" y="172"/>
                    </a:lnTo>
                    <a:lnTo>
                      <a:pt x="227" y="175"/>
                    </a:lnTo>
                    <a:lnTo>
                      <a:pt x="231" y="177"/>
                    </a:lnTo>
                    <a:lnTo>
                      <a:pt x="232" y="177"/>
                    </a:lnTo>
                    <a:lnTo>
                      <a:pt x="230" y="177"/>
                    </a:lnTo>
                    <a:lnTo>
                      <a:pt x="225" y="177"/>
                    </a:lnTo>
                    <a:lnTo>
                      <a:pt x="218" y="176"/>
                    </a:lnTo>
                    <a:lnTo>
                      <a:pt x="209" y="171"/>
                    </a:lnTo>
                    <a:lnTo>
                      <a:pt x="199" y="165"/>
                    </a:lnTo>
                    <a:lnTo>
                      <a:pt x="190" y="153"/>
                    </a:lnTo>
                    <a:lnTo>
                      <a:pt x="181" y="136"/>
                    </a:lnTo>
                    <a:lnTo>
                      <a:pt x="173" y="114"/>
                    </a:lnTo>
                    <a:lnTo>
                      <a:pt x="171" y="95"/>
                    </a:lnTo>
                    <a:lnTo>
                      <a:pt x="171" y="77"/>
                    </a:lnTo>
                    <a:lnTo>
                      <a:pt x="173" y="61"/>
                    </a:lnTo>
                    <a:lnTo>
                      <a:pt x="177" y="48"/>
                    </a:lnTo>
                    <a:lnTo>
                      <a:pt x="172" y="50"/>
                    </a:lnTo>
                    <a:lnTo>
                      <a:pt x="167" y="53"/>
                    </a:lnTo>
                    <a:lnTo>
                      <a:pt x="162" y="55"/>
                    </a:lnTo>
                    <a:lnTo>
                      <a:pt x="157" y="58"/>
                    </a:lnTo>
                    <a:lnTo>
                      <a:pt x="150" y="61"/>
                    </a:lnTo>
                    <a:lnTo>
                      <a:pt x="145" y="64"/>
                    </a:lnTo>
                    <a:lnTo>
                      <a:pt x="140" y="67"/>
                    </a:lnTo>
                    <a:lnTo>
                      <a:pt x="134" y="71"/>
                    </a:lnTo>
                    <a:lnTo>
                      <a:pt x="114" y="82"/>
                    </a:lnTo>
                    <a:lnTo>
                      <a:pt x="97" y="92"/>
                    </a:lnTo>
                    <a:lnTo>
                      <a:pt x="82" y="101"/>
                    </a:lnTo>
                    <a:lnTo>
                      <a:pt x="69" y="110"/>
                    </a:lnTo>
                    <a:lnTo>
                      <a:pt x="58" y="120"/>
                    </a:lnTo>
                    <a:lnTo>
                      <a:pt x="49" y="130"/>
                    </a:lnTo>
                    <a:lnTo>
                      <a:pt x="44" y="142"/>
                    </a:lnTo>
                    <a:lnTo>
                      <a:pt x="41" y="157"/>
                    </a:lnTo>
                    <a:lnTo>
                      <a:pt x="43" y="183"/>
                    </a:lnTo>
                    <a:lnTo>
                      <a:pt x="55" y="201"/>
                    </a:lnTo>
                    <a:lnTo>
                      <a:pt x="71" y="212"/>
                    </a:lnTo>
                    <a:lnTo>
                      <a:pt x="92" y="218"/>
                    </a:lnTo>
                    <a:lnTo>
                      <a:pt x="113" y="221"/>
                    </a:lnTo>
                    <a:lnTo>
                      <a:pt x="132" y="221"/>
                    </a:lnTo>
                    <a:lnTo>
                      <a:pt x="144" y="219"/>
                    </a:lnTo>
                    <a:lnTo>
                      <a:pt x="149" y="219"/>
                    </a:lnTo>
                    <a:lnTo>
                      <a:pt x="142" y="222"/>
                    </a:lnTo>
                    <a:lnTo>
                      <a:pt x="124" y="227"/>
                    </a:lnTo>
                    <a:lnTo>
                      <a:pt x="99" y="233"/>
                    </a:lnTo>
                    <a:lnTo>
                      <a:pt x="71" y="236"/>
                    </a:lnTo>
                    <a:lnTo>
                      <a:pt x="43" y="233"/>
                    </a:lnTo>
                    <a:lnTo>
                      <a:pt x="19" y="223"/>
                    </a:lnTo>
                    <a:lnTo>
                      <a:pt x="4" y="202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1371600" y="4361040"/>
              <a:ext cx="75564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371600" y="5018040"/>
              <a:ext cx="728640" cy="23760"/>
              <a:chOff x="1371600" y="5018040"/>
              <a:chExt cx="728640" cy="23760"/>
            </a:xfrm>
          </p:grpSpPr>
          <p:sp>
            <p:nvSpPr>
              <p:cNvPr id="422" name=""/>
              <p:cNvSpPr/>
              <p:nvPr/>
            </p:nvSpPr>
            <p:spPr>
              <a:xfrm>
                <a:off x="1371600" y="5018040"/>
                <a:ext cx="1951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3980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0656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235240" y="27003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90760" y="275112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95800" y="2954160"/>
              <a:ext cx="837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87160" y="315756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35240" y="3476520"/>
              <a:ext cx="12747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04800" y="3527280"/>
              <a:ext cx="100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87160" y="373068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35240" y="41241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90760" y="417528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81400" y="437832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79960" y="45813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35240" y="49006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4480" y="4952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48880" y="49528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7080" y="495288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79960" y="51544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12760" y="2317680"/>
              <a:ext cx="2656080" cy="3355920"/>
            </a:xfrm>
            <a:prstGeom prst="rect">
              <a:avLst/>
            </a:prstGeom>
            <a:solidFill>
              <a:srgbClr val="ccffcc"/>
            </a:solidFill>
            <a:ln w="65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71600" y="4361040"/>
              <a:ext cx="75564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371600" y="5018040"/>
              <a:ext cx="728640" cy="23760"/>
              <a:chOff x="1371600" y="5018040"/>
              <a:chExt cx="728640" cy="23760"/>
            </a:xfrm>
          </p:grpSpPr>
          <p:sp>
            <p:nvSpPr>
              <p:cNvPr id="444" name=""/>
              <p:cNvSpPr/>
              <p:nvPr/>
            </p:nvSpPr>
            <p:spPr>
              <a:xfrm>
                <a:off x="1371600" y="5018040"/>
                <a:ext cx="1951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3980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0656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2235240" y="27003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90760" y="275112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95800" y="2954160"/>
              <a:ext cx="837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87160" y="315756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35240" y="3476520"/>
              <a:ext cx="12747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04800" y="3527280"/>
              <a:ext cx="100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7160" y="373068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35240" y="41241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90760" y="417528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81400" y="437832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79960" y="45813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35240" y="49006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64480" y="4952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48880" y="49528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7080" y="495288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79960" y="51544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523880" y="2743200"/>
              <a:ext cx="609840" cy="457200"/>
              <a:chOff x="1523880" y="2743200"/>
              <a:chExt cx="609840" cy="457200"/>
            </a:xfrm>
          </p:grpSpPr>
          <p:sp>
            <p:nvSpPr>
              <p:cNvPr id="464" name=""/>
              <p:cNvSpPr/>
              <p:nvPr/>
            </p:nvSpPr>
            <p:spPr>
              <a:xfrm>
                <a:off x="1548360" y="298836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1523880" y="2743200"/>
                <a:ext cx="609840" cy="457200"/>
                <a:chOff x="1523880" y="2743200"/>
                <a:chExt cx="609840" cy="4572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732320" y="2796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732320" y="2850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732320" y="3066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732320" y="3119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531440" y="29314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765440" y="2743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765440" y="30121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564920" y="28504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1564920" y="3012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1523880" y="2940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6" name=""/>
            <p:cNvGrpSpPr/>
            <p:nvPr/>
          </p:nvGrpSpPr>
          <p:grpSpPr>
            <a:xfrm>
              <a:off x="1539360" y="3456720"/>
              <a:ext cx="607320" cy="513360"/>
              <a:chOff x="1539360" y="3456720"/>
              <a:chExt cx="607320" cy="513360"/>
            </a:xfrm>
          </p:grpSpPr>
          <p:sp>
            <p:nvSpPr>
              <p:cNvPr id="477" name=""/>
              <p:cNvSpPr/>
              <p:nvPr/>
            </p:nvSpPr>
            <p:spPr>
              <a:xfrm rot="19834800">
                <a:off x="1603440" y="366696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1539360" y="3456720"/>
                <a:ext cx="574920" cy="435600"/>
                <a:chOff x="1539360" y="3456720"/>
                <a:chExt cx="574920" cy="435600"/>
              </a:xfrm>
            </p:grpSpPr>
            <p:sp>
              <p:nvSpPr>
                <p:cNvPr id="479" name=""/>
                <p:cNvSpPr/>
                <p:nvPr/>
              </p:nvSpPr>
              <p:spPr>
                <a:xfrm rot="19834800">
                  <a:off x="1656720" y="3517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19834800">
                  <a:off x="1683000" y="3564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19834800">
                  <a:off x="1788840" y="375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19834800">
                  <a:off x="1815120" y="3799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19834800">
                  <a:off x="1531080" y="361512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19834800">
                  <a:off x="1703160" y="3460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19834800">
                  <a:off x="1835280" y="369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19834800">
                  <a:off x="1554840" y="3659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 rot="19834800">
                  <a:off x="1634040" y="3800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rot="19834800">
                  <a:off x="1551600" y="37357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9" name=""/>
          <p:cNvGrpSpPr/>
          <p:nvPr/>
        </p:nvGrpSpPr>
        <p:grpSpPr>
          <a:xfrm>
            <a:off x="4294080" y="2313000"/>
            <a:ext cx="4510080" cy="3367080"/>
            <a:chOff x="4294080" y="2313000"/>
            <a:chExt cx="4510080" cy="3367080"/>
          </a:xfrm>
        </p:grpSpPr>
        <p:sp>
          <p:nvSpPr>
            <p:cNvPr id="490" name=""/>
            <p:cNvSpPr/>
            <p:nvPr/>
          </p:nvSpPr>
          <p:spPr>
            <a:xfrm>
              <a:off x="4294080" y="231300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6360" y="377028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51560" y="3394080"/>
              <a:ext cx="33048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886280" y="3776760"/>
              <a:ext cx="401760" cy="866520"/>
              <a:chOff x="4886280" y="3776760"/>
              <a:chExt cx="401760" cy="866520"/>
            </a:xfrm>
          </p:grpSpPr>
          <p:sp>
            <p:nvSpPr>
              <p:cNvPr id="494" name=""/>
              <p:cNvSpPr/>
              <p:nvPr/>
            </p:nvSpPr>
            <p:spPr>
              <a:xfrm>
                <a:off x="4886280" y="44593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992840" y="42195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099040" y="39816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5240" y="3776760"/>
                <a:ext cx="8280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418440" y="3394080"/>
              <a:ext cx="941040" cy="303120"/>
              <a:chOff x="6418440" y="3394080"/>
              <a:chExt cx="941040" cy="303120"/>
            </a:xfrm>
          </p:grpSpPr>
          <p:sp>
            <p:nvSpPr>
              <p:cNvPr id="499" name=""/>
              <p:cNvSpPr/>
              <p:nvPr/>
            </p:nvSpPr>
            <p:spPr>
              <a:xfrm>
                <a:off x="6418440" y="361944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669000" y="354492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919920" y="346860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9040" y="339408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602400" y="2727360"/>
              <a:ext cx="685800" cy="871560"/>
              <a:chOff x="6602400" y="2727360"/>
              <a:chExt cx="685800" cy="871560"/>
            </a:xfrm>
          </p:grpSpPr>
          <p:sp>
            <p:nvSpPr>
              <p:cNvPr id="504" name=""/>
              <p:cNvSpPr/>
              <p:nvPr/>
            </p:nvSpPr>
            <p:spPr>
              <a:xfrm>
                <a:off x="6602400" y="343368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64400" y="322740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23160" y="301932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85160" y="2813040"/>
                <a:ext cx="13464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45360" y="2727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761080" y="4608360"/>
              <a:ext cx="195120" cy="698760"/>
              <a:chOff x="5761080" y="4608360"/>
              <a:chExt cx="195120" cy="698760"/>
            </a:xfrm>
          </p:grpSpPr>
          <p:sp>
            <p:nvSpPr>
              <p:cNvPr id="510" name=""/>
              <p:cNvSpPr/>
              <p:nvPr/>
            </p:nvSpPr>
            <p:spPr>
              <a:xfrm>
                <a:off x="5888160" y="5116680"/>
                <a:ext cx="6804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24440" y="486252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761080" y="460836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648560" y="3871800"/>
              <a:ext cx="401760" cy="866880"/>
              <a:chOff x="7648560" y="3871800"/>
              <a:chExt cx="401760" cy="866880"/>
            </a:xfrm>
          </p:grpSpPr>
          <p:sp>
            <p:nvSpPr>
              <p:cNvPr id="514" name=""/>
              <p:cNvSpPr/>
              <p:nvPr/>
            </p:nvSpPr>
            <p:spPr>
              <a:xfrm>
                <a:off x="7648560" y="45543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754760" y="431496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61320" y="407664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967520" y="387180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6886440" y="3395520"/>
              <a:ext cx="401760" cy="866880"/>
              <a:chOff x="6886440" y="3395520"/>
              <a:chExt cx="401760" cy="866880"/>
            </a:xfrm>
          </p:grpSpPr>
          <p:sp>
            <p:nvSpPr>
              <p:cNvPr id="519" name=""/>
              <p:cNvSpPr/>
              <p:nvPr/>
            </p:nvSpPr>
            <p:spPr>
              <a:xfrm>
                <a:off x="6886440" y="40784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93000" y="38386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99200" y="36003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05760" y="339552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5746680" y="3705120"/>
              <a:ext cx="658800" cy="750960"/>
              <a:chOff x="5746680" y="3705120"/>
              <a:chExt cx="658800" cy="750960"/>
            </a:xfrm>
          </p:grpSpPr>
          <p:sp>
            <p:nvSpPr>
              <p:cNvPr id="524" name=""/>
              <p:cNvSpPr/>
              <p:nvPr/>
            </p:nvSpPr>
            <p:spPr>
              <a:xfrm>
                <a:off x="5746680" y="429732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18040" y="41004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89760" y="390204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64360" y="370512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270400" y="3011400"/>
              <a:ext cx="588960" cy="682560"/>
              <a:chOff x="5270400" y="3011400"/>
              <a:chExt cx="588960" cy="682560"/>
            </a:xfrm>
          </p:grpSpPr>
          <p:sp>
            <p:nvSpPr>
              <p:cNvPr id="529" name=""/>
              <p:cNvSpPr/>
              <p:nvPr/>
            </p:nvSpPr>
            <p:spPr>
              <a:xfrm>
                <a:off x="5270400" y="353376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38880" y="33336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10240" y="313524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80160" y="301140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130800" y="4627440"/>
              <a:ext cx="1533600" cy="687600"/>
              <a:chOff x="6130800" y="4627440"/>
              <a:chExt cx="1533600" cy="687600"/>
            </a:xfrm>
          </p:grpSpPr>
          <p:sp>
            <p:nvSpPr>
              <p:cNvPr id="534" name=""/>
              <p:cNvSpPr/>
              <p:nvPr/>
            </p:nvSpPr>
            <p:spPr>
              <a:xfrm>
                <a:off x="6130800" y="521820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370560" y="5113440"/>
                <a:ext cx="18432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10320" y="500868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51520" y="490212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89840" y="479916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29600" y="4692600"/>
                <a:ext cx="18396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70800" y="462744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7088040" y="3114720"/>
              <a:ext cx="486000" cy="565200"/>
              <a:chOff x="7088040" y="3114720"/>
              <a:chExt cx="486000" cy="565200"/>
            </a:xfrm>
          </p:grpSpPr>
          <p:sp>
            <p:nvSpPr>
              <p:cNvPr id="542" name=""/>
              <p:cNvSpPr/>
              <p:nvPr/>
            </p:nvSpPr>
            <p:spPr>
              <a:xfrm>
                <a:off x="7105680" y="311940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02440" y="323532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458120" y="33876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10600" y="3379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64520" y="3371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16640" y="3363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69120" y="3355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23040" y="3348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75520" y="3338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88200" y="311472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29520" y="339552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088040" y="3213000"/>
                <a:ext cx="48600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04240" y="32083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61280" y="34988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47080" y="347328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11880" y="3203640"/>
                <a:ext cx="8280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419960" y="32241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4992840" y="3495600"/>
              <a:ext cx="487080" cy="566640"/>
              <a:chOff x="4992840" y="3495600"/>
              <a:chExt cx="487080" cy="566640"/>
            </a:xfrm>
          </p:grpSpPr>
          <p:sp>
            <p:nvSpPr>
              <p:cNvPr id="560" name=""/>
              <p:cNvSpPr/>
              <p:nvPr/>
            </p:nvSpPr>
            <p:spPr>
              <a:xfrm>
                <a:off x="5010120" y="350028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06880" y="3618000"/>
                <a:ext cx="44316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62560" y="37688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15040" y="37609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68960" y="37530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21440" y="37450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73560" y="37368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27480" y="372888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79960" y="37209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92640" y="349560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33960" y="377676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92840" y="3594240"/>
                <a:ext cx="48708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10120" y="3589200"/>
                <a:ext cx="8424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265720" y="387972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51520" y="385452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16680" y="3584520"/>
                <a:ext cx="8388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324400" y="3605040"/>
                <a:ext cx="5400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135840" y="3591000"/>
              <a:ext cx="571320" cy="204840"/>
              <a:chOff x="6135840" y="3591000"/>
              <a:chExt cx="571320" cy="204840"/>
            </a:xfrm>
          </p:grpSpPr>
          <p:sp>
            <p:nvSpPr>
              <p:cNvPr id="578" name=""/>
              <p:cNvSpPr/>
              <p:nvPr/>
            </p:nvSpPr>
            <p:spPr>
              <a:xfrm>
                <a:off x="6135840" y="35910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77040" y="363384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86680" y="3624120"/>
                <a:ext cx="6012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5440" y="3733920"/>
                <a:ext cx="27936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35840" y="3618000"/>
                <a:ext cx="21240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80280" y="35924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170760" y="3654360"/>
                <a:ext cx="32040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10440" y="365760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6421320" y="4257720"/>
              <a:ext cx="571680" cy="204840"/>
              <a:chOff x="6421320" y="4257720"/>
              <a:chExt cx="571680" cy="204840"/>
            </a:xfrm>
          </p:grpSpPr>
          <p:sp>
            <p:nvSpPr>
              <p:cNvPr id="587" name=""/>
              <p:cNvSpPr/>
              <p:nvPr/>
            </p:nvSpPr>
            <p:spPr>
              <a:xfrm>
                <a:off x="6421320" y="425772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662880" y="429912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72160" y="4289400"/>
                <a:ext cx="6048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461280" y="4400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21320" y="428292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65760" y="425772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56240" y="4321080"/>
                <a:ext cx="3225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97720" y="432288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754600" y="5210280"/>
              <a:ext cx="571680" cy="204840"/>
              <a:chOff x="5754600" y="5210280"/>
              <a:chExt cx="571680" cy="204840"/>
            </a:xfrm>
          </p:grpSpPr>
          <p:sp>
            <p:nvSpPr>
              <p:cNvPr id="596" name=""/>
              <p:cNvSpPr/>
              <p:nvPr/>
            </p:nvSpPr>
            <p:spPr>
              <a:xfrm>
                <a:off x="5754600" y="521028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6160" y="52498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05440" y="52419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94200" y="5351400"/>
                <a:ext cx="27972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54600" y="523548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99040" y="521028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89520" y="52722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929200" y="52736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7850160" y="3781440"/>
              <a:ext cx="571680" cy="204840"/>
              <a:chOff x="7850160" y="3781440"/>
              <a:chExt cx="571680" cy="204840"/>
            </a:xfrm>
          </p:grpSpPr>
          <p:sp>
            <p:nvSpPr>
              <p:cNvPr id="605" name=""/>
              <p:cNvSpPr/>
              <p:nvPr/>
            </p:nvSpPr>
            <p:spPr>
              <a:xfrm>
                <a:off x="7850160" y="37814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091360" y="38228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001000" y="381492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89760" y="39243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50160" y="380844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094600" y="378288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885080" y="384480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024760" y="38466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611600" y="4543560"/>
              <a:ext cx="571680" cy="204480"/>
              <a:chOff x="4611600" y="4543560"/>
              <a:chExt cx="571680" cy="204480"/>
            </a:xfrm>
          </p:grpSpPr>
          <p:sp>
            <p:nvSpPr>
              <p:cNvPr id="614" name=""/>
              <p:cNvSpPr/>
              <p:nvPr/>
            </p:nvSpPr>
            <p:spPr>
              <a:xfrm>
                <a:off x="4611600" y="4543560"/>
                <a:ext cx="57168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53160" y="458460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62440" y="457524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51200" y="4686480"/>
                <a:ext cx="27972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11600" y="456876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56040" y="454356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46520" y="46069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86200" y="4608360"/>
                <a:ext cx="8280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7088040" y="2638440"/>
              <a:ext cx="571680" cy="204840"/>
              <a:chOff x="7088040" y="2638440"/>
              <a:chExt cx="571680" cy="204840"/>
            </a:xfrm>
          </p:grpSpPr>
          <p:sp>
            <p:nvSpPr>
              <p:cNvPr id="623" name=""/>
              <p:cNvSpPr/>
              <p:nvPr/>
            </p:nvSpPr>
            <p:spPr>
              <a:xfrm>
                <a:off x="7088040" y="26384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29600" y="26812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38880" y="26733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28000" y="2782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88040" y="266688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32840" y="26416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122960" y="27036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62640" y="2705040"/>
                <a:ext cx="8280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7373880" y="4352760"/>
              <a:ext cx="487440" cy="567000"/>
              <a:chOff x="7373880" y="4352760"/>
              <a:chExt cx="487440" cy="567000"/>
            </a:xfrm>
          </p:grpSpPr>
          <p:sp>
            <p:nvSpPr>
              <p:cNvPr id="632" name=""/>
              <p:cNvSpPr/>
              <p:nvPr/>
            </p:nvSpPr>
            <p:spPr>
              <a:xfrm>
                <a:off x="7391520" y="4357800"/>
                <a:ext cx="44748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8280" y="44751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743960" y="4626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696080" y="4618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650000" y="461016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602480" y="4602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554960" y="45943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508880" y="45864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461360" y="4578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74040" y="4352760"/>
                <a:ext cx="14760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15360" y="4633920"/>
                <a:ext cx="16956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373880" y="44514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91520" y="4446720"/>
                <a:ext cx="8388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47120" y="47372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432560" y="471168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97720" y="44416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705800" y="44625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5468760" y="4257720"/>
              <a:ext cx="487440" cy="565200"/>
              <a:chOff x="5468760" y="4257720"/>
              <a:chExt cx="487440" cy="565200"/>
            </a:xfrm>
          </p:grpSpPr>
          <p:sp>
            <p:nvSpPr>
              <p:cNvPr id="650" name=""/>
              <p:cNvSpPr/>
              <p:nvPr/>
            </p:nvSpPr>
            <p:spPr>
              <a:xfrm>
                <a:off x="5486400" y="426240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83160" y="437832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38840" y="45306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91320" y="4522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745240" y="4514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97360" y="4506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49840" y="4498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03760" y="4491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556240" y="4481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668920" y="425772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10240" y="453852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468760" y="43560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484960" y="43513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742000" y="46418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27800" y="461628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92600" y="434664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00680" y="43671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564160" y="2924280"/>
              <a:ext cx="571680" cy="204840"/>
              <a:chOff x="5564160" y="2924280"/>
              <a:chExt cx="571680" cy="204840"/>
            </a:xfrm>
          </p:grpSpPr>
          <p:sp>
            <p:nvSpPr>
              <p:cNvPr id="668" name=""/>
              <p:cNvSpPr/>
              <p:nvPr/>
            </p:nvSpPr>
            <p:spPr>
              <a:xfrm>
                <a:off x="5564160" y="292428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05360" y="296712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715000" y="295920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03760" y="3068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4160" y="29512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08600" y="292752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99080" y="298944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38760" y="299088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416480" y="4348080"/>
              <a:ext cx="865080" cy="579600"/>
              <a:chOff x="4416480" y="4348080"/>
              <a:chExt cx="865080" cy="579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813200" y="43480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57760" y="4351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703760" y="43592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51200" y="437040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99000" y="43876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49680" y="44118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05400" y="44416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467240" y="4476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438800" y="45194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421160" y="45687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416480" y="4624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422600" y="46782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441680" y="47307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73720" y="47750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513320" y="481500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557600" y="484668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608360" y="48718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660920" y="48909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13120" y="49053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68920" y="49150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824360" y="4917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879800" y="491652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33800" y="490860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989600" y="4894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041800" y="4876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094360" y="4853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141880" y="4822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186520" y="4782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24320" y="47401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54560" y="4689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72200" y="463536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265720" y="4579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243400" y="45291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210280" y="44845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68880" y="44481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122800" y="4417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73480" y="4392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021280" y="4373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967280" y="43610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13280" y="43527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857840" y="4348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416560" y="2728800"/>
              <a:ext cx="865080" cy="579600"/>
              <a:chOff x="5416560" y="2728800"/>
              <a:chExt cx="865080" cy="579600"/>
            </a:xfrm>
          </p:grpSpPr>
          <p:sp>
            <p:nvSpPr>
              <p:cNvPr id="719" name=""/>
              <p:cNvSpPr/>
              <p:nvPr/>
            </p:nvSpPr>
            <p:spPr>
              <a:xfrm>
                <a:off x="5813280" y="2728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57840" y="2732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703840" y="27399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651640" y="275112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99080" y="2768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49760" y="2792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05480" y="28224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467320" y="2857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438880" y="2900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421240" y="2949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416560" y="3005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423040" y="305928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442120" y="311148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473800" y="3156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513400" y="31957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57680" y="3227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608800" y="3252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661000" y="32716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713560" y="3286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69000" y="329580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824440" y="32986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880240" y="32972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34240" y="328932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989680" y="32749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041880" y="3257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094440" y="3233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41960" y="3203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86600" y="3164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24760" y="31212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254640" y="3070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272280" y="30160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265800" y="29606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3480" y="2909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210360" y="2865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168960" y="2828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122880" y="2798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073920" y="27734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021360" y="27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967360" y="2741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913360" y="273384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57920" y="2728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948360" y="2403360"/>
              <a:ext cx="865440" cy="579600"/>
              <a:chOff x="6948360" y="2403360"/>
              <a:chExt cx="865440" cy="579600"/>
            </a:xfrm>
          </p:grpSpPr>
          <p:sp>
            <p:nvSpPr>
              <p:cNvPr id="761" name=""/>
              <p:cNvSpPr/>
              <p:nvPr/>
            </p:nvSpPr>
            <p:spPr>
              <a:xfrm>
                <a:off x="7345440" y="2403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289640" y="2406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236000" y="241452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183440" y="2425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30880" y="2443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81920" y="2467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37280" y="2496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9120" y="2532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70680" y="2575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53400" y="2624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48360" y="2679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954840" y="273384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73920" y="2786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005600" y="2830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45200" y="2870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089840" y="2901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140600" y="2927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192800" y="2946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245360" y="2960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300800" y="2970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356600" y="2973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412040" y="2971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466040" y="2963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21480" y="2949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574040" y="293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2908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74120" y="2878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718400" y="2838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756560" y="2795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786800" y="2744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04080" y="2690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97960" y="2635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775640" y="2584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42160" y="2540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701120" y="2503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55040" y="2473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5720" y="2448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553160" y="2428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499520" y="24163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445520" y="2408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389720" y="24033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6035760" y="3395520"/>
              <a:ext cx="865080" cy="579600"/>
              <a:chOff x="6035760" y="3395520"/>
              <a:chExt cx="865080" cy="579600"/>
            </a:xfrm>
          </p:grpSpPr>
          <p:sp>
            <p:nvSpPr>
              <p:cNvPr id="803" name=""/>
              <p:cNvSpPr/>
              <p:nvPr/>
            </p:nvSpPr>
            <p:spPr>
              <a:xfrm>
                <a:off x="643248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377040" y="3398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323040" y="3406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270480" y="3417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218280" y="34354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168960" y="34592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124680" y="3489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86520" y="3524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58080" y="35672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40440" y="36162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035760" y="3672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41880" y="37260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060960" y="3778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093000" y="3822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132600" y="3862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176880" y="38941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227640" y="3919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280200" y="3938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32400" y="39528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388200" y="3962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43640" y="3965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9908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53080" y="39560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08880" y="39416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661080" y="392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713640" y="39006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761160" y="3870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805440" y="3830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43600" y="3787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73840" y="3736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891480" y="368316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85000" y="36273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62680" y="3576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829560" y="35323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88160" y="3495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42080" y="346536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92760" y="3440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640560" y="342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586560" y="34084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532560" y="34005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712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321600" y="4062240"/>
              <a:ext cx="865080" cy="579600"/>
              <a:chOff x="6321600" y="4062240"/>
              <a:chExt cx="865080" cy="579600"/>
            </a:xfrm>
          </p:grpSpPr>
          <p:sp>
            <p:nvSpPr>
              <p:cNvPr id="845" name=""/>
              <p:cNvSpPr/>
              <p:nvPr/>
            </p:nvSpPr>
            <p:spPr>
              <a:xfrm>
                <a:off x="6718320" y="4062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662880" y="40654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608880" y="40734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556320" y="40845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04120" y="410220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454800" y="41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10160" y="4156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72360" y="4191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43560" y="42339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326280" y="42829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321600" y="43387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327720" y="43927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346800" y="44449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378480" y="44895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18440" y="4529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62720" y="45608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513480" y="45864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566040" y="4605480"/>
                <a:ext cx="3780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8240" y="46195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673680" y="462924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729480" y="46324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784920" y="4630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38920" y="46227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94360" y="460836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46920" y="459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999120" y="45673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47000" y="45370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91280" y="4497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129440" y="4454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159680" y="440388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176960" y="434988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170840" y="42940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148520" y="4243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115040" y="41990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74000" y="4162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027920" y="41324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978600" y="4106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926400" y="408780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872400" y="40752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18400" y="40672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762600" y="4062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7750080" y="3586320"/>
              <a:ext cx="865440" cy="579240"/>
              <a:chOff x="7750080" y="3586320"/>
              <a:chExt cx="865440" cy="579240"/>
            </a:xfrm>
          </p:grpSpPr>
          <p:sp>
            <p:nvSpPr>
              <p:cNvPr id="887" name=""/>
              <p:cNvSpPr/>
              <p:nvPr/>
            </p:nvSpPr>
            <p:spPr>
              <a:xfrm>
                <a:off x="814716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91360" y="35892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037360" y="35971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985160" y="36082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932600" y="362592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883640" y="3649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839000" y="36799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800840" y="3714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772400" y="37576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54760" y="380700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50080" y="38624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56560" y="3916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75640" y="39686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807320" y="40132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846920" y="4052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891560" y="40845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42320" y="4110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994520" y="41292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047080" y="4143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102520" y="41529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158320" y="41562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13760" y="4154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267760" y="41464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323200" y="4132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375760" y="4114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427960" y="40910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475840" y="40608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520120" y="40212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558280" y="39783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588520" y="392760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605800" y="387360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599320" y="381780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577360" y="376704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543880" y="37227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502480" y="368604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456760" y="36561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407440" y="3630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354880" y="3611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300880" y="359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247240" y="359100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9144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638680" y="5006880"/>
              <a:ext cx="865440" cy="579600"/>
              <a:chOff x="5638680" y="5006880"/>
              <a:chExt cx="865440" cy="579600"/>
            </a:xfrm>
          </p:grpSpPr>
          <p:sp>
            <p:nvSpPr>
              <p:cNvPr id="929" name=""/>
              <p:cNvSpPr/>
              <p:nvPr/>
            </p:nvSpPr>
            <p:spPr>
              <a:xfrm>
                <a:off x="603576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979960" y="5010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925960" y="50180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3760" y="50292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21200" y="50468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772240" y="50706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727600" y="51004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689440" y="5135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661000" y="51786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43720" y="5227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638680" y="52833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645160" y="533700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664240" y="53895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95920" y="54338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35520" y="54738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780160" y="5505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0920" y="553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83120" y="55497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35680" y="55641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991120" y="557388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046920" y="55767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102360" y="5575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156360" y="55674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211800" y="55530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264360" y="5535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316560" y="5511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364440" y="5481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408720" y="54421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446880" y="5398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477120" y="534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494400" y="5294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488280" y="52387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65960" y="51879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432480" y="514368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391440" y="51069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345360" y="5076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296040" y="50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243480" y="50324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189840" y="5019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135840" y="501156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08004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4821120" y="3435480"/>
              <a:ext cx="865440" cy="706320"/>
              <a:chOff x="4821120" y="3435480"/>
              <a:chExt cx="865440" cy="706320"/>
            </a:xfrm>
          </p:grpSpPr>
          <p:sp>
            <p:nvSpPr>
              <p:cNvPr id="971" name=""/>
              <p:cNvSpPr/>
              <p:nvPr/>
            </p:nvSpPr>
            <p:spPr>
              <a:xfrm>
                <a:off x="5218200" y="34354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162400" y="343836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08400" y="3448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057640" y="3462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006880" y="34830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60800" y="3510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17960" y="35434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883040" y="35812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853160" y="36259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34080" y="36752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822920" y="37274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821120" y="37828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27600" y="383868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843440" y="38926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867200" y="39416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898880" y="3986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938840" y="40258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984920" y="40593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033880" y="408456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083200" y="4106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137200" y="41212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192640" y="4130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248440" y="41324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303880" y="4127400"/>
                <a:ext cx="3960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357880" y="4116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411880" y="4097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462640" y="40734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511960" y="40435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557680" y="400680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597640" y="3965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629320" y="3917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656320" y="38671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672160" y="38131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76840" y="37576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667480" y="370368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645160" y="36511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616720" y="360360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1800" y="356220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7160" y="3527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491080" y="34974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440320" y="3473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389560" y="34545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35560" y="34416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280120" y="3436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5310360" y="4178160"/>
              <a:ext cx="865080" cy="706680"/>
              <a:chOff x="5310360" y="4178160"/>
              <a:chExt cx="865080" cy="706680"/>
            </a:xfrm>
          </p:grpSpPr>
          <p:sp>
            <p:nvSpPr>
              <p:cNvPr id="1016" name=""/>
              <p:cNvSpPr/>
              <p:nvPr/>
            </p:nvSpPr>
            <p:spPr>
              <a:xfrm>
                <a:off x="5707080" y="417816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651640" y="4179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597640" y="4189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545080" y="4203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94320" y="42260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48240" y="42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407200" y="42847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370480" y="4322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342040" y="4368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321160" y="44179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311800" y="44704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310360" y="4525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315040" y="458136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30880" y="463392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56080" y="468324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88120" y="472752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27720" y="4767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72000" y="48006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521320" y="4827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572080" y="48481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626080" y="48625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680080" y="48718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735520" y="48751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791320" y="48704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845320" y="4857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99320" y="48387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951520" y="48150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000840" y="478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045120" y="47498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084720" y="470700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118200" y="46609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145200" y="4608360"/>
                <a:ext cx="1764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161040" y="455436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165720" y="44989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154560" y="444492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34040" y="439416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105600" y="43466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068880" y="4305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026040" y="42688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978520" y="42386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929200" y="4214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877000" y="41958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823000" y="41846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767560" y="4179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6885000" y="3043080"/>
              <a:ext cx="865080" cy="706680"/>
              <a:chOff x="6885000" y="3043080"/>
              <a:chExt cx="865080" cy="706680"/>
            </a:xfrm>
          </p:grpSpPr>
          <p:sp>
            <p:nvSpPr>
              <p:cNvPr id="1061" name=""/>
              <p:cNvSpPr/>
              <p:nvPr/>
            </p:nvSpPr>
            <p:spPr>
              <a:xfrm>
                <a:off x="7281720" y="304308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226280" y="3044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172280" y="30542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121520" y="3068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070760" y="3090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024680" y="31161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981840" y="31496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46920" y="31878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916680" y="323388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897600" y="328284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886440" y="333540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885000" y="3390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891480" y="34466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907320" y="34988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31080" y="3548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962760" y="3592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002360" y="3632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48440" y="36655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97760" y="3692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47080" y="3713040"/>
                <a:ext cx="3780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201080" y="37274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256520" y="3736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311960" y="37400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367760" y="3735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421400" y="372276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475400" y="370368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26160" y="3679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75480" y="36496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21560" y="3614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61160" y="35719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93200" y="3525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719840" y="347328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736040" y="34196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740720" y="3363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731000" y="33098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709040" y="325908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80240" y="32115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45320" y="3170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01040" y="31338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54960" y="31035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504200" y="30798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453440" y="306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399440" y="3049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343640" y="3044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7207200" y="4276800"/>
              <a:ext cx="865080" cy="706320"/>
              <a:chOff x="7207200" y="4276800"/>
              <a:chExt cx="865080" cy="706320"/>
            </a:xfrm>
          </p:grpSpPr>
          <p:sp>
            <p:nvSpPr>
              <p:cNvPr id="1106" name=""/>
              <p:cNvSpPr/>
              <p:nvPr/>
            </p:nvSpPr>
            <p:spPr>
              <a:xfrm>
                <a:off x="7604280" y="42768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48480" y="42800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494480" y="428940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442280" y="430380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391520" y="43243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345440" y="435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04040" y="4384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267680" y="442260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238880" y="44672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218360" y="451656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209000" y="456876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207200" y="4624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211880" y="4680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227720" y="473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253280" y="478296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284960" y="4827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324560" y="4867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369200" y="49006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418520" y="492588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69280" y="49482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23280" y="496260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77280" y="4971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32720" y="4973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88160" y="4968720"/>
                <a:ext cx="3996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742160" y="49579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796160" y="49388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848720" y="49150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897680" y="4884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42320" y="4848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81920" y="4807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015400" y="47592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042400" y="4708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058240" y="465444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062920" y="4599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051760" y="45450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031240" y="449280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002440" y="4444920"/>
                <a:ext cx="2412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66080" y="44038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23240" y="43689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875720" y="4338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826400" y="431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773840" y="4295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719840" y="4282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64400" y="4278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>
              <a:off x="4294080" y="231300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56360" y="377028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51560" y="3394080"/>
              <a:ext cx="33048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4886280" y="3776760"/>
              <a:ext cx="401760" cy="866520"/>
              <a:chOff x="4886280" y="3776760"/>
              <a:chExt cx="401760" cy="866520"/>
            </a:xfrm>
          </p:grpSpPr>
          <p:sp>
            <p:nvSpPr>
              <p:cNvPr id="1154" name=""/>
              <p:cNvSpPr/>
              <p:nvPr/>
            </p:nvSpPr>
            <p:spPr>
              <a:xfrm>
                <a:off x="4886280" y="44593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992840" y="42195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099040" y="39816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205240" y="3776760"/>
                <a:ext cx="8280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6418440" y="3394080"/>
              <a:ext cx="941040" cy="303120"/>
              <a:chOff x="6418440" y="3394080"/>
              <a:chExt cx="941040" cy="303120"/>
            </a:xfrm>
          </p:grpSpPr>
          <p:sp>
            <p:nvSpPr>
              <p:cNvPr id="1159" name=""/>
              <p:cNvSpPr/>
              <p:nvPr/>
            </p:nvSpPr>
            <p:spPr>
              <a:xfrm>
                <a:off x="6418440" y="361944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669000" y="354492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919920" y="346860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169040" y="339408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6602400" y="2727360"/>
              <a:ext cx="685800" cy="871560"/>
              <a:chOff x="6602400" y="2727360"/>
              <a:chExt cx="685800" cy="871560"/>
            </a:xfrm>
          </p:grpSpPr>
          <p:sp>
            <p:nvSpPr>
              <p:cNvPr id="1164" name=""/>
              <p:cNvSpPr/>
              <p:nvPr/>
            </p:nvSpPr>
            <p:spPr>
              <a:xfrm>
                <a:off x="6602400" y="343368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764400" y="322740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923160" y="301932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85160" y="2813040"/>
                <a:ext cx="13464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245360" y="2727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5761080" y="4608360"/>
              <a:ext cx="195120" cy="698760"/>
              <a:chOff x="5761080" y="4608360"/>
              <a:chExt cx="195120" cy="698760"/>
            </a:xfrm>
          </p:grpSpPr>
          <p:sp>
            <p:nvSpPr>
              <p:cNvPr id="1170" name=""/>
              <p:cNvSpPr/>
              <p:nvPr/>
            </p:nvSpPr>
            <p:spPr>
              <a:xfrm>
                <a:off x="5888160" y="5116680"/>
                <a:ext cx="6804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24440" y="486252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761080" y="460836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7648560" y="3871800"/>
              <a:ext cx="401760" cy="866880"/>
              <a:chOff x="7648560" y="3871800"/>
              <a:chExt cx="401760" cy="866880"/>
            </a:xfrm>
          </p:grpSpPr>
          <p:sp>
            <p:nvSpPr>
              <p:cNvPr id="1174" name=""/>
              <p:cNvSpPr/>
              <p:nvPr/>
            </p:nvSpPr>
            <p:spPr>
              <a:xfrm>
                <a:off x="7648560" y="45543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4760" y="431496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861320" y="407664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967520" y="387180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6886440" y="3395520"/>
              <a:ext cx="401760" cy="866880"/>
              <a:chOff x="6886440" y="3395520"/>
              <a:chExt cx="401760" cy="866880"/>
            </a:xfrm>
          </p:grpSpPr>
          <p:sp>
            <p:nvSpPr>
              <p:cNvPr id="1179" name=""/>
              <p:cNvSpPr/>
              <p:nvPr/>
            </p:nvSpPr>
            <p:spPr>
              <a:xfrm>
                <a:off x="6886440" y="40784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993000" y="38386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099200" y="36003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205760" y="339552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746680" y="3705120"/>
              <a:ext cx="658800" cy="750960"/>
              <a:chOff x="5746680" y="3705120"/>
              <a:chExt cx="658800" cy="750960"/>
            </a:xfrm>
          </p:grpSpPr>
          <p:sp>
            <p:nvSpPr>
              <p:cNvPr id="1184" name=""/>
              <p:cNvSpPr/>
              <p:nvPr/>
            </p:nvSpPr>
            <p:spPr>
              <a:xfrm>
                <a:off x="5746680" y="429732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918040" y="41004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089760" y="390204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264360" y="370512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5270400" y="3011400"/>
              <a:ext cx="588960" cy="682560"/>
              <a:chOff x="5270400" y="3011400"/>
              <a:chExt cx="588960" cy="682560"/>
            </a:xfrm>
          </p:grpSpPr>
          <p:sp>
            <p:nvSpPr>
              <p:cNvPr id="1189" name=""/>
              <p:cNvSpPr/>
              <p:nvPr/>
            </p:nvSpPr>
            <p:spPr>
              <a:xfrm>
                <a:off x="5270400" y="353376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438880" y="33336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610240" y="313524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80160" y="301140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6130800" y="4627440"/>
              <a:ext cx="1533600" cy="687600"/>
              <a:chOff x="6130800" y="4627440"/>
              <a:chExt cx="1533600" cy="687600"/>
            </a:xfrm>
          </p:grpSpPr>
          <p:sp>
            <p:nvSpPr>
              <p:cNvPr id="1194" name=""/>
              <p:cNvSpPr/>
              <p:nvPr/>
            </p:nvSpPr>
            <p:spPr>
              <a:xfrm>
                <a:off x="6130800" y="521820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370560" y="5113440"/>
                <a:ext cx="18432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10320" y="500868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851520" y="490212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089840" y="479916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329600" y="4692600"/>
                <a:ext cx="18396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570800" y="462744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4416480" y="4348080"/>
              <a:ext cx="865080" cy="579600"/>
              <a:chOff x="4416480" y="4348080"/>
              <a:chExt cx="865080" cy="579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813200" y="43480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757760" y="4351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703760" y="43592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51200" y="437040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599000" y="43876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549680" y="44118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505400" y="44416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67240" y="4476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38800" y="45194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421160" y="45687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416480" y="4624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422600" y="46782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441680" y="47307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473720" y="47750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513320" y="481500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557600" y="484668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608360" y="48718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660920" y="48909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13120" y="49053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768920" y="49150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4360" y="4917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879800" y="491652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33800" y="490860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89600" y="4894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1800" y="4876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094360" y="4853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41880" y="4822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186520" y="4782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224320" y="47401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254560" y="4689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272200" y="463536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265720" y="4579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243400" y="45291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210280" y="44845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168880" y="44481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122800" y="4417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73480" y="4392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21280" y="4373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67280" y="43610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13280" y="43527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857840" y="4348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5416560" y="2728800"/>
              <a:ext cx="865080" cy="579600"/>
              <a:chOff x="5416560" y="2728800"/>
              <a:chExt cx="865080" cy="579600"/>
            </a:xfrm>
          </p:grpSpPr>
          <p:sp>
            <p:nvSpPr>
              <p:cNvPr id="1244" name=""/>
              <p:cNvSpPr/>
              <p:nvPr/>
            </p:nvSpPr>
            <p:spPr>
              <a:xfrm>
                <a:off x="5813280" y="2728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757840" y="2732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703840" y="27399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651640" y="275112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599080" y="2768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549760" y="2792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505480" y="28224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467320" y="2857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438880" y="2900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421240" y="2949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6560" y="3005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23040" y="305928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442120" y="311148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73800" y="3156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13400" y="31957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557680" y="3227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608800" y="3252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661000" y="32716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713560" y="3286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769000" y="329580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824440" y="32986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880240" y="32972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934240" y="328932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989680" y="32749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041880" y="3257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094440" y="3233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141960" y="3203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186600" y="3164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224760" y="31212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54640" y="3070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272280" y="30160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265800" y="29606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243480" y="2909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210360" y="2865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168960" y="2828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122880" y="2798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073920" y="27734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021360" y="27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67360" y="2741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13360" y="273384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857920" y="2728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948360" y="2403360"/>
              <a:ext cx="865440" cy="579600"/>
              <a:chOff x="6948360" y="2403360"/>
              <a:chExt cx="865440" cy="579600"/>
            </a:xfrm>
          </p:grpSpPr>
          <p:sp>
            <p:nvSpPr>
              <p:cNvPr id="1286" name=""/>
              <p:cNvSpPr/>
              <p:nvPr/>
            </p:nvSpPr>
            <p:spPr>
              <a:xfrm>
                <a:off x="7345440" y="2403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89640" y="2406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236000" y="241452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183440" y="2425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130880" y="2443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081920" y="2467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037280" y="2496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999120" y="2532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970680" y="2575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953400" y="2624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948360" y="2679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954840" y="273384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973920" y="2786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005600" y="2830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045200" y="2870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089840" y="2901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140600" y="2927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192800" y="2946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245360" y="2960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300800" y="2970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356600" y="2973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412040" y="2971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466040" y="2963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521480" y="2949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574040" y="293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26240" y="2908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74120" y="2878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718400" y="2838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756560" y="2795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786800" y="2744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804080" y="2690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797960" y="2635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775640" y="2584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742160" y="2540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701120" y="2503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55040" y="2473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05720" y="2448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553160" y="2428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499520" y="24163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445520" y="2408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389720" y="24033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6035760" y="3395520"/>
              <a:ext cx="865080" cy="579600"/>
              <a:chOff x="6035760" y="3395520"/>
              <a:chExt cx="865080" cy="579600"/>
            </a:xfrm>
          </p:grpSpPr>
          <p:sp>
            <p:nvSpPr>
              <p:cNvPr id="1328" name=""/>
              <p:cNvSpPr/>
              <p:nvPr/>
            </p:nvSpPr>
            <p:spPr>
              <a:xfrm>
                <a:off x="643248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77040" y="3398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23040" y="3406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270480" y="3417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218280" y="34354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168960" y="34592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24680" y="3489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086520" y="3524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058080" y="35672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040440" y="36162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035760" y="3672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041880" y="37260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060960" y="3778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093000" y="3822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132600" y="3862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176880" y="38941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227640" y="3919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280200" y="3938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332400" y="39528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388200" y="3962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443640" y="3965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49908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553080" y="39560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608880" y="39416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661080" y="392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713640" y="39006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761160" y="3870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05440" y="3830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843600" y="3787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873840" y="3736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91480" y="368316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885000" y="36273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862680" y="3576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829560" y="35323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788160" y="3495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742080" y="346536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692760" y="3440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40560" y="342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86560" y="34084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32560" y="34005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47712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6321600" y="4062240"/>
              <a:ext cx="865080" cy="579600"/>
              <a:chOff x="6321600" y="4062240"/>
              <a:chExt cx="865080" cy="579600"/>
            </a:xfrm>
          </p:grpSpPr>
          <p:sp>
            <p:nvSpPr>
              <p:cNvPr id="1370" name=""/>
              <p:cNvSpPr/>
              <p:nvPr/>
            </p:nvSpPr>
            <p:spPr>
              <a:xfrm>
                <a:off x="6718320" y="4062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662880" y="40654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608880" y="40734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556320" y="40845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504120" y="410220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454800" y="41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410160" y="4156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372360" y="4191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343560" y="42339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326280" y="42829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21600" y="43387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27720" y="43927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46800" y="44449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8480" y="44895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18440" y="4529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62720" y="45608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13480" y="45864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66040" y="4605480"/>
                <a:ext cx="3780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618240" y="46195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673680" y="462924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729480" y="46324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784920" y="4630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838920" y="46227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894360" y="460836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946920" y="459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99120" y="45673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047000" y="45370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1280" y="4497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129440" y="4454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159680" y="440388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76960" y="434988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70840" y="42940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148520" y="4243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115040" y="41990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074000" y="4162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027920" y="41324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978600" y="4106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26400" y="408780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872400" y="40752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818400" y="40672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762600" y="4062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7750080" y="3586320"/>
              <a:ext cx="865440" cy="579240"/>
              <a:chOff x="7750080" y="3586320"/>
              <a:chExt cx="865440" cy="579240"/>
            </a:xfrm>
          </p:grpSpPr>
          <p:sp>
            <p:nvSpPr>
              <p:cNvPr id="1412" name=""/>
              <p:cNvSpPr/>
              <p:nvPr/>
            </p:nvSpPr>
            <p:spPr>
              <a:xfrm>
                <a:off x="814716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091360" y="35892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037360" y="35971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85160" y="36082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32600" y="362592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883640" y="3649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839000" y="36799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800840" y="3714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772400" y="37576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754760" y="380700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750080" y="38624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756560" y="3916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775640" y="39686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807320" y="40132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846920" y="4052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891560" y="40845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942320" y="4110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994520" y="41292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047080" y="4143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102520" y="41529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58320" y="41562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213760" y="4154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267760" y="41464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323200" y="4132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375760" y="4114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427960" y="40910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475840" y="40608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520120" y="40212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558280" y="39783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588520" y="392760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605800" y="387360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599320" y="381780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577360" y="376704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543880" y="37227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502480" y="368604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456760" y="36561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407440" y="3630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354880" y="3611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300880" y="359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247240" y="359100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19144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5638680" y="5006880"/>
              <a:ext cx="865440" cy="579600"/>
              <a:chOff x="5638680" y="5006880"/>
              <a:chExt cx="865440" cy="579600"/>
            </a:xfrm>
          </p:grpSpPr>
          <p:sp>
            <p:nvSpPr>
              <p:cNvPr id="1454" name=""/>
              <p:cNvSpPr/>
              <p:nvPr/>
            </p:nvSpPr>
            <p:spPr>
              <a:xfrm>
                <a:off x="603576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979960" y="5010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925960" y="50180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873760" y="50292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821200" y="50468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772240" y="50706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727600" y="51004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689440" y="5135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661000" y="51786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643720" y="5227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638680" y="52833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45160" y="533700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664240" y="53895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695920" y="54338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735520" y="54738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780160" y="5505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830920" y="553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883120" y="55497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935680" y="55641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991120" y="557388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046920" y="55767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102360" y="5575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156360" y="55674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211800" y="55530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64360" y="5535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316560" y="5511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364440" y="5481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408720" y="54421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446880" y="5398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477120" y="534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494400" y="5294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488280" y="52387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465960" y="51879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432480" y="514368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391440" y="51069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345360" y="5076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296040" y="50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243480" y="50324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189840" y="5019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135840" y="501156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08004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4821120" y="3435480"/>
              <a:ext cx="865440" cy="706320"/>
              <a:chOff x="4821120" y="3435480"/>
              <a:chExt cx="865440" cy="706320"/>
            </a:xfrm>
          </p:grpSpPr>
          <p:sp>
            <p:nvSpPr>
              <p:cNvPr id="1496" name=""/>
              <p:cNvSpPr/>
              <p:nvPr/>
            </p:nvSpPr>
            <p:spPr>
              <a:xfrm>
                <a:off x="5218200" y="34354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162400" y="343836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108400" y="3448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057640" y="3462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006880" y="34830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960800" y="3510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917960" y="35434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883040" y="35812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853160" y="36259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834080" y="36752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822920" y="37274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821120" y="37828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827600" y="383868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843440" y="38926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867200" y="39416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898880" y="3986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938840" y="40258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984920" y="40593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033880" y="408456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083200" y="4106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137200" y="41212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192640" y="4130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248440" y="41324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303880" y="4127400"/>
                <a:ext cx="3960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357880" y="4116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411880" y="4097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462640" y="40734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511960" y="40435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557680" y="400680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597640" y="3965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629320" y="3917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656320" y="38671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672160" y="38131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676840" y="37576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667480" y="370368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645160" y="36511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616720" y="360360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581800" y="356220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537160" y="3527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491080" y="34974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40320" y="3473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389560" y="34545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335560" y="34416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280120" y="3436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5310360" y="4178160"/>
              <a:ext cx="865080" cy="706680"/>
              <a:chOff x="5310360" y="4178160"/>
              <a:chExt cx="865080" cy="706680"/>
            </a:xfrm>
          </p:grpSpPr>
          <p:sp>
            <p:nvSpPr>
              <p:cNvPr id="1541" name=""/>
              <p:cNvSpPr/>
              <p:nvPr/>
            </p:nvSpPr>
            <p:spPr>
              <a:xfrm>
                <a:off x="5707080" y="417816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651640" y="4179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597640" y="4189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545080" y="4203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494320" y="42260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448240" y="42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407200" y="42847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370480" y="4322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342040" y="4368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321160" y="44179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311800" y="44704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310360" y="4525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315040" y="458136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330880" y="463392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356080" y="468324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88120" y="472752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427720" y="4767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72000" y="48006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521320" y="4827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572080" y="48481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626080" y="48625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680080" y="48718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735520" y="48751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791320" y="48704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845320" y="4857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899320" y="48387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951520" y="48150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000840" y="478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045120" y="47498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84720" y="470700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118200" y="46609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145200" y="4608360"/>
                <a:ext cx="1764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161040" y="455436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165720" y="44989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154560" y="444492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134040" y="439416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105600" y="43466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068880" y="4305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026040" y="42688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978520" y="42386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929200" y="4214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877000" y="41958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823000" y="41846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767560" y="4179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6885000" y="3043080"/>
              <a:ext cx="865080" cy="706680"/>
              <a:chOff x="6885000" y="3043080"/>
              <a:chExt cx="865080" cy="706680"/>
            </a:xfrm>
          </p:grpSpPr>
          <p:sp>
            <p:nvSpPr>
              <p:cNvPr id="1586" name=""/>
              <p:cNvSpPr/>
              <p:nvPr/>
            </p:nvSpPr>
            <p:spPr>
              <a:xfrm>
                <a:off x="7281720" y="304308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226280" y="3044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172280" y="30542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121520" y="3068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070760" y="3090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024680" y="31161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981840" y="31496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946920" y="31878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916680" y="323388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897600" y="328284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886440" y="333540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885000" y="3390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891480" y="34466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907320" y="34988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931080" y="3548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962760" y="3592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02360" y="3632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48440" y="36655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97760" y="3692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147080" y="3713040"/>
                <a:ext cx="3780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201080" y="37274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256520" y="3736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311960" y="37400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367760" y="3735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421400" y="372276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475400" y="370368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526160" y="3679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575480" y="36496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621560" y="3614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661160" y="35719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693200" y="3525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719840" y="347328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736040" y="34196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740720" y="3363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731000" y="33098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709040" y="325908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680240" y="32115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45320" y="3170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601040" y="31338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554960" y="31035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504200" y="30798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453440" y="306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9440" y="3049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43640" y="3044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7207200" y="4276800"/>
              <a:ext cx="865080" cy="706320"/>
              <a:chOff x="7207200" y="4276800"/>
              <a:chExt cx="865080" cy="706320"/>
            </a:xfrm>
          </p:grpSpPr>
          <p:sp>
            <p:nvSpPr>
              <p:cNvPr id="1631" name=""/>
              <p:cNvSpPr/>
              <p:nvPr/>
            </p:nvSpPr>
            <p:spPr>
              <a:xfrm>
                <a:off x="7604280" y="42768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548480" y="42800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494480" y="428940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442280" y="430380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391520" y="43243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345440" y="435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04040" y="4384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267680" y="442260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238880" y="44672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218360" y="451656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209000" y="456876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207200" y="4624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211880" y="4680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227720" y="473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253280" y="478296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284960" y="4827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324560" y="4867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369200" y="49006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418520" y="492588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469280" y="49482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3280" y="496260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577280" y="4971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632720" y="4973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688160" y="4968720"/>
                <a:ext cx="3996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742160" y="49579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796160" y="49388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848720" y="49150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97680" y="4884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42320" y="4848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81920" y="4807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015400" y="47592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8042400" y="4708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058240" y="465444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062920" y="4599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051760" y="45450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031240" y="449280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002440" y="4444920"/>
                <a:ext cx="2412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966080" y="44038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923240" y="43689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875720" y="4338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826400" y="431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73840" y="4295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19840" y="4282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664400" y="4278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8053200" y="51814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4952880" y="3505320"/>
              <a:ext cx="609840" cy="457200"/>
              <a:chOff x="4952880" y="3505320"/>
              <a:chExt cx="609840" cy="457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77360" y="375048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52880" y="3505320"/>
                <a:ext cx="609840" cy="457200"/>
                <a:chOff x="4952880" y="3505320"/>
                <a:chExt cx="609840" cy="45720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161320" y="35589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161320" y="3612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161320" y="3828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161320" y="3881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960440" y="36936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194440" y="3505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194440" y="3774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4993920" y="3612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V="1">
                  <a:off x="4993920" y="3774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H="1">
                  <a:off x="4952880" y="37026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9" name=""/>
            <p:cNvGrpSpPr/>
            <p:nvPr/>
          </p:nvGrpSpPr>
          <p:grpSpPr>
            <a:xfrm>
              <a:off x="5410080" y="4267080"/>
              <a:ext cx="609840" cy="457200"/>
              <a:chOff x="5410080" y="4267080"/>
              <a:chExt cx="609840" cy="457200"/>
            </a:xfrm>
          </p:grpSpPr>
          <p:sp>
            <p:nvSpPr>
              <p:cNvPr id="1690" name=""/>
              <p:cNvSpPr/>
              <p:nvPr/>
            </p:nvSpPr>
            <p:spPr>
              <a:xfrm>
                <a:off x="5434560" y="45122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91" name=""/>
              <p:cNvGrpSpPr/>
              <p:nvPr/>
            </p:nvGrpSpPr>
            <p:grpSpPr>
              <a:xfrm>
                <a:off x="5410080" y="4267080"/>
                <a:ext cx="609840" cy="457200"/>
                <a:chOff x="5410080" y="4267080"/>
                <a:chExt cx="609840" cy="457200"/>
              </a:xfrm>
            </p:grpSpPr>
            <p:sp>
              <p:nvSpPr>
                <p:cNvPr id="1692" name=""/>
                <p:cNvSpPr/>
                <p:nvPr/>
              </p:nvSpPr>
              <p:spPr>
                <a:xfrm>
                  <a:off x="5618520" y="4320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618520" y="4374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5618520" y="4590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5618520" y="4643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5417640" y="44553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651640" y="4267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651640" y="45360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451120" y="4374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V="1">
                  <a:off x="5451120" y="4536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>
                  <a:off x="5410080" y="4464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2" name=""/>
            <p:cNvGrpSpPr/>
            <p:nvPr/>
          </p:nvGrpSpPr>
          <p:grpSpPr>
            <a:xfrm>
              <a:off x="7010280" y="3124080"/>
              <a:ext cx="609840" cy="457200"/>
              <a:chOff x="7010280" y="3124080"/>
              <a:chExt cx="609840" cy="457200"/>
            </a:xfrm>
          </p:grpSpPr>
          <p:sp>
            <p:nvSpPr>
              <p:cNvPr id="1703" name=""/>
              <p:cNvSpPr/>
              <p:nvPr/>
            </p:nvSpPr>
            <p:spPr>
              <a:xfrm>
                <a:off x="7034760" y="33692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4" name=""/>
              <p:cNvGrpSpPr/>
              <p:nvPr/>
            </p:nvGrpSpPr>
            <p:grpSpPr>
              <a:xfrm>
                <a:off x="7010280" y="3124080"/>
                <a:ext cx="609840" cy="457200"/>
                <a:chOff x="7010280" y="3124080"/>
                <a:chExt cx="609840" cy="45720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218720" y="3177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218720" y="3231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218720" y="344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218720" y="3500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017840" y="33123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251840" y="3124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7251840" y="33930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7051320" y="3231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7051320" y="3393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H="1">
                  <a:off x="7010280" y="3321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5" name=""/>
            <p:cNvGrpSpPr/>
            <p:nvPr/>
          </p:nvGrpSpPr>
          <p:grpSpPr>
            <a:xfrm>
              <a:off x="7391520" y="4419720"/>
              <a:ext cx="609480" cy="457200"/>
              <a:chOff x="7391520" y="4419720"/>
              <a:chExt cx="609480" cy="457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7416000" y="466488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17" name=""/>
              <p:cNvGrpSpPr/>
              <p:nvPr/>
            </p:nvGrpSpPr>
            <p:grpSpPr>
              <a:xfrm>
                <a:off x="7391520" y="4419720"/>
                <a:ext cx="609480" cy="457200"/>
                <a:chOff x="7391520" y="4419720"/>
                <a:chExt cx="609480" cy="45720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7599600" y="4473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7599600" y="452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599600" y="474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7599600" y="4796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399080" y="46080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633080" y="44197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633080" y="4688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432560" y="4527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V="1">
                  <a:off x="7432560" y="46886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H="1">
                  <a:off x="7391520" y="4617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8" name=""/>
            <p:cNvGrpSpPr/>
            <p:nvPr/>
          </p:nvGrpSpPr>
          <p:grpSpPr>
            <a:xfrm>
              <a:off x="5501880" y="2770920"/>
              <a:ext cx="606960" cy="513000"/>
              <a:chOff x="5501880" y="2770920"/>
              <a:chExt cx="606960" cy="513000"/>
            </a:xfrm>
          </p:grpSpPr>
          <p:sp>
            <p:nvSpPr>
              <p:cNvPr id="1729" name=""/>
              <p:cNvSpPr/>
              <p:nvPr/>
            </p:nvSpPr>
            <p:spPr>
              <a:xfrm rot="19834800">
                <a:off x="5565960" y="29811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30" name=""/>
              <p:cNvGrpSpPr/>
              <p:nvPr/>
            </p:nvGrpSpPr>
            <p:grpSpPr>
              <a:xfrm>
                <a:off x="5501880" y="2770920"/>
                <a:ext cx="574200" cy="435600"/>
                <a:chOff x="5501880" y="2770920"/>
                <a:chExt cx="574200" cy="435600"/>
              </a:xfrm>
            </p:grpSpPr>
            <p:sp>
              <p:nvSpPr>
                <p:cNvPr id="1731" name=""/>
                <p:cNvSpPr/>
                <p:nvPr/>
              </p:nvSpPr>
              <p:spPr>
                <a:xfrm rot="19834800">
                  <a:off x="5618880" y="2832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rot="19834800">
                  <a:off x="5645160" y="2878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rot="19834800">
                  <a:off x="5751000" y="3066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rot="19834800">
                  <a:off x="5777280" y="3113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rot="19834800">
                  <a:off x="5493240" y="29293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rot="19834800">
                  <a:off x="5665680" y="2774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rot="19834800">
                  <a:off x="5797800" y="3009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rot="19834800">
                  <a:off x="5517360" y="2973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V="1" rot="19834800">
                  <a:off x="5596200" y="31147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 rot="19834800">
                  <a:off x="5514120" y="3049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1" name=""/>
            <p:cNvGrpSpPr/>
            <p:nvPr/>
          </p:nvGrpSpPr>
          <p:grpSpPr>
            <a:xfrm>
              <a:off x="4587480" y="4447440"/>
              <a:ext cx="606960" cy="513000"/>
              <a:chOff x="4587480" y="4447440"/>
              <a:chExt cx="606960" cy="513000"/>
            </a:xfrm>
          </p:grpSpPr>
          <p:sp>
            <p:nvSpPr>
              <p:cNvPr id="1742" name=""/>
              <p:cNvSpPr/>
              <p:nvPr/>
            </p:nvSpPr>
            <p:spPr>
              <a:xfrm rot="19834800">
                <a:off x="4651560" y="465768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43" name=""/>
              <p:cNvGrpSpPr/>
              <p:nvPr/>
            </p:nvGrpSpPr>
            <p:grpSpPr>
              <a:xfrm>
                <a:off x="4587480" y="4447440"/>
                <a:ext cx="574200" cy="435600"/>
                <a:chOff x="4587480" y="4447440"/>
                <a:chExt cx="574200" cy="435600"/>
              </a:xfrm>
            </p:grpSpPr>
            <p:sp>
              <p:nvSpPr>
                <p:cNvPr id="1744" name=""/>
                <p:cNvSpPr/>
                <p:nvPr/>
              </p:nvSpPr>
              <p:spPr>
                <a:xfrm rot="19834800">
                  <a:off x="4704480" y="4508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rot="19834800">
                  <a:off x="4730760" y="4555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rot="19834800">
                  <a:off x="4836600" y="4743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rot="19834800">
                  <a:off x="4862880" y="4790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rot="19834800">
                  <a:off x="4578840" y="460584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rot="19834800">
                  <a:off x="4751280" y="4451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rot="19834800">
                  <a:off x="4883400" y="46857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rot="19834800">
                  <a:off x="4602960" y="4650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V="1" rot="19834800">
                  <a:off x="4681800" y="4791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 rot="19834800">
                  <a:off x="4599720" y="472644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4" name=""/>
            <p:cNvGrpSpPr/>
            <p:nvPr/>
          </p:nvGrpSpPr>
          <p:grpSpPr>
            <a:xfrm>
              <a:off x="7102080" y="2466000"/>
              <a:ext cx="606960" cy="513000"/>
              <a:chOff x="7102080" y="2466000"/>
              <a:chExt cx="606960" cy="513000"/>
            </a:xfrm>
          </p:grpSpPr>
          <p:sp>
            <p:nvSpPr>
              <p:cNvPr id="1755" name=""/>
              <p:cNvSpPr/>
              <p:nvPr/>
            </p:nvSpPr>
            <p:spPr>
              <a:xfrm rot="19834800">
                <a:off x="7166160" y="26762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56" name=""/>
              <p:cNvGrpSpPr/>
              <p:nvPr/>
            </p:nvGrpSpPr>
            <p:grpSpPr>
              <a:xfrm>
                <a:off x="7102080" y="2466000"/>
                <a:ext cx="574200" cy="435600"/>
                <a:chOff x="7102080" y="2466000"/>
                <a:chExt cx="574200" cy="435600"/>
              </a:xfrm>
            </p:grpSpPr>
            <p:sp>
              <p:nvSpPr>
                <p:cNvPr id="1757" name=""/>
                <p:cNvSpPr/>
                <p:nvPr/>
              </p:nvSpPr>
              <p:spPr>
                <a:xfrm rot="19834800">
                  <a:off x="7219080" y="2527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rot="19834800">
                  <a:off x="7245360" y="2574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rot="19834800">
                  <a:off x="7351200" y="276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rot="19834800">
                  <a:off x="7377480" y="2808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rot="19834800">
                  <a:off x="7093440" y="26244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 rot="19834800">
                  <a:off x="7265880" y="2469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 rot="19834800">
                  <a:off x="7398000" y="2704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rot="19834800">
                  <a:off x="7117560" y="2668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V="1" rot="19834800">
                  <a:off x="7196400" y="280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H="1" rot="19834800">
                  <a:off x="7114320" y="2745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7" name=""/>
            <p:cNvGrpSpPr/>
            <p:nvPr/>
          </p:nvGrpSpPr>
          <p:grpSpPr>
            <a:xfrm>
              <a:off x="5730480" y="5056920"/>
              <a:ext cx="606960" cy="513000"/>
              <a:chOff x="5730480" y="5056920"/>
              <a:chExt cx="606960" cy="513000"/>
            </a:xfrm>
          </p:grpSpPr>
          <p:sp>
            <p:nvSpPr>
              <p:cNvPr id="1768" name=""/>
              <p:cNvSpPr/>
              <p:nvPr/>
            </p:nvSpPr>
            <p:spPr>
              <a:xfrm rot="19834800">
                <a:off x="5794560" y="52671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69" name=""/>
              <p:cNvGrpSpPr/>
              <p:nvPr/>
            </p:nvGrpSpPr>
            <p:grpSpPr>
              <a:xfrm>
                <a:off x="5730480" y="5056920"/>
                <a:ext cx="574200" cy="435600"/>
                <a:chOff x="5730480" y="5056920"/>
                <a:chExt cx="574200" cy="435600"/>
              </a:xfrm>
            </p:grpSpPr>
            <p:sp>
              <p:nvSpPr>
                <p:cNvPr id="1770" name=""/>
                <p:cNvSpPr/>
                <p:nvPr/>
              </p:nvSpPr>
              <p:spPr>
                <a:xfrm rot="19834800">
                  <a:off x="5847480" y="5118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rot="19834800">
                  <a:off x="5873760" y="5164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rot="19834800">
                  <a:off x="5979600" y="5352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rot="19834800">
                  <a:off x="6005880" y="5399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rot="19834800">
                  <a:off x="5721840" y="52153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19834800">
                  <a:off x="5894280" y="506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19834800">
                  <a:off x="6026400" y="5295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19834800">
                  <a:off x="5745960" y="5259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V="1" rot="19834800">
                  <a:off x="5824800" y="54007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 rot="19834800">
                  <a:off x="5742720" y="5335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0" name=""/>
            <p:cNvGrpSpPr/>
            <p:nvPr/>
          </p:nvGrpSpPr>
          <p:grpSpPr>
            <a:xfrm>
              <a:off x="6416280" y="4142520"/>
              <a:ext cx="606960" cy="513000"/>
              <a:chOff x="6416280" y="4142520"/>
              <a:chExt cx="606960" cy="513000"/>
            </a:xfrm>
          </p:grpSpPr>
          <p:sp>
            <p:nvSpPr>
              <p:cNvPr id="1781" name=""/>
              <p:cNvSpPr/>
              <p:nvPr/>
            </p:nvSpPr>
            <p:spPr>
              <a:xfrm rot="19834800">
                <a:off x="6480360" y="43527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82" name=""/>
              <p:cNvGrpSpPr/>
              <p:nvPr/>
            </p:nvGrpSpPr>
            <p:grpSpPr>
              <a:xfrm>
                <a:off x="6416280" y="4142520"/>
                <a:ext cx="574200" cy="435600"/>
                <a:chOff x="6416280" y="4142520"/>
                <a:chExt cx="574200" cy="435600"/>
              </a:xfrm>
            </p:grpSpPr>
            <p:sp>
              <p:nvSpPr>
                <p:cNvPr id="1783" name=""/>
                <p:cNvSpPr/>
                <p:nvPr/>
              </p:nvSpPr>
              <p:spPr>
                <a:xfrm rot="19834800">
                  <a:off x="6533280" y="4203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rot="19834800">
                  <a:off x="6559560" y="4250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rot="19834800">
                  <a:off x="6665400" y="4438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rot="19834800">
                  <a:off x="6691680" y="4485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rot="19834800">
                  <a:off x="6407640" y="43009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rot="19834800">
                  <a:off x="6580080" y="4146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rot="19834800">
                  <a:off x="6712200" y="43808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rot="19834800">
                  <a:off x="6431760" y="4345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V="1" rot="19834800">
                  <a:off x="6510600" y="44863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H="1" rot="19834800">
                  <a:off x="6428520" y="44215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3" name=""/>
            <p:cNvGrpSpPr/>
            <p:nvPr/>
          </p:nvGrpSpPr>
          <p:grpSpPr>
            <a:xfrm>
              <a:off x="6187680" y="3456720"/>
              <a:ext cx="606960" cy="513000"/>
              <a:chOff x="6187680" y="3456720"/>
              <a:chExt cx="606960" cy="513000"/>
            </a:xfrm>
          </p:grpSpPr>
          <p:sp>
            <p:nvSpPr>
              <p:cNvPr id="1794" name=""/>
              <p:cNvSpPr/>
              <p:nvPr/>
            </p:nvSpPr>
            <p:spPr>
              <a:xfrm rot="19834800">
                <a:off x="6251760" y="36669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95" name=""/>
              <p:cNvGrpSpPr/>
              <p:nvPr/>
            </p:nvGrpSpPr>
            <p:grpSpPr>
              <a:xfrm>
                <a:off x="6187680" y="3456720"/>
                <a:ext cx="574200" cy="435600"/>
                <a:chOff x="6187680" y="3456720"/>
                <a:chExt cx="574200" cy="435600"/>
              </a:xfrm>
            </p:grpSpPr>
            <p:sp>
              <p:nvSpPr>
                <p:cNvPr id="1796" name=""/>
                <p:cNvSpPr/>
                <p:nvPr/>
              </p:nvSpPr>
              <p:spPr>
                <a:xfrm rot="19834800">
                  <a:off x="6304680" y="3517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rot="19834800">
                  <a:off x="6330960" y="3564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rot="19834800">
                  <a:off x="6436800" y="375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rot="19834800">
                  <a:off x="6463080" y="3799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rot="19834800">
                  <a:off x="6179040" y="36151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rot="19834800">
                  <a:off x="6351480" y="3460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rot="19834800">
                  <a:off x="6483600" y="369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rot="19834800">
                  <a:off x="6203160" y="3659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V="1" rot="19834800">
                  <a:off x="6282000" y="3800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H="1" rot="19834800">
                  <a:off x="6199920" y="37357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6" name=""/>
            <p:cNvGrpSpPr/>
            <p:nvPr/>
          </p:nvGrpSpPr>
          <p:grpSpPr>
            <a:xfrm>
              <a:off x="7864200" y="3685320"/>
              <a:ext cx="606960" cy="513000"/>
              <a:chOff x="7864200" y="3685320"/>
              <a:chExt cx="606960" cy="513000"/>
            </a:xfrm>
          </p:grpSpPr>
          <p:sp>
            <p:nvSpPr>
              <p:cNvPr id="1807" name=""/>
              <p:cNvSpPr/>
              <p:nvPr/>
            </p:nvSpPr>
            <p:spPr>
              <a:xfrm rot="19834800">
                <a:off x="7928280" y="38955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8" name=""/>
              <p:cNvGrpSpPr/>
              <p:nvPr/>
            </p:nvGrpSpPr>
            <p:grpSpPr>
              <a:xfrm>
                <a:off x="7864200" y="3685320"/>
                <a:ext cx="574200" cy="435600"/>
                <a:chOff x="7864200" y="3685320"/>
                <a:chExt cx="574200" cy="435600"/>
              </a:xfrm>
            </p:grpSpPr>
            <p:sp>
              <p:nvSpPr>
                <p:cNvPr id="1809" name=""/>
                <p:cNvSpPr/>
                <p:nvPr/>
              </p:nvSpPr>
              <p:spPr>
                <a:xfrm rot="19834800">
                  <a:off x="7981200" y="3746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rot="19834800">
                  <a:off x="8007480" y="37933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rot="19834800">
                  <a:off x="8113320" y="3981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rot="19834800">
                  <a:off x="8139600" y="40280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rot="19834800">
                  <a:off x="7855560" y="38437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rot="19834800">
                  <a:off x="8028000" y="3689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rot="19834800">
                  <a:off x="8160120" y="3923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rot="19834800">
                  <a:off x="7879680" y="3888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V="1" rot="19834800">
                  <a:off x="7958520" y="4029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 rot="19834800">
                  <a:off x="7876440" y="39643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9" name=""/>
          <p:cNvGrpSpPr/>
          <p:nvPr/>
        </p:nvGrpSpPr>
        <p:grpSpPr>
          <a:xfrm>
            <a:off x="4281480" y="2324160"/>
            <a:ext cx="4510080" cy="3367080"/>
            <a:chOff x="4281480" y="2324160"/>
            <a:chExt cx="4510080" cy="3367080"/>
          </a:xfrm>
        </p:grpSpPr>
        <p:sp>
          <p:nvSpPr>
            <p:cNvPr id="1820" name=""/>
            <p:cNvSpPr/>
            <p:nvPr/>
          </p:nvSpPr>
          <p:spPr>
            <a:xfrm>
              <a:off x="4281480" y="23241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43400" y="3781440"/>
              <a:ext cx="42408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338960" y="34052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4873680" y="3787920"/>
              <a:ext cx="401400" cy="866520"/>
              <a:chOff x="4873680" y="3787920"/>
              <a:chExt cx="401400" cy="866520"/>
            </a:xfrm>
          </p:grpSpPr>
          <p:sp>
            <p:nvSpPr>
              <p:cNvPr id="1824" name=""/>
              <p:cNvSpPr/>
              <p:nvPr/>
            </p:nvSpPr>
            <p:spPr>
              <a:xfrm>
                <a:off x="4873680" y="44704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979880" y="42307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086440" y="399276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192640" y="37879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6405480" y="3405240"/>
              <a:ext cx="941400" cy="303120"/>
              <a:chOff x="6405480" y="3405240"/>
              <a:chExt cx="941400" cy="303120"/>
            </a:xfrm>
          </p:grpSpPr>
          <p:sp>
            <p:nvSpPr>
              <p:cNvPr id="1829" name=""/>
              <p:cNvSpPr/>
              <p:nvPr/>
            </p:nvSpPr>
            <p:spPr>
              <a:xfrm>
                <a:off x="6405480" y="3630600"/>
                <a:ext cx="18756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56400" y="355608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07320" y="347976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156440" y="34052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6589800" y="2738520"/>
              <a:ext cx="685800" cy="871560"/>
              <a:chOff x="6589800" y="2738520"/>
              <a:chExt cx="685800" cy="871560"/>
            </a:xfrm>
          </p:grpSpPr>
          <p:sp>
            <p:nvSpPr>
              <p:cNvPr id="1834" name=""/>
              <p:cNvSpPr/>
              <p:nvPr/>
            </p:nvSpPr>
            <p:spPr>
              <a:xfrm>
                <a:off x="6589800" y="34448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751440" y="32385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910200" y="3030480"/>
                <a:ext cx="13680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72200" y="28242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232760" y="2738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5748480" y="4619520"/>
              <a:ext cx="195120" cy="698760"/>
              <a:chOff x="5748480" y="4619520"/>
              <a:chExt cx="195120" cy="698760"/>
            </a:xfrm>
          </p:grpSpPr>
          <p:sp>
            <p:nvSpPr>
              <p:cNvPr id="1840" name=""/>
              <p:cNvSpPr/>
              <p:nvPr/>
            </p:nvSpPr>
            <p:spPr>
              <a:xfrm>
                <a:off x="5875200" y="51278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811840" y="48736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748480" y="46195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7635960" y="3882960"/>
              <a:ext cx="401400" cy="866880"/>
              <a:chOff x="7635960" y="3882960"/>
              <a:chExt cx="401400" cy="866880"/>
            </a:xfrm>
          </p:grpSpPr>
          <p:sp>
            <p:nvSpPr>
              <p:cNvPr id="1844" name=""/>
              <p:cNvSpPr/>
              <p:nvPr/>
            </p:nvSpPr>
            <p:spPr>
              <a:xfrm>
                <a:off x="7635960" y="45655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742160" y="43261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848720" y="40878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954920" y="38829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6873840" y="3406680"/>
              <a:ext cx="401760" cy="866880"/>
              <a:chOff x="6873840" y="3406680"/>
              <a:chExt cx="401760" cy="866880"/>
            </a:xfrm>
          </p:grpSpPr>
          <p:sp>
            <p:nvSpPr>
              <p:cNvPr id="1849" name=""/>
              <p:cNvSpPr/>
              <p:nvPr/>
            </p:nvSpPr>
            <p:spPr>
              <a:xfrm>
                <a:off x="6873840" y="40896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80040" y="38498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086600" y="36115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192800" y="340668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5734080" y="3716280"/>
              <a:ext cx="658800" cy="750960"/>
              <a:chOff x="5734080" y="3716280"/>
              <a:chExt cx="658800" cy="750960"/>
            </a:xfrm>
          </p:grpSpPr>
          <p:sp>
            <p:nvSpPr>
              <p:cNvPr id="1854" name=""/>
              <p:cNvSpPr/>
              <p:nvPr/>
            </p:nvSpPr>
            <p:spPr>
              <a:xfrm>
                <a:off x="5734080" y="43084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905440" y="41115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076800" y="39132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251400" y="37162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5257800" y="3022560"/>
              <a:ext cx="588960" cy="682560"/>
              <a:chOff x="5257800" y="3022560"/>
              <a:chExt cx="588960" cy="682560"/>
            </a:xfrm>
          </p:grpSpPr>
          <p:sp>
            <p:nvSpPr>
              <p:cNvPr id="1859" name=""/>
              <p:cNvSpPr/>
              <p:nvPr/>
            </p:nvSpPr>
            <p:spPr>
              <a:xfrm>
                <a:off x="5257800" y="35449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425920" y="33447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597640" y="314640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767200" y="30225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6118200" y="4638600"/>
              <a:ext cx="1533600" cy="687600"/>
              <a:chOff x="6118200" y="4638600"/>
              <a:chExt cx="1533600" cy="687600"/>
            </a:xfrm>
          </p:grpSpPr>
          <p:sp>
            <p:nvSpPr>
              <p:cNvPr id="1864" name=""/>
              <p:cNvSpPr/>
              <p:nvPr/>
            </p:nvSpPr>
            <p:spPr>
              <a:xfrm>
                <a:off x="6118200" y="52293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357960" y="51246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597720" y="501984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838920" y="49132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076880" y="48103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16640" y="47037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558200" y="4638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7075440" y="3125880"/>
              <a:ext cx="485640" cy="565200"/>
              <a:chOff x="7075440" y="3125880"/>
              <a:chExt cx="485640" cy="565200"/>
            </a:xfrm>
          </p:grpSpPr>
          <p:sp>
            <p:nvSpPr>
              <p:cNvPr id="1872" name=""/>
              <p:cNvSpPr/>
              <p:nvPr/>
            </p:nvSpPr>
            <p:spPr>
              <a:xfrm>
                <a:off x="7093080" y="313056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089840" y="32464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445520" y="3398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397640" y="3390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351560" y="3382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304040" y="3375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256520" y="3367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210440" y="3359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162920" y="3349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275600" y="31258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216920" y="3406680"/>
                <a:ext cx="16956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075440" y="3224160"/>
                <a:ext cx="4856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091280" y="32194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348680" y="351000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34120" y="34844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99280" y="3214800"/>
                <a:ext cx="8244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407360" y="32353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4979880" y="3506760"/>
              <a:ext cx="487440" cy="566640"/>
              <a:chOff x="4979880" y="3506760"/>
              <a:chExt cx="487440" cy="566640"/>
            </a:xfrm>
          </p:grpSpPr>
          <p:sp>
            <p:nvSpPr>
              <p:cNvPr id="1890" name=""/>
              <p:cNvSpPr/>
              <p:nvPr/>
            </p:nvSpPr>
            <p:spPr>
              <a:xfrm>
                <a:off x="4997520" y="351144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994280" y="36291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349960" y="37800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302080" y="377208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256360" y="37641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208480" y="37562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160960" y="37479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114880" y="37400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067360" y="37321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180040" y="350676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121360" y="378792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979880" y="36054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997520" y="3600360"/>
                <a:ext cx="838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253120" y="389088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038560" y="386568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103720" y="35956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311800" y="3616200"/>
                <a:ext cx="5400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6122880" y="3602160"/>
              <a:ext cx="571680" cy="204840"/>
              <a:chOff x="6122880" y="3602160"/>
              <a:chExt cx="571680" cy="204840"/>
            </a:xfrm>
          </p:grpSpPr>
          <p:sp>
            <p:nvSpPr>
              <p:cNvPr id="1908" name=""/>
              <p:cNvSpPr/>
              <p:nvPr/>
            </p:nvSpPr>
            <p:spPr>
              <a:xfrm>
                <a:off x="6122880" y="360216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364440" y="364500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273720" y="3635280"/>
                <a:ext cx="6048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162480" y="3745080"/>
                <a:ext cx="27972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122880" y="362916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367320" y="36036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157800" y="36655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297480" y="3668760"/>
                <a:ext cx="8280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6408720" y="4268880"/>
              <a:ext cx="571320" cy="204840"/>
              <a:chOff x="6408720" y="4268880"/>
              <a:chExt cx="571320" cy="204840"/>
            </a:xfrm>
          </p:grpSpPr>
          <p:sp>
            <p:nvSpPr>
              <p:cNvPr id="1917" name=""/>
              <p:cNvSpPr/>
              <p:nvPr/>
            </p:nvSpPr>
            <p:spPr>
              <a:xfrm>
                <a:off x="6408720" y="426888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6649920" y="43102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559560" y="43005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448320" y="4411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408720" y="42940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653160" y="426888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443640" y="4332240"/>
                <a:ext cx="3222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584760" y="433404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5742000" y="5221440"/>
              <a:ext cx="571320" cy="204840"/>
              <a:chOff x="5742000" y="5221440"/>
              <a:chExt cx="571320" cy="204840"/>
            </a:xfrm>
          </p:grpSpPr>
          <p:sp>
            <p:nvSpPr>
              <p:cNvPr id="1926" name=""/>
              <p:cNvSpPr/>
              <p:nvPr/>
            </p:nvSpPr>
            <p:spPr>
              <a:xfrm>
                <a:off x="5742000" y="52214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983200" y="52610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892840" y="52531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81600" y="53625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742000" y="52466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986440" y="522144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776920" y="52833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916600" y="52848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7837560" y="3792600"/>
              <a:ext cx="571320" cy="204840"/>
              <a:chOff x="7837560" y="3792600"/>
              <a:chExt cx="571320" cy="204840"/>
            </a:xfrm>
          </p:grpSpPr>
          <p:sp>
            <p:nvSpPr>
              <p:cNvPr id="1935" name=""/>
              <p:cNvSpPr/>
              <p:nvPr/>
            </p:nvSpPr>
            <p:spPr>
              <a:xfrm>
                <a:off x="7837560" y="37926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8078760" y="383400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988400" y="382608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877160" y="393552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837560" y="381960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082000" y="37940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872480" y="385596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8012160" y="385776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"/>
            <p:cNvGrpSpPr/>
            <p:nvPr/>
          </p:nvGrpSpPr>
          <p:grpSpPr>
            <a:xfrm>
              <a:off x="4599000" y="4554720"/>
              <a:ext cx="571320" cy="204480"/>
              <a:chOff x="4599000" y="4554720"/>
              <a:chExt cx="571320" cy="204480"/>
            </a:xfrm>
          </p:grpSpPr>
          <p:sp>
            <p:nvSpPr>
              <p:cNvPr id="1944" name=""/>
              <p:cNvSpPr/>
              <p:nvPr/>
            </p:nvSpPr>
            <p:spPr>
              <a:xfrm>
                <a:off x="4599000" y="4554720"/>
                <a:ext cx="57132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40200" y="459576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749840" y="458640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638600" y="4697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599000" y="457992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43440" y="455472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633920" y="461808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773600" y="461952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7075440" y="2649600"/>
              <a:ext cx="571680" cy="204840"/>
              <a:chOff x="7075440" y="2649600"/>
              <a:chExt cx="571680" cy="204840"/>
            </a:xfrm>
          </p:grpSpPr>
          <p:sp>
            <p:nvSpPr>
              <p:cNvPr id="1953" name=""/>
              <p:cNvSpPr/>
              <p:nvPr/>
            </p:nvSpPr>
            <p:spPr>
              <a:xfrm>
                <a:off x="7075440" y="264960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316640" y="26924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26280" y="268452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115040" y="27939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075440" y="26780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319880" y="265284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110360" y="27147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250040" y="271620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1" name=""/>
            <p:cNvGrpSpPr/>
            <p:nvPr/>
          </p:nvGrpSpPr>
          <p:grpSpPr>
            <a:xfrm>
              <a:off x="7361280" y="4363920"/>
              <a:ext cx="487440" cy="567000"/>
              <a:chOff x="7361280" y="4363920"/>
              <a:chExt cx="487440" cy="567000"/>
            </a:xfrm>
          </p:grpSpPr>
          <p:sp>
            <p:nvSpPr>
              <p:cNvPr id="1962" name=""/>
              <p:cNvSpPr/>
              <p:nvPr/>
            </p:nvSpPr>
            <p:spPr>
              <a:xfrm>
                <a:off x="7378560" y="4368960"/>
                <a:ext cx="44784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375680" y="448632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731000" y="4637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683480" y="4629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637400" y="4621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589880" y="4613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542360" y="4605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496280" y="45975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48400" y="458964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61080" y="4363920"/>
                <a:ext cx="14796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502400" y="4645080"/>
                <a:ext cx="16992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361280" y="44625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78560" y="445788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634160" y="4748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419960" y="4722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485120" y="445284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692840" y="4473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9" name=""/>
            <p:cNvGrpSpPr/>
            <p:nvPr/>
          </p:nvGrpSpPr>
          <p:grpSpPr>
            <a:xfrm>
              <a:off x="5456160" y="4268880"/>
              <a:ext cx="487440" cy="565200"/>
              <a:chOff x="5456160" y="4268880"/>
              <a:chExt cx="487440" cy="565200"/>
            </a:xfrm>
          </p:grpSpPr>
          <p:sp>
            <p:nvSpPr>
              <p:cNvPr id="1980" name=""/>
              <p:cNvSpPr/>
              <p:nvPr/>
            </p:nvSpPr>
            <p:spPr>
              <a:xfrm>
                <a:off x="5473800" y="427356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470560" y="43894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826240" y="4541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778360" y="4533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732280" y="4525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684760" y="4518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637240" y="4510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591160" y="4502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543640" y="4492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656320" y="42688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597640" y="4549680"/>
                <a:ext cx="16956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456160" y="43671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472000" y="43624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29400" y="46530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514840" y="46274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580000" y="435780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88080" y="43783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5551560" y="2935440"/>
              <a:ext cx="571320" cy="204840"/>
              <a:chOff x="5551560" y="2935440"/>
              <a:chExt cx="571320" cy="204840"/>
            </a:xfrm>
          </p:grpSpPr>
          <p:sp>
            <p:nvSpPr>
              <p:cNvPr id="1998" name=""/>
              <p:cNvSpPr/>
              <p:nvPr/>
            </p:nvSpPr>
            <p:spPr>
              <a:xfrm>
                <a:off x="5551560" y="29354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792760" y="29782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702400" y="297036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591160" y="3079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551560" y="296244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796000" y="29386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586480" y="30006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726160" y="300204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4336920" y="2382840"/>
              <a:ext cx="4353120" cy="3183120"/>
              <a:chOff x="4336920" y="2382840"/>
              <a:chExt cx="4353120" cy="3183120"/>
            </a:xfrm>
          </p:grpSpPr>
          <p:grpSp>
            <p:nvGrpSpPr>
              <p:cNvPr id="2007" name=""/>
              <p:cNvGrpSpPr/>
              <p:nvPr/>
            </p:nvGrpSpPr>
            <p:grpSpPr>
              <a:xfrm>
                <a:off x="4336920" y="2382840"/>
                <a:ext cx="4353120" cy="3183120"/>
                <a:chOff x="4336920" y="2382840"/>
                <a:chExt cx="4353120" cy="318312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6477120" y="23828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7" y="9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421320" y="238464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365880" y="238608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45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6310440" y="238932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254640" y="239076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99200" y="239724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145200" y="240192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089760" y="240984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6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035760" y="241632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979960" y="2425680"/>
                  <a:ext cx="39960" cy="126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7" y="16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925960" y="243540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870520" y="244656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816520" y="2459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5" y="10"/>
                      </a:moveTo>
                      <a:lnTo>
                        <a:pt x="47" y="9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762520" y="24717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5" y="10"/>
                      </a:move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710320" y="248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5656320" y="25002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13" y="18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5603760" y="25178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2">
                      <a:moveTo>
                        <a:pt x="43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5551560" y="2535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4" y="10"/>
                      </a:moveTo>
                      <a:lnTo>
                        <a:pt x="45" y="8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25" y="5"/>
                      </a:lnTo>
                      <a:lnTo>
                        <a:pt x="4" y="13"/>
                      </a:lnTo>
                      <a:lnTo>
                        <a:pt x="2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27" y="1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5499000" y="2554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5448240" y="2573280"/>
                  <a:ext cx="36720" cy="208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7" y="2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39" y="12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396040" y="259560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5346720" y="261792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2" y="10"/>
                      </a:move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4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3" y="27"/>
                      </a:lnTo>
                      <a:lnTo>
                        <a:pt x="5" y="27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5295960" y="26402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1" y="10"/>
                      </a:move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5245200" y="26654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4" y="9"/>
                      </a:move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4" y="19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7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9" y="27"/>
                      </a:lnTo>
                      <a:lnTo>
                        <a:pt x="4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5195880" y="2691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3" y="10"/>
                      </a:moveTo>
                      <a:lnTo>
                        <a:pt x="45" y="8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18" y="12"/>
                      </a:lnTo>
                      <a:lnTo>
                        <a:pt x="3" y="20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8" y="28"/>
                      </a:lnTo>
                      <a:lnTo>
                        <a:pt x="23" y="20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5148360" y="2718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5100480" y="27464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40" y="10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5052960" y="2774880"/>
                  <a:ext cx="36720" cy="2556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41" y="10"/>
                      </a:move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1"/>
                      </a:lnTo>
                      <a:lnTo>
                        <a:pt x="1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0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5008680" y="280512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2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2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283680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14" y="15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19" y="2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17960" y="28702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40" y="8"/>
                      </a:moveTo>
                      <a:lnTo>
                        <a:pt x="41" y="6"/>
                      </a:ln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8" y="3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876920" y="290520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9" y="8"/>
                      </a:move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0" y="2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834080" y="294012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7" y="8"/>
                      </a:moveTo>
                      <a:lnTo>
                        <a:pt x="38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2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5"/>
                      </a:lnTo>
                      <a:lnTo>
                        <a:pt x="5" y="35"/>
                      </a:lnTo>
                      <a:lnTo>
                        <a:pt x="7" y="35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792680" y="29764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7" y="10"/>
                      </a:moveTo>
                      <a:lnTo>
                        <a:pt x="39" y="8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2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7" y="37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753080" y="301464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5" y="9"/>
                      </a:moveTo>
                      <a:lnTo>
                        <a:pt x="37" y="7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2" y="10"/>
                      </a:lnTo>
                      <a:lnTo>
                        <a:pt x="20" y="12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9"/>
                      </a:lnTo>
                      <a:lnTo>
                        <a:pt x="5" y="39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29" y="17"/>
                      </a:lnTo>
                      <a:lnTo>
                        <a:pt x="24" y="14"/>
                      </a:lnTo>
                      <a:lnTo>
                        <a:pt x="27" y="19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713120" y="305424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7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2" y="35"/>
                      </a:ln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10" y="35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676760" y="30942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6" y="9"/>
                      </a:move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640400" y="3135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5" y="6"/>
                      </a:moveTo>
                      <a:lnTo>
                        <a:pt x="36" y="5"/>
                      </a:lnTo>
                      <a:lnTo>
                        <a:pt x="36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1"/>
                      </a:lnTo>
                      <a:lnTo>
                        <a:pt x="13" y="16"/>
                      </a:lnTo>
                      <a:lnTo>
                        <a:pt x="1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21" y="21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606920" y="3178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5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7" y="3"/>
                      </a:lnTo>
                      <a:lnTo>
                        <a:pt x="2" y="35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2" y="40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7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575240" y="322272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6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5" y="41"/>
                      </a:lnTo>
                      <a:lnTo>
                        <a:pt x="7" y="41"/>
                      </a:lnTo>
                      <a:lnTo>
                        <a:pt x="9" y="4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543560" y="326880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32" y="9"/>
                      </a:move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4" y="4"/>
                      </a:lnTo>
                      <a:lnTo>
                        <a:pt x="10" y="20"/>
                      </a:lnTo>
                      <a:lnTo>
                        <a:pt x="2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4"/>
                      </a:lnTo>
                      <a:lnTo>
                        <a:pt x="9" y="44"/>
                      </a:lnTo>
                      <a:lnTo>
                        <a:pt x="10" y="42"/>
                      </a:lnTo>
                      <a:lnTo>
                        <a:pt x="19" y="25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513320" y="331488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1" h="45">
                      <a:moveTo>
                        <a:pt x="30" y="8"/>
                      </a:move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0" y="3"/>
                      </a:lnTo>
                      <a:lnTo>
                        <a:pt x="28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lnTo>
                        <a:pt x="1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" y="41"/>
                      </a:lnTo>
                      <a:lnTo>
                        <a:pt x="3" y="43"/>
                      </a:lnTo>
                      <a:lnTo>
                        <a:pt x="5" y="45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3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487760" y="336240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9" h="46">
                      <a:moveTo>
                        <a:pt x="29" y="8"/>
                      </a:move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9" y="43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460760" y="341172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9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20" y="24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438800" y="3460680"/>
                  <a:ext cx="20520" cy="3816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6" y="6"/>
                      </a:moveTo>
                      <a:lnTo>
                        <a:pt x="26" y="5"/>
                      </a:ln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417920" y="351324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25" y="5"/>
                      </a:move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0" y="4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398840" y="356400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23" y="5"/>
                      </a:moveTo>
                      <a:lnTo>
                        <a:pt x="23" y="3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8" y="1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8" y="18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381560" y="3618000"/>
                  <a:ext cx="17280" cy="36360"/>
                </a:xfrm>
                <a:custGeom>
                  <a:avLst/>
                  <a:gdLst/>
                  <a:ahLst/>
                  <a:rect l="l" t="t" r="r" b="b"/>
                  <a:pathLst>
                    <a:path w="22" h="47">
                      <a:moveTo>
                        <a:pt x="22" y="5"/>
                      </a:moveTo>
                      <a:lnTo>
                        <a:pt x="22" y="4"/>
                      </a:lnTo>
                      <a:lnTo>
                        <a:pt x="22" y="2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368960" y="367020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20" y="5"/>
                      </a:move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4" y="28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0" y="45"/>
                      </a:lnTo>
                      <a:lnTo>
                        <a:pt x="14" y="3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356000" y="372420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9" h="49">
                      <a:moveTo>
                        <a:pt x="19" y="5"/>
                      </a:move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7" y="10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2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346640" y="3778200"/>
                  <a:ext cx="14040" cy="39960"/>
                </a:xfrm>
                <a:custGeom>
                  <a:avLst/>
                  <a:gdLst/>
                  <a:ahLst/>
                  <a:rect l="l" t="t" r="r" b="b"/>
                  <a:pathLst>
                    <a:path w="16" h="50">
                      <a:moveTo>
                        <a:pt x="16" y="5"/>
                      </a:moveTo>
                      <a:lnTo>
                        <a:pt x="16" y="3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1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8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48"/>
                      </a:lnTo>
                      <a:lnTo>
                        <a:pt x="10" y="46"/>
                      </a:lnTo>
                      <a:lnTo>
                        <a:pt x="10" y="45"/>
                      </a:lnTo>
                      <a:lnTo>
                        <a:pt x="11" y="4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341960" y="3834000"/>
                  <a:ext cx="10800" cy="3960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5"/>
                      </a:move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2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8" y="46"/>
                      </a:lnTo>
                      <a:lnTo>
                        <a:pt x="10" y="45"/>
                      </a:lnTo>
                      <a:lnTo>
                        <a:pt x="12" y="23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338720" y="388944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12" y="7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48"/>
                      </a:lnTo>
                      <a:lnTo>
                        <a:pt x="10" y="4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336920" y="3944880"/>
                  <a:ext cx="7920" cy="3996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338720" y="400068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20"/>
                      </a:lnTo>
                      <a:lnTo>
                        <a:pt x="5" y="20"/>
                      </a:lnTo>
                      <a:lnTo>
                        <a:pt x="10" y="22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338720" y="405612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346640" y="411156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33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2" y="48"/>
                      </a:lnTo>
                      <a:lnTo>
                        <a:pt x="13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3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352760" y="4167360"/>
                  <a:ext cx="14400" cy="37800"/>
                </a:xfrm>
                <a:custGeom>
                  <a:avLst/>
                  <a:gdLst/>
                  <a:ahLst/>
                  <a:rect l="l" t="t" r="r" b="b"/>
                  <a:pathLst>
                    <a:path w="19" h="48">
                      <a:moveTo>
                        <a:pt x="10" y="3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15"/>
                      </a:lnTo>
                      <a:lnTo>
                        <a:pt x="9" y="45"/>
                      </a:lnTo>
                      <a:lnTo>
                        <a:pt x="9" y="47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5" y="48"/>
                      </a:lnTo>
                      <a:lnTo>
                        <a:pt x="17" y="47"/>
                      </a:lnTo>
                      <a:lnTo>
                        <a:pt x="19" y="45"/>
                      </a:lnTo>
                      <a:lnTo>
                        <a:pt x="19" y="43"/>
                      </a:lnTo>
                      <a:lnTo>
                        <a:pt x="12" y="1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362480" y="4221360"/>
                  <a:ext cx="15840" cy="3780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0" y="45"/>
                      </a:lnTo>
                      <a:lnTo>
                        <a:pt x="10" y="47"/>
                      </a:lnTo>
                      <a:lnTo>
                        <a:pt x="11" y="49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6" y="49"/>
                      </a:lnTo>
                      <a:lnTo>
                        <a:pt x="18" y="47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376880" y="4275360"/>
                  <a:ext cx="17280" cy="37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6"/>
                      </a:lnTo>
                      <a:lnTo>
                        <a:pt x="12" y="43"/>
                      </a:lnTo>
                      <a:lnTo>
                        <a:pt x="12" y="45"/>
                      </a:lnTo>
                      <a:lnTo>
                        <a:pt x="14" y="46"/>
                      </a:lnTo>
                      <a:lnTo>
                        <a:pt x="15" y="48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20" y="45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15" y="25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392720" y="432756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9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4" y="44"/>
                      </a:lnTo>
                      <a:lnTo>
                        <a:pt x="24" y="4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410000" y="438156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3" y="43"/>
                      </a:lnTo>
                      <a:lnTo>
                        <a:pt x="15" y="45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3" y="43"/>
                      </a:lnTo>
                      <a:lnTo>
                        <a:pt x="23" y="4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430520" y="4432320"/>
                  <a:ext cx="1908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0"/>
                      </a:lnTo>
                      <a:lnTo>
                        <a:pt x="15" y="42"/>
                      </a:lnTo>
                      <a:lnTo>
                        <a:pt x="16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5" y="42"/>
                      </a:lnTo>
                      <a:lnTo>
                        <a:pt x="25" y="40"/>
                      </a:lnTo>
                      <a:lnTo>
                        <a:pt x="15" y="1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452840" y="4483080"/>
                  <a:ext cx="2088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7" y="42"/>
                      </a:lnTo>
                      <a:lnTo>
                        <a:pt x="17" y="44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476600" y="4532400"/>
                  <a:ext cx="24120" cy="3636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0" y="43"/>
                      </a:lnTo>
                      <a:lnTo>
                        <a:pt x="22" y="45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7" y="45"/>
                      </a:lnTo>
                      <a:lnTo>
                        <a:pt x="28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38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503600" y="4581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10" y="2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17"/>
                      </a:lnTo>
                      <a:lnTo>
                        <a:pt x="22" y="42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9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15" y="12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532400" y="462924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562280" y="4675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9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4" y="40"/>
                      </a:lnTo>
                      <a:lnTo>
                        <a:pt x="25" y="41"/>
                      </a:lnTo>
                      <a:lnTo>
                        <a:pt x="27" y="43"/>
                      </a:lnTo>
                      <a:lnTo>
                        <a:pt x="29" y="43"/>
                      </a:lnTo>
                      <a:lnTo>
                        <a:pt x="30" y="41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6"/>
                      </a:lnTo>
                      <a:lnTo>
                        <a:pt x="32" y="3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594320" y="472140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9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7" y="17"/>
                      </a:lnTo>
                      <a:lnTo>
                        <a:pt x="25" y="40"/>
                      </a:lnTo>
                      <a:lnTo>
                        <a:pt x="27" y="42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15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629240" y="47656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lnTo>
                        <a:pt x="26" y="40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3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664160" y="48085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7" y="39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40"/>
                      </a:lnTo>
                      <a:lnTo>
                        <a:pt x="35" y="39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5" y="3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700520" y="484992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8" y="1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6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1"/>
                      </a:lnTo>
                      <a:lnTo>
                        <a:pt x="18" y="13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738680" y="4889520"/>
                  <a:ext cx="30240" cy="316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8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8" y="35"/>
                      </a:lnTo>
                      <a:lnTo>
                        <a:pt x="38" y="33"/>
                      </a:lnTo>
                      <a:lnTo>
                        <a:pt x="37" y="31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776840" y="49291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34" y="36"/>
                      </a:lnTo>
                      <a:lnTo>
                        <a:pt x="35" y="36"/>
                      </a:lnTo>
                      <a:lnTo>
                        <a:pt x="37" y="36"/>
                      </a:lnTo>
                      <a:lnTo>
                        <a:pt x="39" y="36"/>
                      </a:lnTo>
                      <a:lnTo>
                        <a:pt x="40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40" y="30"/>
                      </a:lnTo>
                      <a:lnTo>
                        <a:pt x="39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817880" y="4967280"/>
                  <a:ext cx="3204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22" y="27"/>
                      </a:ln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8" y="37"/>
                      </a:lnTo>
                      <a:lnTo>
                        <a:pt x="40" y="35"/>
                      </a:lnTo>
                      <a:lnTo>
                        <a:pt x="40" y="34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9"/>
                      </a:lnTo>
                      <a:lnTo>
                        <a:pt x="27" y="1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861080" y="50040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4" y="35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9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02120" y="50403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35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46760" y="50738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35" y="34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0" y="34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91040" y="51069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5" y="32"/>
                      </a:lnTo>
                      <a:lnTo>
                        <a:pt x="37" y="32"/>
                      </a:lnTo>
                      <a:lnTo>
                        <a:pt x="39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37120" y="513864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5" y="18"/>
                      </a:lnTo>
                      <a:lnTo>
                        <a:pt x="35" y="30"/>
                      </a:lnTo>
                      <a:lnTo>
                        <a:pt x="36" y="32"/>
                      </a:lnTo>
                      <a:lnTo>
                        <a:pt x="38" y="32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40" y="22"/>
                      </a:lnTo>
                      <a:lnTo>
                        <a:pt x="20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84640" y="516744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7" y="1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2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2" y="23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130720" y="5199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9" y="28"/>
                      </a:ln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180040" y="5226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7" y="28"/>
                      </a:ln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2" y="28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3" y="22"/>
                      </a:lnTo>
                      <a:lnTo>
                        <a:pt x="42" y="2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227560" y="52531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1" y="29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3" y="22"/>
                      </a:lnTo>
                      <a:lnTo>
                        <a:pt x="41" y="2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276880" y="527832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24" y="22"/>
                      </a:lnTo>
                      <a:lnTo>
                        <a:pt x="25" y="22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27" y="12"/>
                      </a:lnTo>
                      <a:lnTo>
                        <a:pt x="27" y="17"/>
                      </a:lnTo>
                      <a:lnTo>
                        <a:pt x="29" y="1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327640" y="53024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40" y="26"/>
                      </a:lnTo>
                      <a:lnTo>
                        <a:pt x="41" y="26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5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1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378400" y="53262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10" y="11"/>
                      </a:lnTo>
                      <a:lnTo>
                        <a:pt x="40" y="25"/>
                      </a:lnTo>
                      <a:lnTo>
                        <a:pt x="42" y="25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2" y="15"/>
                      </a:lnTo>
                      <a:lnTo>
                        <a:pt x="12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427720" y="5348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4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479920" y="536904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530680" y="538956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584680" y="5407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42" y="24"/>
                      </a:ln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637240" y="542448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6" y="22"/>
                      </a:lnTo>
                      <a:lnTo>
                        <a:pt x="41" y="23"/>
                      </a:ln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38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689440" y="544212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6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1"/>
                      </a:lnTo>
                      <a:lnTo>
                        <a:pt x="44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743440" y="545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28" y="17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7" y="12"/>
                      </a:lnTo>
                      <a:lnTo>
                        <a:pt x="45" y="10"/>
                      </a:lnTo>
                      <a:lnTo>
                        <a:pt x="3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797440" y="54705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7" y="10"/>
                      </a:lnTo>
                      <a:lnTo>
                        <a:pt x="4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851440" y="548496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18" y="13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6" y="10"/>
                      </a:lnTo>
                      <a:lnTo>
                        <a:pt x="45" y="8"/>
                      </a:lnTo>
                      <a:lnTo>
                        <a:pt x="2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905440" y="549612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7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5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5959440" y="55069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12" y="12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9" y="10"/>
                      </a:lnTo>
                      <a:lnTo>
                        <a:pt x="47" y="9"/>
                      </a:lnTo>
                      <a:lnTo>
                        <a:pt x="45" y="7"/>
                      </a:lnTo>
                      <a:lnTo>
                        <a:pt x="1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6013440" y="551664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3" y="17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48" y="10"/>
                      </a:lnTo>
                      <a:lnTo>
                        <a:pt x="46" y="8"/>
                      </a:lnTo>
                      <a:lnTo>
                        <a:pt x="45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6068880" y="5524560"/>
                  <a:ext cx="399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43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8" y="13"/>
                      </a:lnTo>
                      <a:lnTo>
                        <a:pt x="48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6124680" y="55324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6180120" y="554040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7" y="13"/>
                      </a:lnTo>
                      <a:lnTo>
                        <a:pt x="48" y="12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7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6235560" y="554508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8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6291360" y="555012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2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48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6346800" y="555300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640080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6456240" y="5556240"/>
                  <a:ext cx="39960" cy="972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9" y="10"/>
                      </a:lnTo>
                      <a:lnTo>
                        <a:pt x="50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1"/>
                      </a:lnTo>
                      <a:lnTo>
                        <a:pt x="4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6512040" y="55580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656748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6622920" y="5554800"/>
                  <a:ext cx="3996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6678720" y="555156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734160" y="5548320"/>
                  <a:ext cx="39600" cy="972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6789600" y="554184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6845400" y="553572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6900840" y="5527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4" y="5"/>
                      </a:move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6954840" y="55198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5" y="7"/>
                      </a:move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7010280" y="55101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7064280" y="5500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7118280" y="548820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50" h="18">
                      <a:moveTo>
                        <a:pt x="5" y="8"/>
                      </a:move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7172280" y="54752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5" y="10"/>
                      </a:move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20"/>
                      </a:lnTo>
                      <a:lnTo>
                        <a:pt x="6" y="20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7227720" y="546120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7280280" y="54450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5" y="11"/>
                      </a:move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7334280" y="54309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32" y="14"/>
                      </a:lnTo>
                      <a:lnTo>
                        <a:pt x="43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0" y="4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7386480" y="541332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3" y="13"/>
                      </a:move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5" y="23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7440480" y="53960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" y="14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20" y="19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7491240" y="5375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5" y="14"/>
                      </a:move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7545240" y="53546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3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7" y="25"/>
                      </a:lnTo>
                      <a:lnTo>
                        <a:pt x="42" y="10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5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7594560" y="5334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15"/>
                      </a:moveTo>
                      <a:lnTo>
                        <a:pt x="4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44" y="10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7647120" y="5310360"/>
                  <a:ext cx="36360" cy="2196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42" y="10"/>
                      </a:lnTo>
                      <a:lnTo>
                        <a:pt x="44" y="8"/>
                      </a:lnTo>
                      <a:lnTo>
                        <a:pt x="45" y="6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7696080" y="5286600"/>
                  <a:ext cx="38160" cy="2196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3" y="16"/>
                      </a:move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40" y="10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40" y="5"/>
                      </a:lnTo>
                      <a:lnTo>
                        <a:pt x="38" y="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7746840" y="526104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2" y="20"/>
                      </a:move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7" y="29"/>
                      </a:lnTo>
                      <a:lnTo>
                        <a:pt x="42" y="10"/>
                      </a:ln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3" y="4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2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7796160" y="5235480"/>
                  <a:ext cx="349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25" y="18"/>
                      </a:lnTo>
                      <a:lnTo>
                        <a:pt x="41" y="8"/>
                      </a:lnTo>
                      <a:lnTo>
                        <a:pt x="43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20" y="10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7845480" y="5207040"/>
                  <a:ext cx="33120" cy="23760"/>
                </a:xfrm>
                <a:custGeom>
                  <a:avLst/>
                  <a:gdLst/>
                  <a:ahLst/>
                  <a:rect l="l" t="t" r="r" b="b"/>
                  <a:pathLst>
                    <a:path w="44" h="30">
                      <a:moveTo>
                        <a:pt x="2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2" y="28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7" y="28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7893000" y="517860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2" y="22"/>
                      </a:move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0"/>
                      </a:lnTo>
                      <a:lnTo>
                        <a:pt x="42" y="8"/>
                      </a:lnTo>
                      <a:lnTo>
                        <a:pt x="44" y="7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7939080" y="5148360"/>
                  <a:ext cx="34920" cy="2520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3" y="23"/>
                      </a:moveTo>
                      <a:lnTo>
                        <a:pt x="1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1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7986600" y="5118120"/>
                  <a:ext cx="33480" cy="2556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6" y="32"/>
                      </a:lnTo>
                      <a:lnTo>
                        <a:pt x="40" y="9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8031240" y="50846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" y="25"/>
                      </a:move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9" y="33"/>
                      </a:lnTo>
                      <a:lnTo>
                        <a:pt x="27" y="20"/>
                      </a:lnTo>
                      <a:lnTo>
                        <a:pt x="40" y="10"/>
                      </a:lnTo>
                      <a:lnTo>
                        <a:pt x="42" y="8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1"/>
                      </a:lnTo>
                      <a:lnTo>
                        <a:pt x="22" y="11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8077320" y="505152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2" y="25"/>
                      </a:move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38" y="8"/>
                      </a:lnTo>
                      <a:lnTo>
                        <a:pt x="40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2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8120160" y="50166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5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2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8163000" y="497988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4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8204040" y="4942080"/>
                  <a:ext cx="32040" cy="298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" y="28"/>
                      </a:move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6" y="36"/>
                      </a:lnTo>
                      <a:lnTo>
                        <a:pt x="36" y="10"/>
                      </a:lnTo>
                      <a:lnTo>
                        <a:pt x="38" y="8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3"/>
                      </a:lnTo>
                      <a:lnTo>
                        <a:pt x="36" y="1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1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8244000" y="49039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" y="30"/>
                      </a:moveTo>
                      <a:lnTo>
                        <a:pt x="1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7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15" y="32"/>
                      </a:lnTo>
                      <a:lnTo>
                        <a:pt x="16" y="30"/>
                      </a:ln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6" y="2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30" y="4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10" y="24"/>
                      </a:lnTo>
                      <a:lnTo>
                        <a:pt x="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8283600" y="486432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2"/>
                      </a:move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36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8323200" y="4822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0" y="31"/>
                      </a:move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38"/>
                      </a:lnTo>
                      <a:lnTo>
                        <a:pt x="8" y="36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8358120" y="478008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22" y="25"/>
                      </a:lnTo>
                      <a:lnTo>
                        <a:pt x="35" y="7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2"/>
                      </a:lnTo>
                      <a:lnTo>
                        <a:pt x="13" y="20"/>
                      </a:lnTo>
                      <a:lnTo>
                        <a:pt x="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8394840" y="473724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2" y="40"/>
                      </a:lnTo>
                      <a:lnTo>
                        <a:pt x="3" y="42"/>
                      </a:lnTo>
                      <a:lnTo>
                        <a:pt x="5" y="42"/>
                      </a:lnTo>
                      <a:lnTo>
                        <a:pt x="7" y="40"/>
                      </a:lnTo>
                      <a:lnTo>
                        <a:pt x="8" y="39"/>
                      </a:lnTo>
                      <a:lnTo>
                        <a:pt x="33" y="7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3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8426520" y="469116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" y="35"/>
                      </a:move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1" y="40"/>
                      </a:lnTo>
                      <a:lnTo>
                        <a:pt x="3" y="41"/>
                      </a:lnTo>
                      <a:lnTo>
                        <a:pt x="5" y="41"/>
                      </a:lnTo>
                      <a:lnTo>
                        <a:pt x="6" y="41"/>
                      </a:lnTo>
                      <a:lnTo>
                        <a:pt x="8" y="41"/>
                      </a:lnTo>
                      <a:lnTo>
                        <a:pt x="10" y="40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33" y="1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8459640" y="464508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0" y="35"/>
                      </a:move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2"/>
                      </a:lnTo>
                      <a:lnTo>
                        <a:pt x="9" y="40"/>
                      </a:lnTo>
                      <a:lnTo>
                        <a:pt x="20" y="25"/>
                      </a:lnTo>
                      <a:lnTo>
                        <a:pt x="30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12" y="2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8489880" y="459756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2" y="37"/>
                      </a:move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3" y="44"/>
                      </a:lnTo>
                      <a:lnTo>
                        <a:pt x="5" y="45"/>
                      </a:lnTo>
                      <a:lnTo>
                        <a:pt x="7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30" y="9"/>
                      </a:ln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0" y="4"/>
                      </a:lnTo>
                      <a:lnTo>
                        <a:pt x="28" y="2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8518680" y="4548240"/>
                  <a:ext cx="21960" cy="3816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8545320" y="4500720"/>
                  <a:ext cx="20880" cy="36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7" y="28"/>
                      </a:lnTo>
                      <a:lnTo>
                        <a:pt x="17" y="27"/>
                      </a:ln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2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7" y="25"/>
                      </a:lnTo>
                      <a:lnTo>
                        <a:pt x="12" y="27"/>
                      </a:lnTo>
                      <a:lnTo>
                        <a:pt x="8" y="2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8569440" y="4449960"/>
                  <a:ext cx="20520" cy="36360"/>
                </a:xfrm>
                <a:custGeom>
                  <a:avLst/>
                  <a:gdLst/>
                  <a:ahLst/>
                  <a:rect l="l" t="t" r="r" b="b"/>
                  <a:pathLst>
                    <a:path w="27" h="46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8591400" y="439740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9" y="45"/>
                      </a:lnTo>
                      <a:lnTo>
                        <a:pt x="10" y="43"/>
                      </a:ln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8610480" y="4345200"/>
                  <a:ext cx="19080" cy="37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43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4" y="35"/>
                      </a:lnTo>
                      <a:lnTo>
                        <a:pt x="24" y="7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4" y="3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8628120" y="429264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2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8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3" y="4"/>
                      </a:lnTo>
                      <a:lnTo>
                        <a:pt x="12" y="5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8643960" y="423864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5" y="21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5" y="2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8656560" y="418464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6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0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0" y="3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8666280" y="4129200"/>
                  <a:ext cx="14040" cy="39600"/>
                </a:xfrm>
                <a:custGeom>
                  <a:avLst/>
                  <a:gdLst/>
                  <a:ahLst/>
                  <a:rect l="l" t="t" r="r" b="b"/>
                  <a:pathLst>
                    <a:path w="17" h="50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8674200" y="407340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4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30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29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8680320" y="401796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8682120" y="396252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0" y="47"/>
                      </a:moveTo>
                      <a:lnTo>
                        <a:pt x="0" y="49"/>
                      </a:lnTo>
                      <a:lnTo>
                        <a:pt x="2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1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8680320" y="3906720"/>
                  <a:ext cx="9720" cy="399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" y="47"/>
                      </a:move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1" y="47"/>
                      </a:lnTo>
                      <a:lnTo>
                        <a:pt x="11" y="45"/>
                      </a:lnTo>
                      <a:lnTo>
                        <a:pt x="11" y="34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35"/>
                      </a:lnTo>
                      <a:lnTo>
                        <a:pt x="1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8677080" y="38530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3" y="45"/>
                      </a:moveTo>
                      <a:lnTo>
                        <a:pt x="3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1" y="47"/>
                      </a:lnTo>
                      <a:lnTo>
                        <a:pt x="13" y="45"/>
                      </a:lnTo>
                      <a:lnTo>
                        <a:pt x="13" y="43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8669160" y="37972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5" y="45"/>
                      </a:moveTo>
                      <a:lnTo>
                        <a:pt x="6" y="47"/>
                      </a:lnTo>
                      <a:lnTo>
                        <a:pt x="8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18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20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8659800" y="374328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8" y="45"/>
                      </a:move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7" y="46"/>
                      </a:lnTo>
                      <a:lnTo>
                        <a:pt x="18" y="45"/>
                      </a:lnTo>
                      <a:lnTo>
                        <a:pt x="18" y="43"/>
                      </a:lnTo>
                      <a:lnTo>
                        <a:pt x="17" y="36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38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8648640" y="368928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4"/>
                      </a:moveTo>
                      <a:lnTo>
                        <a:pt x="10" y="45"/>
                      </a:lnTo>
                      <a:lnTo>
                        <a:pt x="12" y="47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7" y="47"/>
                      </a:lnTo>
                      <a:lnTo>
                        <a:pt x="18" y="45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8632800" y="363528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1" h="48">
                      <a:moveTo>
                        <a:pt x="11" y="45"/>
                      </a:moveTo>
                      <a:lnTo>
                        <a:pt x="11" y="47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20" y="47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16" y="25"/>
                      </a:ln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6" y="27"/>
                      </a:lnTo>
                      <a:lnTo>
                        <a:pt x="1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8616960" y="358128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13" y="44"/>
                      </a:moveTo>
                      <a:lnTo>
                        <a:pt x="13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8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3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8596440" y="353052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5" y="44"/>
                      </a:moveTo>
                      <a:lnTo>
                        <a:pt x="17" y="45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25" y="45"/>
                      </a:lnTo>
                      <a:lnTo>
                        <a:pt x="25" y="44"/>
                      </a:lnTo>
                      <a:lnTo>
                        <a:pt x="25" y="42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8575560" y="3478320"/>
                  <a:ext cx="20880" cy="381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4"/>
                      </a:ln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22" y="30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2" y="32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8553600" y="342900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8526600" y="337968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45">
                      <a:moveTo>
                        <a:pt x="20" y="42"/>
                      </a:moveTo>
                      <a:lnTo>
                        <a:pt x="21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4"/>
                      </a:lnTo>
                      <a:lnTo>
                        <a:pt x="28" y="42"/>
                      </a:lnTo>
                      <a:lnTo>
                        <a:pt x="28" y="40"/>
                      </a:lnTo>
                      <a:lnTo>
                        <a:pt x="28" y="39"/>
                      </a:lnTo>
                      <a:lnTo>
                        <a:pt x="28" y="37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8497800" y="333072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1" y="43"/>
                      </a:move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5"/>
                      </a:lnTo>
                      <a:lnTo>
                        <a:pt x="28" y="45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38"/>
                      </a:lnTo>
                      <a:lnTo>
                        <a:pt x="26" y="30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8" y="35"/>
                      </a:lnTo>
                      <a:lnTo>
                        <a:pt x="2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8469360" y="3284640"/>
                  <a:ext cx="23760" cy="3312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2" y="42"/>
                      </a:move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0" y="40"/>
                      </a:lnTo>
                      <a:lnTo>
                        <a:pt x="30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8437680" y="323856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3">
                      <a:moveTo>
                        <a:pt x="23" y="40"/>
                      </a:moveTo>
                      <a:lnTo>
                        <a:pt x="25" y="42"/>
                      </a:lnTo>
                      <a:lnTo>
                        <a:pt x="27" y="43"/>
                      </a:lnTo>
                      <a:lnTo>
                        <a:pt x="28" y="43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2" y="3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8404200" y="319392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34" y="33"/>
                      </a:lnTo>
                      <a:lnTo>
                        <a:pt x="29" y="28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3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8370720" y="3151080"/>
                  <a:ext cx="27000" cy="32040"/>
                </a:xfrm>
                <a:custGeom>
                  <a:avLst/>
                  <a:gdLst/>
                  <a:ahLst/>
                  <a:rect l="l" t="t" r="r" b="b"/>
                  <a:pathLst>
                    <a:path w="35" h="40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8332920" y="3108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9" y="36"/>
                      </a:moveTo>
                      <a:lnTo>
                        <a:pt x="30" y="38"/>
                      </a:lnTo>
                      <a:lnTo>
                        <a:pt x="32" y="40"/>
                      </a:lnTo>
                      <a:lnTo>
                        <a:pt x="34" y="40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8296200" y="306720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28" y="37"/>
                      </a:move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7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2"/>
                      </a:lnTo>
                      <a:lnTo>
                        <a:pt x="28" y="2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28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8258040" y="302724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29" y="37"/>
                      </a:move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4" y="38"/>
                      </a:lnTo>
                      <a:lnTo>
                        <a:pt x="35" y="38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2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8217000" y="298944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31" y="36"/>
                      </a:moveTo>
                      <a:lnTo>
                        <a:pt x="33" y="36"/>
                      </a:lnTo>
                      <a:lnTo>
                        <a:pt x="35" y="36"/>
                      </a:lnTo>
                      <a:lnTo>
                        <a:pt x="36" y="36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38" y="30"/>
                      </a:lnTo>
                      <a:lnTo>
                        <a:pt x="36" y="28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8175600" y="295272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2" y="35"/>
                      </a:move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5"/>
                      </a:lnTo>
                      <a:lnTo>
                        <a:pt x="38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8"/>
                      </a:lnTo>
                      <a:lnTo>
                        <a:pt x="37" y="27"/>
                      </a:lnTo>
                      <a:lnTo>
                        <a:pt x="22" y="1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17" y="2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8132760" y="291636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3" y="35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8" y="2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3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8089920" y="28814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3">
                      <a:moveTo>
                        <a:pt x="33" y="33"/>
                      </a:move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8" y="33"/>
                      </a:lnTo>
                      <a:lnTo>
                        <a:pt x="40" y="31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0" y="26"/>
                      </a:lnTo>
                      <a:lnTo>
                        <a:pt x="38" y="25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8045280" y="2847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33" y="34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4"/>
                      </a:lnTo>
                      <a:lnTo>
                        <a:pt x="40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8" y="25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7999560" y="281628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4">
                      <a:moveTo>
                        <a:pt x="35" y="32"/>
                      </a:moveTo>
                      <a:lnTo>
                        <a:pt x="37" y="34"/>
                      </a:lnTo>
                      <a:lnTo>
                        <a:pt x="39" y="34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3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7953480" y="27860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37" y="30"/>
                      </a:moveTo>
                      <a:lnTo>
                        <a:pt x="38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2" y="22"/>
                      </a:lnTo>
                      <a:lnTo>
                        <a:pt x="30" y="13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25" y="22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7907400" y="27543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36" y="31"/>
                      </a:move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1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7859520" y="27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36" y="28"/>
                      </a:move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3" y="21"/>
                      </a:lnTo>
                      <a:lnTo>
                        <a:pt x="41" y="2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7810560" y="269892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8" y="28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3" y="2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761240" y="267336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9" y="29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7711920" y="26496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36" y="27"/>
                      </a:moveTo>
                      <a:lnTo>
                        <a:pt x="38" y="27"/>
                      </a:lnTo>
                      <a:lnTo>
                        <a:pt x="40" y="27"/>
                      </a:lnTo>
                      <a:lnTo>
                        <a:pt x="41" y="27"/>
                      </a:lnTo>
                      <a:lnTo>
                        <a:pt x="43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3" y="20"/>
                      </a:lnTo>
                      <a:lnTo>
                        <a:pt x="41" y="19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18" y="17"/>
                      </a:lnTo>
                      <a:lnTo>
                        <a:pt x="20" y="12"/>
                      </a:lnTo>
                      <a:lnTo>
                        <a:pt x="16" y="15"/>
                      </a:lnTo>
                      <a:lnTo>
                        <a:pt x="3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7661160" y="26258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1" y="27"/>
                      </a:move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6" y="24"/>
                      </a:lnTo>
                      <a:lnTo>
                        <a:pt x="46" y="22"/>
                      </a:lnTo>
                      <a:lnTo>
                        <a:pt x="46" y="20"/>
                      </a:lnTo>
                      <a:lnTo>
                        <a:pt x="46" y="19"/>
                      </a:lnTo>
                      <a:lnTo>
                        <a:pt x="45" y="17"/>
                      </a:lnTo>
                      <a:lnTo>
                        <a:pt x="43" y="1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7610400" y="26035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39" y="1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37" y="23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7559640" y="257976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2" y="26"/>
                      </a:moveTo>
                      <a:lnTo>
                        <a:pt x="44" y="26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6"/>
                      </a:lnTo>
                      <a:lnTo>
                        <a:pt x="44" y="16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7507440" y="256068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6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7456320" y="25416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2" y="24"/>
                      </a:moveTo>
                      <a:lnTo>
                        <a:pt x="44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4" y="14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7402320" y="2524320"/>
                  <a:ext cx="39960" cy="172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1" y="23"/>
                      </a:move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7350120" y="250668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2" y="24"/>
                      </a:move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10" y="12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7297560" y="249228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2" y="20"/>
                      </a:move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2"/>
                      </a:lnTo>
                      <a:lnTo>
                        <a:pt x="44" y="1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8" name=""/>
              <p:cNvSpPr/>
              <p:nvPr/>
            </p:nvSpPr>
            <p:spPr>
              <a:xfrm>
                <a:off x="7243920" y="24764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3" y="22"/>
                    </a:move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5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188120" y="24624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6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135920" y="24512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3" y="19"/>
                    </a:move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30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28" y="15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080120" y="24382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7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7" y="10"/>
                    </a:lnTo>
                    <a:lnTo>
                      <a:pt x="45" y="9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026120" y="242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43" y="16"/>
                    </a:moveTo>
                    <a:lnTo>
                      <a:pt x="45" y="16"/>
                    </a:lnTo>
                    <a:lnTo>
                      <a:pt x="46" y="15"/>
                    </a:lnTo>
                    <a:lnTo>
                      <a:pt x="48" y="13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38" y="5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6" y="15"/>
                    </a:lnTo>
                    <a:lnTo>
                      <a:pt x="4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972120" y="24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4" y="17"/>
                    </a:moveTo>
                    <a:lnTo>
                      <a:pt x="45" y="17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916680" y="24116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5" y="17"/>
                    </a:moveTo>
                    <a:lnTo>
                      <a:pt x="47" y="17"/>
                    </a:lnTo>
                    <a:lnTo>
                      <a:pt x="49" y="15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15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862680" y="24051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43" y="15"/>
                    </a:moveTo>
                    <a:lnTo>
                      <a:pt x="45" y="15"/>
                    </a:lnTo>
                    <a:lnTo>
                      <a:pt x="47" y="15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807240" y="239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43" y="14"/>
                    </a:moveTo>
                    <a:lnTo>
                      <a:pt x="45" y="14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751440" y="23940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696000" y="2389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45" y="11"/>
                    </a:move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640560" y="2386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5" y="13"/>
                    </a:moveTo>
                    <a:lnTo>
                      <a:pt x="47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84760" y="238464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529320" y="23828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2" name=""/>
            <p:cNvSpPr/>
            <p:nvPr/>
          </p:nvSpPr>
          <p:spPr>
            <a:xfrm>
              <a:off x="4281480" y="23241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243400" y="3781440"/>
              <a:ext cx="42408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338960" y="34052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5" name=""/>
            <p:cNvGrpSpPr/>
            <p:nvPr/>
          </p:nvGrpSpPr>
          <p:grpSpPr>
            <a:xfrm>
              <a:off x="4873680" y="3787920"/>
              <a:ext cx="401400" cy="866520"/>
              <a:chOff x="4873680" y="3787920"/>
              <a:chExt cx="401400" cy="866520"/>
            </a:xfrm>
          </p:grpSpPr>
          <p:sp>
            <p:nvSpPr>
              <p:cNvPr id="2226" name=""/>
              <p:cNvSpPr/>
              <p:nvPr/>
            </p:nvSpPr>
            <p:spPr>
              <a:xfrm>
                <a:off x="4873680" y="44704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979880" y="42307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086440" y="399276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192640" y="37879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"/>
            <p:cNvGrpSpPr/>
            <p:nvPr/>
          </p:nvGrpSpPr>
          <p:grpSpPr>
            <a:xfrm>
              <a:off x="6405480" y="3405240"/>
              <a:ext cx="941400" cy="303120"/>
              <a:chOff x="6405480" y="3405240"/>
              <a:chExt cx="941400" cy="3031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405480" y="3630600"/>
                <a:ext cx="18756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656400" y="355608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07320" y="347976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156440" y="34052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6589800" y="2738520"/>
              <a:ext cx="685800" cy="871560"/>
              <a:chOff x="6589800" y="2738520"/>
              <a:chExt cx="685800" cy="871560"/>
            </a:xfrm>
          </p:grpSpPr>
          <p:sp>
            <p:nvSpPr>
              <p:cNvPr id="2236" name=""/>
              <p:cNvSpPr/>
              <p:nvPr/>
            </p:nvSpPr>
            <p:spPr>
              <a:xfrm>
                <a:off x="6589800" y="34448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751440" y="32385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910200" y="3030480"/>
                <a:ext cx="13680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072200" y="28242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32760" y="2738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5748480" y="4619520"/>
              <a:ext cx="195120" cy="698760"/>
              <a:chOff x="5748480" y="4619520"/>
              <a:chExt cx="195120" cy="698760"/>
            </a:xfrm>
          </p:grpSpPr>
          <p:sp>
            <p:nvSpPr>
              <p:cNvPr id="2242" name=""/>
              <p:cNvSpPr/>
              <p:nvPr/>
            </p:nvSpPr>
            <p:spPr>
              <a:xfrm>
                <a:off x="5875200" y="51278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811840" y="48736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748480" y="46195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7635960" y="3882960"/>
              <a:ext cx="401400" cy="866880"/>
              <a:chOff x="7635960" y="3882960"/>
              <a:chExt cx="401400" cy="866880"/>
            </a:xfrm>
          </p:grpSpPr>
          <p:sp>
            <p:nvSpPr>
              <p:cNvPr id="2246" name=""/>
              <p:cNvSpPr/>
              <p:nvPr/>
            </p:nvSpPr>
            <p:spPr>
              <a:xfrm>
                <a:off x="7635960" y="45655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742160" y="43261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848720" y="40878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954920" y="38829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0" name=""/>
            <p:cNvGrpSpPr/>
            <p:nvPr/>
          </p:nvGrpSpPr>
          <p:grpSpPr>
            <a:xfrm>
              <a:off x="6873840" y="3406680"/>
              <a:ext cx="401760" cy="866880"/>
              <a:chOff x="6873840" y="3406680"/>
              <a:chExt cx="401760" cy="866880"/>
            </a:xfrm>
          </p:grpSpPr>
          <p:sp>
            <p:nvSpPr>
              <p:cNvPr id="2251" name=""/>
              <p:cNvSpPr/>
              <p:nvPr/>
            </p:nvSpPr>
            <p:spPr>
              <a:xfrm>
                <a:off x="6873840" y="40896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980040" y="38498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086600" y="36115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192800" y="340668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5" name=""/>
            <p:cNvGrpSpPr/>
            <p:nvPr/>
          </p:nvGrpSpPr>
          <p:grpSpPr>
            <a:xfrm>
              <a:off x="5734080" y="3716280"/>
              <a:ext cx="658800" cy="750960"/>
              <a:chOff x="5734080" y="3716280"/>
              <a:chExt cx="658800" cy="750960"/>
            </a:xfrm>
          </p:grpSpPr>
          <p:sp>
            <p:nvSpPr>
              <p:cNvPr id="2256" name=""/>
              <p:cNvSpPr/>
              <p:nvPr/>
            </p:nvSpPr>
            <p:spPr>
              <a:xfrm>
                <a:off x="5734080" y="43084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5905440" y="41115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076800" y="39132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251400" y="37162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5257800" y="3022560"/>
              <a:ext cx="588960" cy="682560"/>
              <a:chOff x="5257800" y="3022560"/>
              <a:chExt cx="588960" cy="682560"/>
            </a:xfrm>
          </p:grpSpPr>
          <p:sp>
            <p:nvSpPr>
              <p:cNvPr id="2261" name=""/>
              <p:cNvSpPr/>
              <p:nvPr/>
            </p:nvSpPr>
            <p:spPr>
              <a:xfrm>
                <a:off x="5257800" y="35449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425920" y="33447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597640" y="314640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767200" y="30225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6118200" y="4638600"/>
              <a:ext cx="1533600" cy="687600"/>
              <a:chOff x="6118200" y="4638600"/>
              <a:chExt cx="1533600" cy="687600"/>
            </a:xfrm>
          </p:grpSpPr>
          <p:sp>
            <p:nvSpPr>
              <p:cNvPr id="2266" name=""/>
              <p:cNvSpPr/>
              <p:nvPr/>
            </p:nvSpPr>
            <p:spPr>
              <a:xfrm>
                <a:off x="6118200" y="52293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357960" y="51246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597720" y="501984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38920" y="49132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076880" y="48103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316640" y="47037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558200" y="4638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3" name=""/>
            <p:cNvGrpSpPr/>
            <p:nvPr/>
          </p:nvGrpSpPr>
          <p:grpSpPr>
            <a:xfrm>
              <a:off x="4336920" y="2382840"/>
              <a:ext cx="4353120" cy="3183120"/>
              <a:chOff x="4336920" y="2382840"/>
              <a:chExt cx="4353120" cy="3183120"/>
            </a:xfrm>
          </p:grpSpPr>
          <p:grpSp>
            <p:nvGrpSpPr>
              <p:cNvPr id="2274" name=""/>
              <p:cNvGrpSpPr/>
              <p:nvPr/>
            </p:nvGrpSpPr>
            <p:grpSpPr>
              <a:xfrm>
                <a:off x="4336920" y="2382840"/>
                <a:ext cx="4353120" cy="3183120"/>
                <a:chOff x="4336920" y="2382840"/>
                <a:chExt cx="4353120" cy="3183120"/>
              </a:xfrm>
            </p:grpSpPr>
            <p:sp>
              <p:nvSpPr>
                <p:cNvPr id="2275" name=""/>
                <p:cNvSpPr/>
                <p:nvPr/>
              </p:nvSpPr>
              <p:spPr>
                <a:xfrm>
                  <a:off x="6477120" y="23828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7" y="9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6421320" y="238464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6365880" y="238608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45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6310440" y="238932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6254640" y="239076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6199200" y="239724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6145200" y="240192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6089760" y="240984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6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6035760" y="241632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979960" y="2425680"/>
                  <a:ext cx="39960" cy="126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7" y="16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925960" y="243540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870520" y="244656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816520" y="2459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5" y="10"/>
                      </a:moveTo>
                      <a:lnTo>
                        <a:pt x="47" y="9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762520" y="24717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5" y="10"/>
                      </a:move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710320" y="248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656320" y="25002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13" y="18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603760" y="25178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2">
                      <a:moveTo>
                        <a:pt x="43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51560" y="2535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4" y="10"/>
                      </a:moveTo>
                      <a:lnTo>
                        <a:pt x="45" y="8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25" y="5"/>
                      </a:lnTo>
                      <a:lnTo>
                        <a:pt x="4" y="13"/>
                      </a:lnTo>
                      <a:lnTo>
                        <a:pt x="2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27" y="1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499000" y="2554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448240" y="2573280"/>
                  <a:ext cx="36720" cy="208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7" y="2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39" y="12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396040" y="259560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346720" y="261792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2" y="10"/>
                      </a:move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4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3" y="27"/>
                      </a:lnTo>
                      <a:lnTo>
                        <a:pt x="5" y="27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295960" y="26402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1" y="10"/>
                      </a:move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245200" y="26654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4" y="9"/>
                      </a:move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4" y="19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7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9" y="27"/>
                      </a:lnTo>
                      <a:lnTo>
                        <a:pt x="4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195880" y="2691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3" y="10"/>
                      </a:moveTo>
                      <a:lnTo>
                        <a:pt x="45" y="8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18" y="12"/>
                      </a:lnTo>
                      <a:lnTo>
                        <a:pt x="3" y="20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8" y="28"/>
                      </a:lnTo>
                      <a:lnTo>
                        <a:pt x="23" y="20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148360" y="2718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100480" y="27464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40" y="10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052960" y="2774880"/>
                  <a:ext cx="36720" cy="2556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41" y="10"/>
                      </a:move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1"/>
                      </a:lnTo>
                      <a:lnTo>
                        <a:pt x="1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0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008680" y="280512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2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2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4964040" y="283680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14" y="15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19" y="2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4917960" y="28702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40" y="8"/>
                      </a:moveTo>
                      <a:lnTo>
                        <a:pt x="41" y="6"/>
                      </a:ln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8" y="3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4876920" y="290520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9" y="8"/>
                      </a:move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0" y="2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4834080" y="294012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7" y="8"/>
                      </a:moveTo>
                      <a:lnTo>
                        <a:pt x="38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2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5"/>
                      </a:lnTo>
                      <a:lnTo>
                        <a:pt x="5" y="35"/>
                      </a:lnTo>
                      <a:lnTo>
                        <a:pt x="7" y="35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4792680" y="29764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7" y="10"/>
                      </a:moveTo>
                      <a:lnTo>
                        <a:pt x="39" y="8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2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7" y="37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4753080" y="301464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5" y="9"/>
                      </a:moveTo>
                      <a:lnTo>
                        <a:pt x="37" y="7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2" y="10"/>
                      </a:lnTo>
                      <a:lnTo>
                        <a:pt x="20" y="12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9"/>
                      </a:lnTo>
                      <a:lnTo>
                        <a:pt x="5" y="39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29" y="17"/>
                      </a:lnTo>
                      <a:lnTo>
                        <a:pt x="24" y="14"/>
                      </a:lnTo>
                      <a:lnTo>
                        <a:pt x="27" y="19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4713120" y="305424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7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2" y="35"/>
                      </a:ln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10" y="35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4676760" y="30942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6" y="9"/>
                      </a:move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4640400" y="3135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5" y="6"/>
                      </a:moveTo>
                      <a:lnTo>
                        <a:pt x="36" y="5"/>
                      </a:lnTo>
                      <a:lnTo>
                        <a:pt x="36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1"/>
                      </a:lnTo>
                      <a:lnTo>
                        <a:pt x="13" y="16"/>
                      </a:lnTo>
                      <a:lnTo>
                        <a:pt x="1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21" y="21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4606920" y="3178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5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7" y="3"/>
                      </a:lnTo>
                      <a:lnTo>
                        <a:pt x="2" y="35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2" y="40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7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4575240" y="322272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6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5" y="41"/>
                      </a:lnTo>
                      <a:lnTo>
                        <a:pt x="7" y="41"/>
                      </a:lnTo>
                      <a:lnTo>
                        <a:pt x="9" y="4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4543560" y="326880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32" y="9"/>
                      </a:move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4" y="4"/>
                      </a:lnTo>
                      <a:lnTo>
                        <a:pt x="10" y="20"/>
                      </a:lnTo>
                      <a:lnTo>
                        <a:pt x="2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4"/>
                      </a:lnTo>
                      <a:lnTo>
                        <a:pt x="9" y="44"/>
                      </a:lnTo>
                      <a:lnTo>
                        <a:pt x="10" y="42"/>
                      </a:lnTo>
                      <a:lnTo>
                        <a:pt x="19" y="25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4513320" y="331488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1" h="45">
                      <a:moveTo>
                        <a:pt x="30" y="8"/>
                      </a:move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0" y="3"/>
                      </a:lnTo>
                      <a:lnTo>
                        <a:pt x="28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lnTo>
                        <a:pt x="1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" y="41"/>
                      </a:lnTo>
                      <a:lnTo>
                        <a:pt x="3" y="43"/>
                      </a:lnTo>
                      <a:lnTo>
                        <a:pt x="5" y="45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3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4487760" y="336240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9" h="46">
                      <a:moveTo>
                        <a:pt x="29" y="8"/>
                      </a:move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9" y="43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4460760" y="341172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9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20" y="24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4438800" y="3460680"/>
                  <a:ext cx="20520" cy="3816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6" y="6"/>
                      </a:moveTo>
                      <a:lnTo>
                        <a:pt x="26" y="5"/>
                      </a:ln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4417920" y="351324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25" y="5"/>
                      </a:move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0" y="4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398840" y="356400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23" y="5"/>
                      </a:moveTo>
                      <a:lnTo>
                        <a:pt x="23" y="3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8" y="1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8" y="18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381560" y="3618000"/>
                  <a:ext cx="17280" cy="36360"/>
                </a:xfrm>
                <a:custGeom>
                  <a:avLst/>
                  <a:gdLst/>
                  <a:ahLst/>
                  <a:rect l="l" t="t" r="r" b="b"/>
                  <a:pathLst>
                    <a:path w="22" h="47">
                      <a:moveTo>
                        <a:pt x="22" y="5"/>
                      </a:moveTo>
                      <a:lnTo>
                        <a:pt x="22" y="4"/>
                      </a:lnTo>
                      <a:lnTo>
                        <a:pt x="22" y="2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368960" y="367020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20" y="5"/>
                      </a:move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4" y="28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0" y="45"/>
                      </a:lnTo>
                      <a:lnTo>
                        <a:pt x="14" y="3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356000" y="372420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9" h="49">
                      <a:moveTo>
                        <a:pt x="19" y="5"/>
                      </a:move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7" y="10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2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4346640" y="3778200"/>
                  <a:ext cx="14040" cy="39960"/>
                </a:xfrm>
                <a:custGeom>
                  <a:avLst/>
                  <a:gdLst/>
                  <a:ahLst/>
                  <a:rect l="l" t="t" r="r" b="b"/>
                  <a:pathLst>
                    <a:path w="16" h="50">
                      <a:moveTo>
                        <a:pt x="16" y="5"/>
                      </a:moveTo>
                      <a:lnTo>
                        <a:pt x="16" y="3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1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8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48"/>
                      </a:lnTo>
                      <a:lnTo>
                        <a:pt x="10" y="46"/>
                      </a:lnTo>
                      <a:lnTo>
                        <a:pt x="10" y="45"/>
                      </a:lnTo>
                      <a:lnTo>
                        <a:pt x="11" y="4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341960" y="3834000"/>
                  <a:ext cx="10800" cy="3960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5"/>
                      </a:move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2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8" y="46"/>
                      </a:lnTo>
                      <a:lnTo>
                        <a:pt x="10" y="45"/>
                      </a:lnTo>
                      <a:lnTo>
                        <a:pt x="12" y="23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4338720" y="388944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12" y="7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48"/>
                      </a:lnTo>
                      <a:lnTo>
                        <a:pt x="10" y="4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4336920" y="3944880"/>
                  <a:ext cx="7920" cy="3996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4338720" y="400068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20"/>
                      </a:lnTo>
                      <a:lnTo>
                        <a:pt x="5" y="20"/>
                      </a:lnTo>
                      <a:lnTo>
                        <a:pt x="10" y="22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338720" y="405612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4346640" y="411156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33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2" y="48"/>
                      </a:lnTo>
                      <a:lnTo>
                        <a:pt x="13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3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352760" y="4167360"/>
                  <a:ext cx="14400" cy="37800"/>
                </a:xfrm>
                <a:custGeom>
                  <a:avLst/>
                  <a:gdLst/>
                  <a:ahLst/>
                  <a:rect l="l" t="t" r="r" b="b"/>
                  <a:pathLst>
                    <a:path w="19" h="48">
                      <a:moveTo>
                        <a:pt x="10" y="3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15"/>
                      </a:lnTo>
                      <a:lnTo>
                        <a:pt x="9" y="45"/>
                      </a:lnTo>
                      <a:lnTo>
                        <a:pt x="9" y="47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5" y="48"/>
                      </a:lnTo>
                      <a:lnTo>
                        <a:pt x="17" y="47"/>
                      </a:lnTo>
                      <a:lnTo>
                        <a:pt x="19" y="45"/>
                      </a:lnTo>
                      <a:lnTo>
                        <a:pt x="19" y="43"/>
                      </a:lnTo>
                      <a:lnTo>
                        <a:pt x="12" y="1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4362480" y="4221360"/>
                  <a:ext cx="15840" cy="3780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0" y="45"/>
                      </a:lnTo>
                      <a:lnTo>
                        <a:pt x="10" y="47"/>
                      </a:lnTo>
                      <a:lnTo>
                        <a:pt x="11" y="49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6" y="49"/>
                      </a:lnTo>
                      <a:lnTo>
                        <a:pt x="18" y="47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376880" y="4275360"/>
                  <a:ext cx="17280" cy="37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6"/>
                      </a:lnTo>
                      <a:lnTo>
                        <a:pt x="12" y="43"/>
                      </a:lnTo>
                      <a:lnTo>
                        <a:pt x="12" y="45"/>
                      </a:lnTo>
                      <a:lnTo>
                        <a:pt x="14" y="46"/>
                      </a:lnTo>
                      <a:lnTo>
                        <a:pt x="15" y="48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20" y="45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15" y="25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4392720" y="432756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9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4" y="44"/>
                      </a:lnTo>
                      <a:lnTo>
                        <a:pt x="24" y="4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4410000" y="438156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3" y="43"/>
                      </a:lnTo>
                      <a:lnTo>
                        <a:pt x="15" y="45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3" y="43"/>
                      </a:lnTo>
                      <a:lnTo>
                        <a:pt x="23" y="4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4430520" y="4432320"/>
                  <a:ext cx="1908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0"/>
                      </a:lnTo>
                      <a:lnTo>
                        <a:pt x="15" y="42"/>
                      </a:lnTo>
                      <a:lnTo>
                        <a:pt x="16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5" y="42"/>
                      </a:lnTo>
                      <a:lnTo>
                        <a:pt x="25" y="40"/>
                      </a:lnTo>
                      <a:lnTo>
                        <a:pt x="15" y="1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4452840" y="4483080"/>
                  <a:ext cx="2088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7" y="42"/>
                      </a:lnTo>
                      <a:lnTo>
                        <a:pt x="17" y="44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4476600" y="4532400"/>
                  <a:ext cx="24120" cy="3636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0" y="43"/>
                      </a:lnTo>
                      <a:lnTo>
                        <a:pt x="22" y="45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7" y="45"/>
                      </a:lnTo>
                      <a:lnTo>
                        <a:pt x="28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38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4503600" y="4581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10" y="2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17"/>
                      </a:lnTo>
                      <a:lnTo>
                        <a:pt x="22" y="42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9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15" y="12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4532400" y="462924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4562280" y="4675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9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4" y="40"/>
                      </a:lnTo>
                      <a:lnTo>
                        <a:pt x="25" y="41"/>
                      </a:lnTo>
                      <a:lnTo>
                        <a:pt x="27" y="43"/>
                      </a:lnTo>
                      <a:lnTo>
                        <a:pt x="29" y="43"/>
                      </a:lnTo>
                      <a:lnTo>
                        <a:pt x="30" y="41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6"/>
                      </a:lnTo>
                      <a:lnTo>
                        <a:pt x="32" y="3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4594320" y="472140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9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7" y="17"/>
                      </a:lnTo>
                      <a:lnTo>
                        <a:pt x="25" y="40"/>
                      </a:lnTo>
                      <a:lnTo>
                        <a:pt x="27" y="42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15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4629240" y="47656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lnTo>
                        <a:pt x="26" y="40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3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4664160" y="48085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7" y="39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40"/>
                      </a:lnTo>
                      <a:lnTo>
                        <a:pt x="35" y="39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5" y="3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4700520" y="484992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8" y="1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6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1"/>
                      </a:lnTo>
                      <a:lnTo>
                        <a:pt x="18" y="13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4738680" y="4889520"/>
                  <a:ext cx="30240" cy="316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8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8" y="35"/>
                      </a:lnTo>
                      <a:lnTo>
                        <a:pt x="38" y="33"/>
                      </a:lnTo>
                      <a:lnTo>
                        <a:pt x="37" y="31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4776840" y="49291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34" y="36"/>
                      </a:lnTo>
                      <a:lnTo>
                        <a:pt x="35" y="36"/>
                      </a:lnTo>
                      <a:lnTo>
                        <a:pt x="37" y="36"/>
                      </a:lnTo>
                      <a:lnTo>
                        <a:pt x="39" y="36"/>
                      </a:lnTo>
                      <a:lnTo>
                        <a:pt x="40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40" y="30"/>
                      </a:lnTo>
                      <a:lnTo>
                        <a:pt x="39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817880" y="4967280"/>
                  <a:ext cx="3204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22" y="27"/>
                      </a:ln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8" y="37"/>
                      </a:lnTo>
                      <a:lnTo>
                        <a:pt x="40" y="35"/>
                      </a:lnTo>
                      <a:lnTo>
                        <a:pt x="40" y="34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9"/>
                      </a:lnTo>
                      <a:lnTo>
                        <a:pt x="27" y="1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4861080" y="50040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4" y="35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9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902120" y="50403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35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4946760" y="50738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35" y="34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0" y="34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4991040" y="51069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5" y="32"/>
                      </a:lnTo>
                      <a:lnTo>
                        <a:pt x="37" y="32"/>
                      </a:lnTo>
                      <a:lnTo>
                        <a:pt x="39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037120" y="513864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5" y="18"/>
                      </a:lnTo>
                      <a:lnTo>
                        <a:pt x="35" y="30"/>
                      </a:lnTo>
                      <a:lnTo>
                        <a:pt x="36" y="32"/>
                      </a:lnTo>
                      <a:lnTo>
                        <a:pt x="38" y="32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40" y="22"/>
                      </a:lnTo>
                      <a:lnTo>
                        <a:pt x="20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084640" y="516744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7" y="1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2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2" y="23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130720" y="5199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9" y="28"/>
                      </a:ln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180040" y="5226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7" y="28"/>
                      </a:ln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2" y="28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3" y="22"/>
                      </a:lnTo>
                      <a:lnTo>
                        <a:pt x="42" y="2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227560" y="52531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1" y="29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3" y="22"/>
                      </a:lnTo>
                      <a:lnTo>
                        <a:pt x="41" y="2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276880" y="527832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24" y="22"/>
                      </a:lnTo>
                      <a:lnTo>
                        <a:pt x="25" y="22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27" y="12"/>
                      </a:lnTo>
                      <a:lnTo>
                        <a:pt x="27" y="17"/>
                      </a:lnTo>
                      <a:lnTo>
                        <a:pt x="29" y="1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327640" y="53024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40" y="26"/>
                      </a:lnTo>
                      <a:lnTo>
                        <a:pt x="41" y="26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5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1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378400" y="53262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10" y="11"/>
                      </a:lnTo>
                      <a:lnTo>
                        <a:pt x="40" y="25"/>
                      </a:lnTo>
                      <a:lnTo>
                        <a:pt x="42" y="25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2" y="15"/>
                      </a:lnTo>
                      <a:lnTo>
                        <a:pt x="12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427720" y="5348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4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479920" y="536904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530680" y="538956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584680" y="5407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42" y="24"/>
                      </a:ln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637240" y="542448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6" y="22"/>
                      </a:lnTo>
                      <a:lnTo>
                        <a:pt x="41" y="23"/>
                      </a:ln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38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689440" y="544212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6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1"/>
                      </a:lnTo>
                      <a:lnTo>
                        <a:pt x="44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43440" y="545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28" y="17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7" y="12"/>
                      </a:lnTo>
                      <a:lnTo>
                        <a:pt x="45" y="10"/>
                      </a:lnTo>
                      <a:lnTo>
                        <a:pt x="3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97440" y="54705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7" y="10"/>
                      </a:lnTo>
                      <a:lnTo>
                        <a:pt x="4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851440" y="548496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18" y="13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6" y="10"/>
                      </a:lnTo>
                      <a:lnTo>
                        <a:pt x="45" y="8"/>
                      </a:lnTo>
                      <a:lnTo>
                        <a:pt x="2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905440" y="549612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7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5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959440" y="55069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12" y="12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9" y="10"/>
                      </a:lnTo>
                      <a:lnTo>
                        <a:pt x="47" y="9"/>
                      </a:lnTo>
                      <a:lnTo>
                        <a:pt x="45" y="7"/>
                      </a:lnTo>
                      <a:lnTo>
                        <a:pt x="1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6013440" y="551664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3" y="17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48" y="10"/>
                      </a:lnTo>
                      <a:lnTo>
                        <a:pt x="46" y="8"/>
                      </a:lnTo>
                      <a:lnTo>
                        <a:pt x="45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6068880" y="5524560"/>
                  <a:ext cx="399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43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8" y="13"/>
                      </a:lnTo>
                      <a:lnTo>
                        <a:pt x="48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124680" y="55324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6180120" y="554040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7" y="13"/>
                      </a:lnTo>
                      <a:lnTo>
                        <a:pt x="48" y="12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7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6235560" y="554508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8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6291360" y="555012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2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48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6346800" y="555300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640080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6456240" y="5556240"/>
                  <a:ext cx="39960" cy="972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9" y="10"/>
                      </a:lnTo>
                      <a:lnTo>
                        <a:pt x="50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1"/>
                      </a:lnTo>
                      <a:lnTo>
                        <a:pt x="4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6512040" y="55580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656748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6622920" y="5554800"/>
                  <a:ext cx="3996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6678720" y="555156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6734160" y="5548320"/>
                  <a:ext cx="39600" cy="972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6789600" y="554184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6845400" y="553572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6900840" y="5527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4" y="5"/>
                      </a:move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6954840" y="55198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5" y="7"/>
                      </a:move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7010280" y="55101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7064280" y="5500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7118280" y="548820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50" h="18">
                      <a:moveTo>
                        <a:pt x="5" y="8"/>
                      </a:move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7172280" y="54752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5" y="10"/>
                      </a:move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20"/>
                      </a:lnTo>
                      <a:lnTo>
                        <a:pt x="6" y="20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7227720" y="546120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7280280" y="54450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5" y="11"/>
                      </a:move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7334280" y="54309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32" y="14"/>
                      </a:lnTo>
                      <a:lnTo>
                        <a:pt x="43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0" y="4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7386480" y="541332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3" y="13"/>
                      </a:move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5" y="23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7440480" y="53960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" y="14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20" y="19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491240" y="5375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5" y="14"/>
                      </a:move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7545240" y="53546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3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7" y="25"/>
                      </a:lnTo>
                      <a:lnTo>
                        <a:pt x="42" y="10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5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7594560" y="5334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15"/>
                      </a:moveTo>
                      <a:lnTo>
                        <a:pt x="4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44" y="10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7647120" y="5310360"/>
                  <a:ext cx="36360" cy="2196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42" y="10"/>
                      </a:lnTo>
                      <a:lnTo>
                        <a:pt x="44" y="8"/>
                      </a:lnTo>
                      <a:lnTo>
                        <a:pt x="45" y="6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7696080" y="5286600"/>
                  <a:ext cx="38160" cy="2196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3" y="16"/>
                      </a:move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40" y="10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40" y="5"/>
                      </a:lnTo>
                      <a:lnTo>
                        <a:pt x="38" y="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7746840" y="526104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2" y="20"/>
                      </a:move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7" y="29"/>
                      </a:lnTo>
                      <a:lnTo>
                        <a:pt x="42" y="10"/>
                      </a:ln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3" y="4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2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7796160" y="5235480"/>
                  <a:ext cx="349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25" y="18"/>
                      </a:lnTo>
                      <a:lnTo>
                        <a:pt x="41" y="8"/>
                      </a:lnTo>
                      <a:lnTo>
                        <a:pt x="43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20" y="10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7845480" y="5207040"/>
                  <a:ext cx="33120" cy="23760"/>
                </a:xfrm>
                <a:custGeom>
                  <a:avLst/>
                  <a:gdLst/>
                  <a:ahLst/>
                  <a:rect l="l" t="t" r="r" b="b"/>
                  <a:pathLst>
                    <a:path w="44" h="30">
                      <a:moveTo>
                        <a:pt x="2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2" y="28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7" y="28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7893000" y="517860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2" y="22"/>
                      </a:move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0"/>
                      </a:lnTo>
                      <a:lnTo>
                        <a:pt x="42" y="8"/>
                      </a:lnTo>
                      <a:lnTo>
                        <a:pt x="44" y="7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7939080" y="5148360"/>
                  <a:ext cx="34920" cy="2520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3" y="23"/>
                      </a:moveTo>
                      <a:lnTo>
                        <a:pt x="1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1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7986600" y="5118120"/>
                  <a:ext cx="33480" cy="2556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6" y="32"/>
                      </a:lnTo>
                      <a:lnTo>
                        <a:pt x="40" y="9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8031240" y="50846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" y="25"/>
                      </a:move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9" y="33"/>
                      </a:lnTo>
                      <a:lnTo>
                        <a:pt x="27" y="20"/>
                      </a:lnTo>
                      <a:lnTo>
                        <a:pt x="40" y="10"/>
                      </a:lnTo>
                      <a:lnTo>
                        <a:pt x="42" y="8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1"/>
                      </a:lnTo>
                      <a:lnTo>
                        <a:pt x="22" y="11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077320" y="505152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2" y="25"/>
                      </a:move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38" y="8"/>
                      </a:lnTo>
                      <a:lnTo>
                        <a:pt x="40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2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120160" y="50166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5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2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8163000" y="497988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4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8204040" y="4942080"/>
                  <a:ext cx="32040" cy="298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" y="28"/>
                      </a:move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6" y="36"/>
                      </a:lnTo>
                      <a:lnTo>
                        <a:pt x="36" y="10"/>
                      </a:lnTo>
                      <a:lnTo>
                        <a:pt x="38" y="8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3"/>
                      </a:lnTo>
                      <a:lnTo>
                        <a:pt x="36" y="1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1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8244000" y="49039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" y="30"/>
                      </a:moveTo>
                      <a:lnTo>
                        <a:pt x="1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7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15" y="32"/>
                      </a:lnTo>
                      <a:lnTo>
                        <a:pt x="16" y="30"/>
                      </a:ln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6" y="2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30" y="4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10" y="24"/>
                      </a:lnTo>
                      <a:lnTo>
                        <a:pt x="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8283600" y="486432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2"/>
                      </a:move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36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8323200" y="4822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0" y="31"/>
                      </a:move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38"/>
                      </a:lnTo>
                      <a:lnTo>
                        <a:pt x="8" y="36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8358120" y="478008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22" y="25"/>
                      </a:lnTo>
                      <a:lnTo>
                        <a:pt x="35" y="7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2"/>
                      </a:lnTo>
                      <a:lnTo>
                        <a:pt x="13" y="20"/>
                      </a:lnTo>
                      <a:lnTo>
                        <a:pt x="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8394840" y="473724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2" y="40"/>
                      </a:lnTo>
                      <a:lnTo>
                        <a:pt x="3" y="42"/>
                      </a:lnTo>
                      <a:lnTo>
                        <a:pt x="5" y="42"/>
                      </a:lnTo>
                      <a:lnTo>
                        <a:pt x="7" y="40"/>
                      </a:lnTo>
                      <a:lnTo>
                        <a:pt x="8" y="39"/>
                      </a:lnTo>
                      <a:lnTo>
                        <a:pt x="33" y="7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3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8426520" y="469116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" y="35"/>
                      </a:move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1" y="40"/>
                      </a:lnTo>
                      <a:lnTo>
                        <a:pt x="3" y="41"/>
                      </a:lnTo>
                      <a:lnTo>
                        <a:pt x="5" y="41"/>
                      </a:lnTo>
                      <a:lnTo>
                        <a:pt x="6" y="41"/>
                      </a:lnTo>
                      <a:lnTo>
                        <a:pt x="8" y="41"/>
                      </a:lnTo>
                      <a:lnTo>
                        <a:pt x="10" y="40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33" y="1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8459640" y="464508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0" y="35"/>
                      </a:move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2"/>
                      </a:lnTo>
                      <a:lnTo>
                        <a:pt x="9" y="40"/>
                      </a:lnTo>
                      <a:lnTo>
                        <a:pt x="20" y="25"/>
                      </a:lnTo>
                      <a:lnTo>
                        <a:pt x="30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12" y="2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8489880" y="459756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2" y="37"/>
                      </a:move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3" y="44"/>
                      </a:lnTo>
                      <a:lnTo>
                        <a:pt x="5" y="45"/>
                      </a:lnTo>
                      <a:lnTo>
                        <a:pt x="7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30" y="9"/>
                      </a:ln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0" y="4"/>
                      </a:lnTo>
                      <a:lnTo>
                        <a:pt x="28" y="2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8518680" y="4548240"/>
                  <a:ext cx="21960" cy="3816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8545320" y="4500720"/>
                  <a:ext cx="20880" cy="36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7" y="28"/>
                      </a:lnTo>
                      <a:lnTo>
                        <a:pt x="17" y="27"/>
                      </a:ln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2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7" y="25"/>
                      </a:lnTo>
                      <a:lnTo>
                        <a:pt x="12" y="27"/>
                      </a:lnTo>
                      <a:lnTo>
                        <a:pt x="8" y="2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8569440" y="4449960"/>
                  <a:ext cx="20520" cy="36360"/>
                </a:xfrm>
                <a:custGeom>
                  <a:avLst/>
                  <a:gdLst/>
                  <a:ahLst/>
                  <a:rect l="l" t="t" r="r" b="b"/>
                  <a:pathLst>
                    <a:path w="27" h="46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8591400" y="439740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9" y="45"/>
                      </a:lnTo>
                      <a:lnTo>
                        <a:pt x="10" y="43"/>
                      </a:ln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8610480" y="4345200"/>
                  <a:ext cx="19080" cy="37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43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4" y="35"/>
                      </a:lnTo>
                      <a:lnTo>
                        <a:pt x="24" y="7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4" y="3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8628120" y="429264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2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8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3" y="4"/>
                      </a:lnTo>
                      <a:lnTo>
                        <a:pt x="12" y="5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8643960" y="423864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5" y="21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5" y="2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8656560" y="418464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6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0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0" y="3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8666280" y="4129200"/>
                  <a:ext cx="14040" cy="39600"/>
                </a:xfrm>
                <a:custGeom>
                  <a:avLst/>
                  <a:gdLst/>
                  <a:ahLst/>
                  <a:rect l="l" t="t" r="r" b="b"/>
                  <a:pathLst>
                    <a:path w="17" h="50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8674200" y="407340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4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30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29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8680320" y="401796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8682120" y="396252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0" y="47"/>
                      </a:moveTo>
                      <a:lnTo>
                        <a:pt x="0" y="49"/>
                      </a:lnTo>
                      <a:lnTo>
                        <a:pt x="2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1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8680320" y="3906720"/>
                  <a:ext cx="9720" cy="399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" y="47"/>
                      </a:move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1" y="47"/>
                      </a:lnTo>
                      <a:lnTo>
                        <a:pt x="11" y="45"/>
                      </a:lnTo>
                      <a:lnTo>
                        <a:pt x="11" y="34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35"/>
                      </a:lnTo>
                      <a:lnTo>
                        <a:pt x="1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8677080" y="38530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3" y="45"/>
                      </a:moveTo>
                      <a:lnTo>
                        <a:pt x="3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1" y="47"/>
                      </a:lnTo>
                      <a:lnTo>
                        <a:pt x="13" y="45"/>
                      </a:lnTo>
                      <a:lnTo>
                        <a:pt x="13" y="43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8669160" y="37972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5" y="45"/>
                      </a:moveTo>
                      <a:lnTo>
                        <a:pt x="6" y="47"/>
                      </a:lnTo>
                      <a:lnTo>
                        <a:pt x="8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18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20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8659800" y="374328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8" y="45"/>
                      </a:move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7" y="46"/>
                      </a:lnTo>
                      <a:lnTo>
                        <a:pt x="18" y="45"/>
                      </a:lnTo>
                      <a:lnTo>
                        <a:pt x="18" y="43"/>
                      </a:lnTo>
                      <a:lnTo>
                        <a:pt x="17" y="36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38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8648640" y="368928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4"/>
                      </a:moveTo>
                      <a:lnTo>
                        <a:pt x="10" y="45"/>
                      </a:lnTo>
                      <a:lnTo>
                        <a:pt x="12" y="47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7" y="47"/>
                      </a:lnTo>
                      <a:lnTo>
                        <a:pt x="18" y="45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8632800" y="363528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1" h="48">
                      <a:moveTo>
                        <a:pt x="11" y="45"/>
                      </a:moveTo>
                      <a:lnTo>
                        <a:pt x="11" y="47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20" y="47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16" y="25"/>
                      </a:ln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6" y="27"/>
                      </a:lnTo>
                      <a:lnTo>
                        <a:pt x="1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8616960" y="358128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13" y="44"/>
                      </a:moveTo>
                      <a:lnTo>
                        <a:pt x="13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8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3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8596440" y="353052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5" y="44"/>
                      </a:moveTo>
                      <a:lnTo>
                        <a:pt x="17" y="45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25" y="45"/>
                      </a:lnTo>
                      <a:lnTo>
                        <a:pt x="25" y="44"/>
                      </a:lnTo>
                      <a:lnTo>
                        <a:pt x="25" y="42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8575560" y="3478320"/>
                  <a:ext cx="20880" cy="381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4"/>
                      </a:ln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22" y="30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2" y="32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8553600" y="342900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8526600" y="337968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45">
                      <a:moveTo>
                        <a:pt x="20" y="42"/>
                      </a:moveTo>
                      <a:lnTo>
                        <a:pt x="21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4"/>
                      </a:lnTo>
                      <a:lnTo>
                        <a:pt x="28" y="42"/>
                      </a:lnTo>
                      <a:lnTo>
                        <a:pt x="28" y="40"/>
                      </a:lnTo>
                      <a:lnTo>
                        <a:pt x="28" y="39"/>
                      </a:lnTo>
                      <a:lnTo>
                        <a:pt x="28" y="37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8497800" y="333072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1" y="43"/>
                      </a:move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5"/>
                      </a:lnTo>
                      <a:lnTo>
                        <a:pt x="28" y="45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38"/>
                      </a:lnTo>
                      <a:lnTo>
                        <a:pt x="26" y="30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8" y="35"/>
                      </a:lnTo>
                      <a:lnTo>
                        <a:pt x="2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8469360" y="3284640"/>
                  <a:ext cx="23760" cy="3312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2" y="42"/>
                      </a:move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0" y="40"/>
                      </a:lnTo>
                      <a:lnTo>
                        <a:pt x="30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8437680" y="323856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3">
                      <a:moveTo>
                        <a:pt x="23" y="40"/>
                      </a:moveTo>
                      <a:lnTo>
                        <a:pt x="25" y="42"/>
                      </a:lnTo>
                      <a:lnTo>
                        <a:pt x="27" y="43"/>
                      </a:lnTo>
                      <a:lnTo>
                        <a:pt x="28" y="43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2" y="3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8404200" y="319392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34" y="33"/>
                      </a:lnTo>
                      <a:lnTo>
                        <a:pt x="29" y="28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3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8370720" y="3151080"/>
                  <a:ext cx="27000" cy="32040"/>
                </a:xfrm>
                <a:custGeom>
                  <a:avLst/>
                  <a:gdLst/>
                  <a:ahLst/>
                  <a:rect l="l" t="t" r="r" b="b"/>
                  <a:pathLst>
                    <a:path w="35" h="40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8332920" y="3108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9" y="36"/>
                      </a:moveTo>
                      <a:lnTo>
                        <a:pt x="30" y="38"/>
                      </a:lnTo>
                      <a:lnTo>
                        <a:pt x="32" y="40"/>
                      </a:lnTo>
                      <a:lnTo>
                        <a:pt x="34" y="40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8296200" y="306720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28" y="37"/>
                      </a:move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7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2"/>
                      </a:lnTo>
                      <a:lnTo>
                        <a:pt x="28" y="2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28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8258040" y="302724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29" y="37"/>
                      </a:move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4" y="38"/>
                      </a:lnTo>
                      <a:lnTo>
                        <a:pt x="35" y="38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2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8217000" y="298944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31" y="36"/>
                      </a:moveTo>
                      <a:lnTo>
                        <a:pt x="33" y="36"/>
                      </a:lnTo>
                      <a:lnTo>
                        <a:pt x="35" y="36"/>
                      </a:lnTo>
                      <a:lnTo>
                        <a:pt x="36" y="36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38" y="30"/>
                      </a:lnTo>
                      <a:lnTo>
                        <a:pt x="36" y="28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8175600" y="295272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2" y="35"/>
                      </a:move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5"/>
                      </a:lnTo>
                      <a:lnTo>
                        <a:pt x="38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8"/>
                      </a:lnTo>
                      <a:lnTo>
                        <a:pt x="37" y="27"/>
                      </a:lnTo>
                      <a:lnTo>
                        <a:pt x="22" y="1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17" y="2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8132760" y="291636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3" y="35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8" y="2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3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8089920" y="28814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3">
                      <a:moveTo>
                        <a:pt x="33" y="33"/>
                      </a:move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8" y="33"/>
                      </a:lnTo>
                      <a:lnTo>
                        <a:pt x="40" y="31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0" y="26"/>
                      </a:lnTo>
                      <a:lnTo>
                        <a:pt x="38" y="25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8045280" y="2847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33" y="34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4"/>
                      </a:lnTo>
                      <a:lnTo>
                        <a:pt x="40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8" y="25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7999560" y="281628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4">
                      <a:moveTo>
                        <a:pt x="35" y="32"/>
                      </a:moveTo>
                      <a:lnTo>
                        <a:pt x="37" y="34"/>
                      </a:lnTo>
                      <a:lnTo>
                        <a:pt x="39" y="34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3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7953480" y="27860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37" y="30"/>
                      </a:moveTo>
                      <a:lnTo>
                        <a:pt x="38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2" y="22"/>
                      </a:lnTo>
                      <a:lnTo>
                        <a:pt x="30" y="13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25" y="22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7907400" y="27543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36" y="31"/>
                      </a:move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1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7859520" y="27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36" y="28"/>
                      </a:move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3" y="21"/>
                      </a:lnTo>
                      <a:lnTo>
                        <a:pt x="41" y="2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7810560" y="269892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8" y="28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3" y="2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7761240" y="267336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9" y="29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7711920" y="26496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36" y="27"/>
                      </a:moveTo>
                      <a:lnTo>
                        <a:pt x="38" y="27"/>
                      </a:lnTo>
                      <a:lnTo>
                        <a:pt x="40" y="27"/>
                      </a:lnTo>
                      <a:lnTo>
                        <a:pt x="41" y="27"/>
                      </a:lnTo>
                      <a:lnTo>
                        <a:pt x="43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3" y="20"/>
                      </a:lnTo>
                      <a:lnTo>
                        <a:pt x="41" y="19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18" y="17"/>
                      </a:lnTo>
                      <a:lnTo>
                        <a:pt x="20" y="12"/>
                      </a:lnTo>
                      <a:lnTo>
                        <a:pt x="16" y="15"/>
                      </a:lnTo>
                      <a:lnTo>
                        <a:pt x="3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7661160" y="26258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1" y="27"/>
                      </a:move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6" y="24"/>
                      </a:lnTo>
                      <a:lnTo>
                        <a:pt x="46" y="22"/>
                      </a:lnTo>
                      <a:lnTo>
                        <a:pt x="46" y="20"/>
                      </a:lnTo>
                      <a:lnTo>
                        <a:pt x="46" y="19"/>
                      </a:lnTo>
                      <a:lnTo>
                        <a:pt x="45" y="17"/>
                      </a:lnTo>
                      <a:lnTo>
                        <a:pt x="43" y="1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7610400" y="26035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39" y="1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37" y="23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7559640" y="257976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2" y="26"/>
                      </a:moveTo>
                      <a:lnTo>
                        <a:pt x="44" y="26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6"/>
                      </a:lnTo>
                      <a:lnTo>
                        <a:pt x="44" y="16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7507440" y="256068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6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7456320" y="25416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2" y="24"/>
                      </a:moveTo>
                      <a:lnTo>
                        <a:pt x="44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4" y="14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7402320" y="2524320"/>
                  <a:ext cx="39960" cy="172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1" y="23"/>
                      </a:move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7350120" y="250668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2" y="24"/>
                      </a:move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10" y="12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7297560" y="249228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2" y="20"/>
                      </a:move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2"/>
                      </a:lnTo>
                      <a:lnTo>
                        <a:pt x="44" y="1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5" name=""/>
              <p:cNvSpPr/>
              <p:nvPr/>
            </p:nvSpPr>
            <p:spPr>
              <a:xfrm>
                <a:off x="7243920" y="24764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3" y="22"/>
                    </a:move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5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188120" y="24624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6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135920" y="24512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3" y="19"/>
                    </a:move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30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28" y="15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080120" y="24382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7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7" y="10"/>
                    </a:lnTo>
                    <a:lnTo>
                      <a:pt x="45" y="9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026120" y="242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43" y="16"/>
                    </a:moveTo>
                    <a:lnTo>
                      <a:pt x="45" y="16"/>
                    </a:lnTo>
                    <a:lnTo>
                      <a:pt x="46" y="15"/>
                    </a:lnTo>
                    <a:lnTo>
                      <a:pt x="48" y="13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38" y="5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6" y="15"/>
                    </a:lnTo>
                    <a:lnTo>
                      <a:pt x="4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972120" y="24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4" y="17"/>
                    </a:moveTo>
                    <a:lnTo>
                      <a:pt x="45" y="17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916680" y="24116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5" y="17"/>
                    </a:moveTo>
                    <a:lnTo>
                      <a:pt x="47" y="17"/>
                    </a:lnTo>
                    <a:lnTo>
                      <a:pt x="49" y="15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15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862680" y="24051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43" y="15"/>
                    </a:moveTo>
                    <a:lnTo>
                      <a:pt x="45" y="15"/>
                    </a:lnTo>
                    <a:lnTo>
                      <a:pt x="47" y="15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807240" y="239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43" y="14"/>
                    </a:moveTo>
                    <a:lnTo>
                      <a:pt x="45" y="14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751440" y="23940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696000" y="2389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45" y="11"/>
                    </a:move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640560" y="2386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5" y="13"/>
                    </a:moveTo>
                    <a:lnTo>
                      <a:pt x="47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584760" y="238464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529320" y="23828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9" name=""/>
            <p:cNvGrpSpPr/>
            <p:nvPr/>
          </p:nvGrpSpPr>
          <p:grpSpPr>
            <a:xfrm>
              <a:off x="4940280" y="3516480"/>
              <a:ext cx="609480" cy="457200"/>
              <a:chOff x="4940280" y="3516480"/>
              <a:chExt cx="609480" cy="457200"/>
            </a:xfrm>
          </p:grpSpPr>
          <p:sp>
            <p:nvSpPr>
              <p:cNvPr id="2490" name=""/>
              <p:cNvSpPr/>
              <p:nvPr/>
            </p:nvSpPr>
            <p:spPr>
              <a:xfrm>
                <a:off x="4964760" y="37616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91" name=""/>
              <p:cNvGrpSpPr/>
              <p:nvPr/>
            </p:nvGrpSpPr>
            <p:grpSpPr>
              <a:xfrm>
                <a:off x="4940280" y="3516480"/>
                <a:ext cx="609480" cy="457200"/>
                <a:chOff x="4940280" y="3516480"/>
                <a:chExt cx="609480" cy="457200"/>
              </a:xfrm>
            </p:grpSpPr>
            <p:sp>
              <p:nvSpPr>
                <p:cNvPr id="2492" name=""/>
                <p:cNvSpPr/>
                <p:nvPr/>
              </p:nvSpPr>
              <p:spPr>
                <a:xfrm>
                  <a:off x="5148360" y="3570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5148360" y="3623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5148360" y="3839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5148360" y="38930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4947840" y="37047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5181840" y="3516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5181840" y="3785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4981320" y="3623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V="1">
                  <a:off x="4981320" y="3785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H="1">
                  <a:off x="4940280" y="37137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2" name=""/>
            <p:cNvGrpSpPr/>
            <p:nvPr/>
          </p:nvGrpSpPr>
          <p:grpSpPr>
            <a:xfrm>
              <a:off x="5397480" y="4278240"/>
              <a:ext cx="609480" cy="457200"/>
              <a:chOff x="5397480" y="4278240"/>
              <a:chExt cx="609480" cy="457200"/>
            </a:xfrm>
          </p:grpSpPr>
          <p:sp>
            <p:nvSpPr>
              <p:cNvPr id="2503" name=""/>
              <p:cNvSpPr/>
              <p:nvPr/>
            </p:nvSpPr>
            <p:spPr>
              <a:xfrm>
                <a:off x="5421960" y="45234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4" name=""/>
              <p:cNvGrpSpPr/>
              <p:nvPr/>
            </p:nvGrpSpPr>
            <p:grpSpPr>
              <a:xfrm>
                <a:off x="5397480" y="4278240"/>
                <a:ext cx="609480" cy="457200"/>
                <a:chOff x="5397480" y="4278240"/>
                <a:chExt cx="609480" cy="457200"/>
              </a:xfrm>
            </p:grpSpPr>
            <p:sp>
              <p:nvSpPr>
                <p:cNvPr id="2505" name=""/>
                <p:cNvSpPr/>
                <p:nvPr/>
              </p:nvSpPr>
              <p:spPr>
                <a:xfrm>
                  <a:off x="5605560" y="4331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5605560" y="4385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5605560" y="4601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5605560" y="4654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5405040" y="44665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5639040" y="4278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5639040" y="45471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5438520" y="4385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V="1">
                  <a:off x="5438520" y="4547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flipH="1">
                  <a:off x="5397480" y="44755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5" name=""/>
            <p:cNvGrpSpPr/>
            <p:nvPr/>
          </p:nvGrpSpPr>
          <p:grpSpPr>
            <a:xfrm>
              <a:off x="7074000" y="3059280"/>
              <a:ext cx="609480" cy="457200"/>
              <a:chOff x="7074000" y="3059280"/>
              <a:chExt cx="609480" cy="457200"/>
            </a:xfrm>
          </p:grpSpPr>
          <p:sp>
            <p:nvSpPr>
              <p:cNvPr id="2516" name=""/>
              <p:cNvSpPr/>
              <p:nvPr/>
            </p:nvSpPr>
            <p:spPr>
              <a:xfrm>
                <a:off x="7098480" y="33044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17" name=""/>
              <p:cNvGrpSpPr/>
              <p:nvPr/>
            </p:nvGrpSpPr>
            <p:grpSpPr>
              <a:xfrm>
                <a:off x="7074000" y="3059280"/>
                <a:ext cx="609480" cy="457200"/>
                <a:chOff x="7074000" y="3059280"/>
                <a:chExt cx="609480" cy="45720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7282080" y="3112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7282080" y="3166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7282080" y="338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282080" y="3435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7081560" y="32475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7315560" y="3059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315560" y="3328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115040" y="3166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flipV="1">
                  <a:off x="7115040" y="3328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flipH="1">
                  <a:off x="7074000" y="3256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8" name=""/>
            <p:cNvGrpSpPr/>
            <p:nvPr/>
          </p:nvGrpSpPr>
          <p:grpSpPr>
            <a:xfrm>
              <a:off x="7378560" y="4430880"/>
              <a:ext cx="609840" cy="457200"/>
              <a:chOff x="7378560" y="4430880"/>
              <a:chExt cx="609840" cy="457200"/>
            </a:xfrm>
          </p:grpSpPr>
          <p:sp>
            <p:nvSpPr>
              <p:cNvPr id="2529" name=""/>
              <p:cNvSpPr/>
              <p:nvPr/>
            </p:nvSpPr>
            <p:spPr>
              <a:xfrm>
                <a:off x="7403040" y="46760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30" name=""/>
              <p:cNvGrpSpPr/>
              <p:nvPr/>
            </p:nvGrpSpPr>
            <p:grpSpPr>
              <a:xfrm>
                <a:off x="7378560" y="4430880"/>
                <a:ext cx="609840" cy="457200"/>
                <a:chOff x="7378560" y="4430880"/>
                <a:chExt cx="609840" cy="457200"/>
              </a:xfrm>
            </p:grpSpPr>
            <p:sp>
              <p:nvSpPr>
                <p:cNvPr id="2531" name=""/>
                <p:cNvSpPr/>
                <p:nvPr/>
              </p:nvSpPr>
              <p:spPr>
                <a:xfrm>
                  <a:off x="7587000" y="4484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7587000" y="4538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7587000" y="475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7587000" y="4807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386120" y="46191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620120" y="443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7620120" y="4699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7419600" y="4538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flipV="1">
                  <a:off x="7419600" y="469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flipH="1">
                  <a:off x="7378560" y="4628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1" name=""/>
            <p:cNvGrpSpPr/>
            <p:nvPr/>
          </p:nvGrpSpPr>
          <p:grpSpPr>
            <a:xfrm>
              <a:off x="5641560" y="2782080"/>
              <a:ext cx="606960" cy="513000"/>
              <a:chOff x="5641560" y="2782080"/>
              <a:chExt cx="606960" cy="513000"/>
            </a:xfrm>
          </p:grpSpPr>
          <p:sp>
            <p:nvSpPr>
              <p:cNvPr id="2542" name=""/>
              <p:cNvSpPr/>
              <p:nvPr/>
            </p:nvSpPr>
            <p:spPr>
              <a:xfrm rot="19834800">
                <a:off x="5705640" y="29923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3" name=""/>
              <p:cNvGrpSpPr/>
              <p:nvPr/>
            </p:nvGrpSpPr>
            <p:grpSpPr>
              <a:xfrm>
                <a:off x="5641560" y="2782080"/>
                <a:ext cx="574200" cy="435600"/>
                <a:chOff x="5641560" y="2782080"/>
                <a:chExt cx="574200" cy="435600"/>
              </a:xfrm>
            </p:grpSpPr>
            <p:sp>
              <p:nvSpPr>
                <p:cNvPr id="2544" name=""/>
                <p:cNvSpPr/>
                <p:nvPr/>
              </p:nvSpPr>
              <p:spPr>
                <a:xfrm rot="19834800">
                  <a:off x="5758560" y="284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19834800">
                  <a:off x="5784840" y="2890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rot="19834800">
                  <a:off x="5890680" y="3078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rot="19834800">
                  <a:off x="5916960" y="3124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rot="19834800">
                  <a:off x="5632920" y="29404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19834800">
                  <a:off x="5805360" y="2786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9834800">
                  <a:off x="5937480" y="3020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19834800">
                  <a:off x="5657040" y="2984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flipV="1" rot="19834800">
                  <a:off x="5735880" y="3125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 rot="19834800">
                  <a:off x="5653800" y="30610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4" name=""/>
            <p:cNvGrpSpPr/>
            <p:nvPr/>
          </p:nvGrpSpPr>
          <p:grpSpPr>
            <a:xfrm>
              <a:off x="4650840" y="4458600"/>
              <a:ext cx="607320" cy="513360"/>
              <a:chOff x="4650840" y="4458600"/>
              <a:chExt cx="607320" cy="513360"/>
            </a:xfrm>
          </p:grpSpPr>
          <p:sp>
            <p:nvSpPr>
              <p:cNvPr id="2555" name=""/>
              <p:cNvSpPr/>
              <p:nvPr/>
            </p:nvSpPr>
            <p:spPr>
              <a:xfrm rot="19834800">
                <a:off x="4714920" y="46688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56" name=""/>
              <p:cNvGrpSpPr/>
              <p:nvPr/>
            </p:nvGrpSpPr>
            <p:grpSpPr>
              <a:xfrm>
                <a:off x="4650840" y="4458600"/>
                <a:ext cx="574920" cy="435600"/>
                <a:chOff x="4650840" y="4458600"/>
                <a:chExt cx="574920" cy="435600"/>
              </a:xfrm>
            </p:grpSpPr>
            <p:sp>
              <p:nvSpPr>
                <p:cNvPr id="2557" name=""/>
                <p:cNvSpPr/>
                <p:nvPr/>
              </p:nvSpPr>
              <p:spPr>
                <a:xfrm rot="19834800">
                  <a:off x="4768200" y="4519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19834800">
                  <a:off x="4794480" y="4566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19834800">
                  <a:off x="4900320" y="4754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19834800">
                  <a:off x="4926600" y="48013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rot="19834800">
                  <a:off x="4642560" y="46170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rot="19834800">
                  <a:off x="4814640" y="44625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19834800">
                  <a:off x="4946760" y="46969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19834800">
                  <a:off x="4666320" y="46616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V="1" rot="19834800">
                  <a:off x="4745520" y="4802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H="1" rot="19834800">
                  <a:off x="4663080" y="47376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7" name=""/>
            <p:cNvGrpSpPr/>
            <p:nvPr/>
          </p:nvGrpSpPr>
          <p:grpSpPr>
            <a:xfrm>
              <a:off x="5717880" y="4991760"/>
              <a:ext cx="606960" cy="513000"/>
              <a:chOff x="5717880" y="4991760"/>
              <a:chExt cx="606960" cy="513000"/>
            </a:xfrm>
          </p:grpSpPr>
          <p:sp>
            <p:nvSpPr>
              <p:cNvPr id="2568" name=""/>
              <p:cNvSpPr/>
              <p:nvPr/>
            </p:nvSpPr>
            <p:spPr>
              <a:xfrm rot="19834800">
                <a:off x="5781960" y="52020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9" name=""/>
              <p:cNvGrpSpPr/>
              <p:nvPr/>
            </p:nvGrpSpPr>
            <p:grpSpPr>
              <a:xfrm>
                <a:off x="5717880" y="4991760"/>
                <a:ext cx="574200" cy="435600"/>
                <a:chOff x="5717880" y="4991760"/>
                <a:chExt cx="574200" cy="435600"/>
              </a:xfrm>
            </p:grpSpPr>
            <p:sp>
              <p:nvSpPr>
                <p:cNvPr id="2570" name=""/>
                <p:cNvSpPr/>
                <p:nvPr/>
              </p:nvSpPr>
              <p:spPr>
                <a:xfrm rot="19834800">
                  <a:off x="5834880" y="50529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19834800">
                  <a:off x="5861160" y="5099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19834800">
                  <a:off x="5967000" y="5287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19834800">
                  <a:off x="5993280" y="5334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19834800">
                  <a:off x="5709240" y="51501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rot="19834800">
                  <a:off x="5881680" y="49957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rot="19834800">
                  <a:off x="6013800" y="5230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19834800">
                  <a:off x="5733360" y="51944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V="1" rot="19834800">
                  <a:off x="5812200" y="5335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flipH="1" rot="19834800">
                  <a:off x="5730120" y="52707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0" name=""/>
            <p:cNvGrpSpPr/>
            <p:nvPr/>
          </p:nvGrpSpPr>
          <p:grpSpPr>
            <a:xfrm>
              <a:off x="6403680" y="4077360"/>
              <a:ext cx="606960" cy="513000"/>
              <a:chOff x="6403680" y="4077360"/>
              <a:chExt cx="606960" cy="513000"/>
            </a:xfrm>
          </p:grpSpPr>
          <p:sp>
            <p:nvSpPr>
              <p:cNvPr id="2581" name=""/>
              <p:cNvSpPr/>
              <p:nvPr/>
            </p:nvSpPr>
            <p:spPr>
              <a:xfrm rot="19834800">
                <a:off x="6467760" y="42876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82" name=""/>
              <p:cNvGrpSpPr/>
              <p:nvPr/>
            </p:nvGrpSpPr>
            <p:grpSpPr>
              <a:xfrm>
                <a:off x="6403680" y="4077360"/>
                <a:ext cx="574200" cy="435600"/>
                <a:chOff x="6403680" y="4077360"/>
                <a:chExt cx="574200" cy="435600"/>
              </a:xfrm>
            </p:grpSpPr>
            <p:sp>
              <p:nvSpPr>
                <p:cNvPr id="2583" name=""/>
                <p:cNvSpPr/>
                <p:nvPr/>
              </p:nvSpPr>
              <p:spPr>
                <a:xfrm rot="19834800">
                  <a:off x="6520680" y="4138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rot="19834800">
                  <a:off x="6546960" y="4185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rot="19834800">
                  <a:off x="6652800" y="437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rot="19834800">
                  <a:off x="6679080" y="4420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rot="19834800">
                  <a:off x="6395040" y="42357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rot="19834800">
                  <a:off x="6567480" y="4081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19834800">
                  <a:off x="6699600" y="4315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19834800">
                  <a:off x="6419160" y="42800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flipV="1" rot="19834800">
                  <a:off x="6498000" y="4421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 rot="19834800">
                  <a:off x="6415920" y="4356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3" name=""/>
            <p:cNvGrpSpPr/>
            <p:nvPr/>
          </p:nvGrpSpPr>
          <p:grpSpPr>
            <a:xfrm>
              <a:off x="6098760" y="3467880"/>
              <a:ext cx="606960" cy="513000"/>
              <a:chOff x="6098760" y="3467880"/>
              <a:chExt cx="606960" cy="513000"/>
            </a:xfrm>
          </p:grpSpPr>
          <p:sp>
            <p:nvSpPr>
              <p:cNvPr id="2594" name=""/>
              <p:cNvSpPr/>
              <p:nvPr/>
            </p:nvSpPr>
            <p:spPr>
              <a:xfrm rot="19834800">
                <a:off x="6162840" y="36781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5" name=""/>
              <p:cNvGrpSpPr/>
              <p:nvPr/>
            </p:nvGrpSpPr>
            <p:grpSpPr>
              <a:xfrm>
                <a:off x="6098760" y="3467880"/>
                <a:ext cx="574200" cy="435600"/>
                <a:chOff x="6098760" y="3467880"/>
                <a:chExt cx="574200" cy="435600"/>
              </a:xfrm>
            </p:grpSpPr>
            <p:sp>
              <p:nvSpPr>
                <p:cNvPr id="2596" name=""/>
                <p:cNvSpPr/>
                <p:nvPr/>
              </p:nvSpPr>
              <p:spPr>
                <a:xfrm rot="19834800">
                  <a:off x="6215760" y="3529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rot="19834800">
                  <a:off x="6242040" y="3575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rot="19834800">
                  <a:off x="6347880" y="376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rot="19834800">
                  <a:off x="6374160" y="3810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rot="19834800">
                  <a:off x="6090120" y="36262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19834800">
                  <a:off x="6262560" y="34718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19834800">
                  <a:off x="6394680" y="3706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19834800">
                  <a:off x="6114240" y="3670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V="1" rot="19834800">
                  <a:off x="6193080" y="3811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 rot="19834800">
                  <a:off x="6111000" y="37468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6" name=""/>
            <p:cNvGrpSpPr/>
            <p:nvPr/>
          </p:nvGrpSpPr>
          <p:grpSpPr>
            <a:xfrm>
              <a:off x="6936840" y="2477160"/>
              <a:ext cx="607320" cy="513360"/>
              <a:chOff x="6936840" y="2477160"/>
              <a:chExt cx="607320" cy="513360"/>
            </a:xfrm>
          </p:grpSpPr>
          <p:sp>
            <p:nvSpPr>
              <p:cNvPr id="2607" name=""/>
              <p:cNvSpPr/>
              <p:nvPr/>
            </p:nvSpPr>
            <p:spPr>
              <a:xfrm rot="19834800">
                <a:off x="7000920" y="268740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08" name=""/>
              <p:cNvGrpSpPr/>
              <p:nvPr/>
            </p:nvGrpSpPr>
            <p:grpSpPr>
              <a:xfrm>
                <a:off x="6936840" y="2477160"/>
                <a:ext cx="574920" cy="435600"/>
                <a:chOff x="6936840" y="2477160"/>
                <a:chExt cx="574920" cy="435600"/>
              </a:xfrm>
            </p:grpSpPr>
            <p:sp>
              <p:nvSpPr>
                <p:cNvPr id="2609" name=""/>
                <p:cNvSpPr/>
                <p:nvPr/>
              </p:nvSpPr>
              <p:spPr>
                <a:xfrm rot="19834800">
                  <a:off x="7054200" y="2538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19834800">
                  <a:off x="7080480" y="2585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19834800">
                  <a:off x="7186320" y="2773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19834800">
                  <a:off x="7212600" y="2819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19834800">
                  <a:off x="6928560" y="26355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19834800">
                  <a:off x="7100640" y="24811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rot="19834800">
                  <a:off x="7232760" y="2715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rot="19834800">
                  <a:off x="6952320" y="2680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 rot="19834800">
                  <a:off x="7031520" y="28209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flipH="1" rot="19834800">
                  <a:off x="6949080" y="2756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9" name=""/>
            <p:cNvGrpSpPr/>
            <p:nvPr/>
          </p:nvGrpSpPr>
          <p:grpSpPr>
            <a:xfrm>
              <a:off x="7851240" y="3544200"/>
              <a:ext cx="607320" cy="513360"/>
              <a:chOff x="7851240" y="3544200"/>
              <a:chExt cx="607320" cy="513360"/>
            </a:xfrm>
          </p:grpSpPr>
          <p:sp>
            <p:nvSpPr>
              <p:cNvPr id="2620" name=""/>
              <p:cNvSpPr/>
              <p:nvPr/>
            </p:nvSpPr>
            <p:spPr>
              <a:xfrm rot="19834800">
                <a:off x="7915320" y="37544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1" name=""/>
              <p:cNvGrpSpPr/>
              <p:nvPr/>
            </p:nvGrpSpPr>
            <p:grpSpPr>
              <a:xfrm>
                <a:off x="7851240" y="3544200"/>
                <a:ext cx="574920" cy="435600"/>
                <a:chOff x="7851240" y="3544200"/>
                <a:chExt cx="574920" cy="435600"/>
              </a:xfrm>
            </p:grpSpPr>
            <p:sp>
              <p:nvSpPr>
                <p:cNvPr id="2622" name=""/>
                <p:cNvSpPr/>
                <p:nvPr/>
              </p:nvSpPr>
              <p:spPr>
                <a:xfrm rot="19834800">
                  <a:off x="7968600" y="3605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rot="19834800">
                  <a:off x="7994880" y="365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rot="19834800">
                  <a:off x="8100720" y="3840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rot="19834800">
                  <a:off x="8127000" y="3886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rot="19834800">
                  <a:off x="7842960" y="37026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rot="19834800">
                  <a:off x="8015040" y="35481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rot="19834800">
                  <a:off x="8147160" y="3782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rot="19834800">
                  <a:off x="7866720" y="3747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V="1" rot="19834800">
                  <a:off x="7945920" y="3888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flipH="1" rot="19834800">
                  <a:off x="7863480" y="38232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32" name=""/>
          <p:cNvGrpSpPr/>
          <p:nvPr/>
        </p:nvGrpSpPr>
        <p:grpSpPr>
          <a:xfrm>
            <a:off x="4278240" y="2311560"/>
            <a:ext cx="4510080" cy="3367080"/>
            <a:chOff x="4278240" y="2311560"/>
            <a:chExt cx="4510080" cy="3367080"/>
          </a:xfrm>
        </p:grpSpPr>
        <p:sp>
          <p:nvSpPr>
            <p:cNvPr id="2633" name=""/>
            <p:cNvSpPr/>
            <p:nvPr/>
          </p:nvSpPr>
          <p:spPr>
            <a:xfrm>
              <a:off x="4481280" y="5180040"/>
              <a:ext cx="7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I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278240" y="23115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5" name=""/>
            <p:cNvGrpSpPr/>
            <p:nvPr/>
          </p:nvGrpSpPr>
          <p:grpSpPr>
            <a:xfrm>
              <a:off x="6927480" y="3051360"/>
              <a:ext cx="1106640" cy="2079720"/>
              <a:chOff x="6927480" y="3051360"/>
              <a:chExt cx="1106640" cy="2079720"/>
            </a:xfrm>
          </p:grpSpPr>
          <p:sp>
            <p:nvSpPr>
              <p:cNvPr id="2636" name=""/>
              <p:cNvSpPr/>
              <p:nvPr/>
            </p:nvSpPr>
            <p:spPr>
              <a:xfrm>
                <a:off x="6960960" y="365148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5" y="43"/>
                    </a:moveTo>
                    <a:lnTo>
                      <a:pt x="17" y="45"/>
                    </a:lnTo>
                    <a:lnTo>
                      <a:pt x="25" y="60"/>
                    </a:lnTo>
                    <a:lnTo>
                      <a:pt x="27" y="61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5" y="58"/>
                    </a:lnTo>
                    <a:lnTo>
                      <a:pt x="35" y="56"/>
                    </a:lnTo>
                    <a:lnTo>
                      <a:pt x="34" y="55"/>
                    </a:lnTo>
                    <a:lnTo>
                      <a:pt x="25" y="40"/>
                    </a:lnTo>
                    <a:lnTo>
                      <a:pt x="20" y="41"/>
                    </a:lnTo>
                    <a:lnTo>
                      <a:pt x="2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945120" y="35989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43"/>
                    </a:moveTo>
                    <a:lnTo>
                      <a:pt x="12" y="45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932520" y="354348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7"/>
                    </a:moveTo>
                    <a:lnTo>
                      <a:pt x="9" y="48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2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929280" y="34880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4" y="46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0" y="23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927480" y="3432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45"/>
                    </a:moveTo>
                    <a:lnTo>
                      <a:pt x="1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38"/>
                    </a:lnTo>
                    <a:lnTo>
                      <a:pt x="5" y="40"/>
                    </a:lnTo>
                    <a:lnTo>
                      <a:pt x="10" y="40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930720" y="337680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938640" y="33228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27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3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948360" y="32688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2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962400" y="32148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978600" y="3162600"/>
                <a:ext cx="20520" cy="3780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20" y="15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0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002360" y="31147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7" y="3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8" y="25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034040" y="30783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" y="25"/>
                    </a:move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21" y="20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6" y="12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081560" y="30592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5" y="10"/>
                    </a:moveTo>
                    <a:lnTo>
                      <a:pt x="3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0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8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135560" y="3052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22" y="12"/>
                    </a:lnTo>
                    <a:lnTo>
                      <a:pt x="45" y="10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2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191000" y="305136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246800" y="3051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302240" y="30578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2" y="12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356240" y="3065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410240" y="3078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23" y="15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462800" y="309564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513560" y="311976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5"/>
                    </a:lnTo>
                    <a:lnTo>
                      <a:pt x="37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3"/>
                    </a:lnTo>
                    <a:lnTo>
                      <a:pt x="18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557840" y="315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5"/>
                    </a:lnTo>
                    <a:lnTo>
                      <a:pt x="23" y="21"/>
                    </a:lnTo>
                    <a:lnTo>
                      <a:pt x="18" y="23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26" y="18"/>
                    </a:lnTo>
                    <a:lnTo>
                      <a:pt x="25" y="1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594560" y="3194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10" y="3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6" y="35"/>
                    </a:lnTo>
                    <a:lnTo>
                      <a:pt x="20" y="33"/>
                    </a:lnTo>
                    <a:lnTo>
                      <a:pt x="15" y="3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615080" y="3245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0" y="3"/>
                    </a:move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2" y="8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624440" y="32990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3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3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627680" y="33544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9"/>
                    </a:lnTo>
                    <a:lnTo>
                      <a:pt x="7" y="17"/>
                    </a:lnTo>
                    <a:lnTo>
                      <a:pt x="2" y="17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626240" y="34099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621560" y="346572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619760" y="35211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616520" y="35769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613280" y="36324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0" y="2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613280" y="3687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5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616520" y="37436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4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621560" y="37972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0" y="5"/>
                    </a:move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634160" y="3853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10" y="5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30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8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3" y="43"/>
                    </a:lnTo>
                    <a:lnTo>
                      <a:pt x="16" y="2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653240" y="390528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11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678440" y="395460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0" y="2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4" y="42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710120" y="40006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9" y="31"/>
                    </a:lnTo>
                    <a:lnTo>
                      <a:pt x="25" y="38"/>
                    </a:lnTo>
                    <a:lnTo>
                      <a:pt x="27" y="40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27" y="2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743600" y="40435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0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20"/>
                    </a:lnTo>
                    <a:lnTo>
                      <a:pt x="27" y="38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5" y="33"/>
                    </a:lnTo>
                    <a:lnTo>
                      <a:pt x="20" y="15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779960" y="40863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26" y="37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11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818120" y="41277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9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7" y="36"/>
                    </a:lnTo>
                    <a:lnTo>
                      <a:pt x="29" y="38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5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5" y="31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854840" y="41688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8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7" y="37"/>
                    </a:lnTo>
                    <a:lnTo>
                      <a:pt x="27" y="39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5" y="34"/>
                    </a:lnTo>
                    <a:lnTo>
                      <a:pt x="35" y="3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891200" y="42102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25" y="2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26120" y="425304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8" y="17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17" y="1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59600" y="42976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8" y="3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1" y="41"/>
                    </a:lnTo>
                    <a:lnTo>
                      <a:pt x="23" y="43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86600" y="4345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3" y="35"/>
                    </a:lnTo>
                    <a:lnTo>
                      <a:pt x="18" y="31"/>
                    </a:lnTo>
                    <a:lnTo>
                      <a:pt x="13" y="33"/>
                    </a:lnTo>
                    <a:lnTo>
                      <a:pt x="16" y="43"/>
                    </a:lnTo>
                    <a:lnTo>
                      <a:pt x="18" y="45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3" y="31"/>
                    </a:lnTo>
                    <a:lnTo>
                      <a:pt x="21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8008560" y="43974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10" y="5"/>
                    </a:move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4" y="15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2" y="43"/>
                    </a:lnTo>
                    <a:lnTo>
                      <a:pt x="20" y="36"/>
                    </a:lnTo>
                    <a:lnTo>
                      <a:pt x="14" y="1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8021520" y="44514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8026200" y="45072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7" y="32"/>
                    </a:lnTo>
                    <a:lnTo>
                      <a:pt x="2" y="30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8026200" y="4562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2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8021520" y="461808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13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8015040" y="4672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7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5" y="1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8005680" y="47278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7"/>
                    </a:moveTo>
                    <a:lnTo>
                      <a:pt x="17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94520" y="47815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6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78680" y="483732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7"/>
                    </a:moveTo>
                    <a:lnTo>
                      <a:pt x="21" y="5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62840" y="4891320"/>
                <a:ext cx="17280" cy="363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41960" y="494208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5" y="7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2" y="39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14960" y="4992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6"/>
                    </a:moveTo>
                    <a:lnTo>
                      <a:pt x="30" y="5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0" y="21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883280" y="50421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3" y="7"/>
                    </a:moveTo>
                    <a:lnTo>
                      <a:pt x="35" y="5"/>
                    </a:lnTo>
                    <a:lnTo>
                      <a:pt x="35" y="4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11" y="22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39"/>
                    </a:lnTo>
                    <a:lnTo>
                      <a:pt x="20" y="27"/>
                    </a:lnTo>
                    <a:lnTo>
                      <a:pt x="33" y="9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841880" y="5083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8"/>
                    </a:moveTo>
                    <a:lnTo>
                      <a:pt x="42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20" y="13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25" y="21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789680" y="51134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5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7" y="2"/>
                    </a:lnTo>
                    <a:lnTo>
                      <a:pt x="17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19" y="17"/>
                    </a:lnTo>
                    <a:lnTo>
                      <a:pt x="39" y="12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734240" y="5121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42" y="7"/>
                    </a:lnTo>
                    <a:lnTo>
                      <a:pt x="4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678440" y="51152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5" y="15"/>
                    </a:moveTo>
                    <a:lnTo>
                      <a:pt x="45" y="15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624440" y="5104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7" y="18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2" y="13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572240" y="50896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19" y="5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17" y="15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518240" y="507060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467480" y="50515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1" y="25"/>
                    </a:moveTo>
                    <a:lnTo>
                      <a:pt x="43" y="25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5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416720" y="50277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367400" y="5000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28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28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3" y="21"/>
                    </a:lnTo>
                    <a:lnTo>
                      <a:pt x="41" y="20"/>
                    </a:lnTo>
                    <a:lnTo>
                      <a:pt x="20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5" y="18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319880" y="497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1" y="21"/>
                    </a:lnTo>
                    <a:lnTo>
                      <a:pt x="21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273800" y="49402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5" y="31"/>
                    </a:moveTo>
                    <a:lnTo>
                      <a:pt x="37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0" y="23"/>
                    </a:lnTo>
                    <a:lnTo>
                      <a:pt x="24" y="1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19" y="21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232400" y="49053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3" y="35"/>
                    </a:move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28" y="20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3" y="28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192800" y="4865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8" y="38"/>
                    </a:move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0" y="33"/>
                    </a:lnTo>
                    <a:lnTo>
                      <a:pt x="33" y="31"/>
                    </a:lnTo>
                    <a:lnTo>
                      <a:pt x="15" y="11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25" y="36"/>
                    </a:lnTo>
                    <a:lnTo>
                      <a:pt x="26" y="38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161120" y="48214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1" y="42"/>
                    </a:move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23" y="27"/>
                    </a:lnTo>
                    <a:lnTo>
                      <a:pt x="11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15" y="32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145280" y="47674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5" y="30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32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138800" y="471168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7"/>
                    </a:move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25"/>
                    </a:lnTo>
                    <a:lnTo>
                      <a:pt x="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140240" y="4656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145280" y="4602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5" y="12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1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154640" y="45482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7" y="1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167240" y="4494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1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181640" y="4440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6" y="1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6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196040" y="4386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210080" y="433260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9" y="15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224480" y="42800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6" y="1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6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238880" y="422604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20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1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250040" y="41706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4" y="2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4" y="2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257960" y="41148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2" y="3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257960" y="405936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4" y="45"/>
                    </a:moveTo>
                    <a:lnTo>
                      <a:pt x="5" y="46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28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4" y="30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243560" y="4005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9">
                    <a:moveTo>
                      <a:pt x="12" y="45"/>
                    </a:moveTo>
                    <a:lnTo>
                      <a:pt x="12" y="47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2" y="44"/>
                    </a:lnTo>
                    <a:lnTo>
                      <a:pt x="18" y="32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8" y="34"/>
                    </a:lnTo>
                    <a:lnTo>
                      <a:pt x="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219800" y="39560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0"/>
                    </a:moveTo>
                    <a:lnTo>
                      <a:pt x="18" y="41"/>
                    </a:lnTo>
                    <a:lnTo>
                      <a:pt x="20" y="43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3"/>
                    </a:lnTo>
                    <a:lnTo>
                      <a:pt x="27" y="41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8" y="20"/>
                    </a:lnTo>
                    <a:lnTo>
                      <a:pt x="12" y="16"/>
                    </a:lnTo>
                    <a:lnTo>
                      <a:pt x="7" y="18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188120" y="3910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5" y="40"/>
                    </a:moveTo>
                    <a:lnTo>
                      <a:pt x="27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7"/>
                    </a:lnTo>
                    <a:lnTo>
                      <a:pt x="33" y="35"/>
                    </a:lnTo>
                    <a:lnTo>
                      <a:pt x="12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149960" y="3868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0" y="36"/>
                    </a:moveTo>
                    <a:lnTo>
                      <a:pt x="31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6" y="33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110360" y="3830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0" y="35"/>
                    </a:moveTo>
                    <a:lnTo>
                      <a:pt x="31" y="37"/>
                    </a:lnTo>
                    <a:lnTo>
                      <a:pt x="33" y="39"/>
                    </a:lnTo>
                    <a:lnTo>
                      <a:pt x="35" y="39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30" y="2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5" y="30"/>
                    </a:lnTo>
                    <a:lnTo>
                      <a:pt x="26" y="25"/>
                    </a:lnTo>
                    <a:lnTo>
                      <a:pt x="23" y="29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068960" y="37944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2" y="36"/>
                    </a:moveTo>
                    <a:lnTo>
                      <a:pt x="33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8" y="30"/>
                    </a:lnTo>
                    <a:lnTo>
                      <a:pt x="37" y="28"/>
                    </a:lnTo>
                    <a:lnTo>
                      <a:pt x="25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0" y="25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029360" y="375624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0" y="37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22" y="17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3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992640" y="3713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2" y="18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4" y="23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4746600" y="3354480"/>
              <a:ext cx="1569960" cy="1668600"/>
              <a:chOff x="4746600" y="3354480"/>
              <a:chExt cx="1569960" cy="1668600"/>
            </a:xfrm>
          </p:grpSpPr>
          <p:sp>
            <p:nvSpPr>
              <p:cNvPr id="2733" name=""/>
              <p:cNvSpPr/>
              <p:nvPr/>
            </p:nvSpPr>
            <p:spPr>
              <a:xfrm>
                <a:off x="4771800" y="4030920"/>
                <a:ext cx="27000" cy="5868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13" y="45"/>
                    </a:moveTo>
                    <a:lnTo>
                      <a:pt x="22" y="62"/>
                    </a:lnTo>
                    <a:lnTo>
                      <a:pt x="23" y="63"/>
                    </a:lnTo>
                    <a:lnTo>
                      <a:pt x="27" y="70"/>
                    </a:lnTo>
                    <a:lnTo>
                      <a:pt x="28" y="72"/>
                    </a:lnTo>
                    <a:lnTo>
                      <a:pt x="30" y="73"/>
                    </a:lnTo>
                    <a:lnTo>
                      <a:pt x="32" y="73"/>
                    </a:lnTo>
                    <a:lnTo>
                      <a:pt x="33" y="72"/>
                    </a:lnTo>
                    <a:lnTo>
                      <a:pt x="35" y="70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2" y="58"/>
                    </a:lnTo>
                    <a:lnTo>
                      <a:pt x="27" y="62"/>
                    </a:lnTo>
                    <a:lnTo>
                      <a:pt x="32" y="60"/>
                    </a:lnTo>
                    <a:lnTo>
                      <a:pt x="23" y="43"/>
                    </a:lnTo>
                    <a:lnTo>
                      <a:pt x="17" y="23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25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759200" y="39769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8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7" y="46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13" y="21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23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751280" y="39229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7" y="47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40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748040" y="38671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746600" y="38116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748040" y="37562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749480" y="37004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755960" y="364500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3" y="1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3" y="1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4763880" y="359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25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3" y="2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776480" y="3537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0" y="42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3" y="34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3" y="3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794120" y="348624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40"/>
                    </a:move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817880" y="343872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0" y="35"/>
                    </a:move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12" y="35"/>
                    </a:lnTo>
                    <a:lnTo>
                      <a:pt x="24" y="15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4" y="3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849560" y="3399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4"/>
                    </a:lnTo>
                    <a:lnTo>
                      <a:pt x="12" y="30"/>
                    </a:lnTo>
                    <a:lnTo>
                      <a:pt x="9" y="27"/>
                    </a:lnTo>
                    <a:lnTo>
                      <a:pt x="10" y="32"/>
                    </a:lnTo>
                    <a:lnTo>
                      <a:pt x="27" y="17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2" y="9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4892400" y="3373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" y="15"/>
                    </a:move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25" y="16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24" y="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946400" y="336096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2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0" y="1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000400" y="33562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3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055840" y="33544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111640" y="33562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167080" y="3360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222520" y="33656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276520" y="33735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330520" y="3384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5384520" y="33958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0"/>
                    </a:lnTo>
                    <a:lnTo>
                      <a:pt x="45" y="20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438520" y="340848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5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492520" y="34261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545080" y="34434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10" y="13"/>
                    </a:lnTo>
                    <a:lnTo>
                      <a:pt x="37" y="23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38" y="13"/>
                    </a:lnTo>
                    <a:lnTo>
                      <a:pt x="12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597280" y="34657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17" y="17"/>
                    </a:lnTo>
                    <a:lnTo>
                      <a:pt x="37" y="29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3" y="27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42" y="20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564480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2" y="17"/>
                    </a:lnTo>
                    <a:lnTo>
                      <a:pt x="25" y="29"/>
                    </a:lnTo>
                    <a:lnTo>
                      <a:pt x="28" y="24"/>
                    </a:lnTo>
                    <a:lnTo>
                      <a:pt x="23" y="27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9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1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681520" y="3533760"/>
                <a:ext cx="19080" cy="367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6" y="1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13" y="32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3" y="30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700600" y="35863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2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700600" y="364176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695920" y="369756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7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692680" y="3753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18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692680" y="38070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695920" y="386244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8" y="45"/>
                    </a:lnTo>
                    <a:lnTo>
                      <a:pt x="10" y="47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0" y="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709960" y="391644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0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733720" y="396576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0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5" y="29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5" y="37"/>
                    </a:lnTo>
                    <a:lnTo>
                      <a:pt x="34" y="35"/>
                    </a:lnTo>
                    <a:lnTo>
                      <a:pt x="24" y="2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5770440" y="40100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9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4" y="39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7" y="32"/>
                    </a:lnTo>
                    <a:lnTo>
                      <a:pt x="35" y="3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810040" y="40482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9" y="30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10" y="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851440" y="4083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895720" y="4118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940360" y="4151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0" y="2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986080" y="41846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030720" y="42166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35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075000" y="42498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121080" y="42814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8"/>
                    </a:lnTo>
                    <a:lnTo>
                      <a:pt x="33" y="33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5"/>
                    </a:lnTo>
                    <a:lnTo>
                      <a:pt x="18" y="1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163920" y="431640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22"/>
                    </a:lnTo>
                    <a:lnTo>
                      <a:pt x="32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8"/>
                    </a:lnTo>
                    <a:lnTo>
                      <a:pt x="37" y="27"/>
                    </a:lnTo>
                    <a:lnTo>
                      <a:pt x="22" y="1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205320" y="4353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21" y="1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244920" y="43927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0" y="17"/>
                    </a:lnTo>
                    <a:lnTo>
                      <a:pt x="28" y="37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18" y="1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279840" y="44355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8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3" y="25"/>
                    </a:lnTo>
                    <a:lnTo>
                      <a:pt x="21" y="2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303600" y="448488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0" y="5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30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28"/>
                    </a:lnTo>
                    <a:lnTo>
                      <a:pt x="11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292800" y="45403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5" y="5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0" y="20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259320" y="45882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5" y="3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13" y="35"/>
                    </a:lnTo>
                    <a:lnTo>
                      <a:pt x="32" y="10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219720" y="46310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10"/>
                    </a:moveTo>
                    <a:lnTo>
                      <a:pt x="38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8" y="37"/>
                    </a:lnTo>
                    <a:lnTo>
                      <a:pt x="13" y="33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176880" y="46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8" y="9"/>
                    </a:moveTo>
                    <a:lnTo>
                      <a:pt x="40" y="7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36" y="10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134040" y="47023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0" y="10"/>
                    </a:moveTo>
                    <a:lnTo>
                      <a:pt x="41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21" y="11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26" y="2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89400" y="47358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40" y="10"/>
                    </a:moveTo>
                    <a:lnTo>
                      <a:pt x="42" y="9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041880" y="4767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2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25" y="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30" y="17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994360" y="4797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1" y="10"/>
                    </a:moveTo>
                    <a:lnTo>
                      <a:pt x="43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946480" y="4826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2" y="8"/>
                    </a:moveTo>
                    <a:lnTo>
                      <a:pt x="43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897520" y="4853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4" y="10"/>
                    </a:move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848200" y="4878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3" y="9"/>
                    </a:move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1" y="14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97440" y="490248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746680" y="492624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10"/>
                    </a:moveTo>
                    <a:lnTo>
                      <a:pt x="45" y="10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695920" y="4948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10"/>
                    </a:moveTo>
                    <a:lnTo>
                      <a:pt x="43" y="8"/>
                    </a:lnTo>
                    <a:lnTo>
                      <a:pt x="45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8" y="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0" y="1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643360" y="4969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12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4" y="2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589360" y="498816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10"/>
                    </a:moveTo>
                    <a:lnTo>
                      <a:pt x="46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41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535360" y="50022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5" y="10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37" y="14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481360" y="50119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12" y="13"/>
                    </a:lnTo>
                    <a:lnTo>
                      <a:pt x="40" y="11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427360" y="50072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1" y="20"/>
                    </a:moveTo>
                    <a:lnTo>
                      <a:pt x="43" y="20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3" y="8"/>
                    </a:lnTo>
                    <a:lnTo>
                      <a:pt x="13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1" y="13"/>
                    </a:lnTo>
                    <a:lnTo>
                      <a:pt x="31" y="18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384520" y="49705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0" y="40"/>
                    </a:moveTo>
                    <a:lnTo>
                      <a:pt x="32" y="40"/>
                    </a:lnTo>
                    <a:lnTo>
                      <a:pt x="34" y="40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34" y="30"/>
                    </a:lnTo>
                    <a:lnTo>
                      <a:pt x="20" y="17"/>
                    </a:lnTo>
                    <a:lnTo>
                      <a:pt x="17" y="20"/>
                    </a:lnTo>
                    <a:lnTo>
                      <a:pt x="22" y="19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29" y="39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360760" y="492156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5" y="41"/>
                    </a:move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348160" y="4867560"/>
                <a:ext cx="14040" cy="3780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8" y="45"/>
                    </a:moveTo>
                    <a:lnTo>
                      <a:pt x="8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1" y="1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19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338440" y="481356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7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2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28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332320" y="475776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5" y="47"/>
                    </a:lnTo>
                    <a:lnTo>
                      <a:pt x="6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1" y="48"/>
                    </a:lnTo>
                    <a:lnTo>
                      <a:pt x="13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3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327280" y="47023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0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5322600" y="46468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319360" y="45910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311440" y="453564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6" y="46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43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303520" y="44802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6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5292360" y="44262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273640" y="437544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42"/>
                    </a:moveTo>
                    <a:lnTo>
                      <a:pt x="15" y="44"/>
                    </a:lnTo>
                    <a:lnTo>
                      <a:pt x="17" y="45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4" y="35"/>
                    </a:lnTo>
                    <a:lnTo>
                      <a:pt x="14" y="12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14" y="37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241600" y="43293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30" y="27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2" y="32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200560" y="42912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3" y="35"/>
                    </a:move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154480" y="4262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37" y="28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2" y="25"/>
                    </a:lnTo>
                    <a:lnTo>
                      <a:pt x="3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103720" y="42404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4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14" y="14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051160" y="4221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35" y="1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34" y="20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998960" y="42022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1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8" y="11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946400" y="4186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2" y="22"/>
                    </a:move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2"/>
                    </a:lnTo>
                    <a:lnTo>
                      <a:pt x="32" y="8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0" y="18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894200" y="4164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3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10" y="2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846320" y="413712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7" y="30"/>
                    </a:moveTo>
                    <a:lnTo>
                      <a:pt x="38" y="32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3" y="25"/>
                    </a:lnTo>
                    <a:lnTo>
                      <a:pt x="43" y="24"/>
                    </a:lnTo>
                    <a:lnTo>
                      <a:pt x="42" y="22"/>
                    </a:lnTo>
                    <a:lnTo>
                      <a:pt x="33" y="19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28" y="27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805280" y="4098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0" y="38"/>
                    </a:moveTo>
                    <a:lnTo>
                      <a:pt x="32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0" y="16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4" y="23"/>
                    </a:lnTo>
                    <a:lnTo>
                      <a:pt x="15" y="25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25" name=""/>
            <p:cNvSpPr/>
            <p:nvPr/>
          </p:nvSpPr>
          <p:spPr>
            <a:xfrm>
              <a:off x="5240160" y="376884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335720" y="33926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7" name=""/>
            <p:cNvGrpSpPr/>
            <p:nvPr/>
          </p:nvGrpSpPr>
          <p:grpSpPr>
            <a:xfrm>
              <a:off x="4870080" y="3775320"/>
              <a:ext cx="401760" cy="866520"/>
              <a:chOff x="4870080" y="3775320"/>
              <a:chExt cx="401760" cy="866520"/>
            </a:xfrm>
          </p:grpSpPr>
          <p:sp>
            <p:nvSpPr>
              <p:cNvPr id="2828" name=""/>
              <p:cNvSpPr/>
              <p:nvPr/>
            </p:nvSpPr>
            <p:spPr>
              <a:xfrm>
                <a:off x="4870080" y="445788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976640" y="42181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082840" y="39801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189400" y="37753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2" name=""/>
            <p:cNvGrpSpPr/>
            <p:nvPr/>
          </p:nvGrpSpPr>
          <p:grpSpPr>
            <a:xfrm>
              <a:off x="6402240" y="3392640"/>
              <a:ext cx="941400" cy="303120"/>
              <a:chOff x="6402240" y="3392640"/>
              <a:chExt cx="941400" cy="303120"/>
            </a:xfrm>
          </p:grpSpPr>
          <p:sp>
            <p:nvSpPr>
              <p:cNvPr id="2833" name=""/>
              <p:cNvSpPr/>
              <p:nvPr/>
            </p:nvSpPr>
            <p:spPr>
              <a:xfrm>
                <a:off x="6402240" y="361800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653160" y="354348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903720" y="346716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153200" y="33926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7" name=""/>
            <p:cNvGrpSpPr/>
            <p:nvPr/>
          </p:nvGrpSpPr>
          <p:grpSpPr>
            <a:xfrm>
              <a:off x="6586200" y="2725920"/>
              <a:ext cx="685800" cy="871560"/>
              <a:chOff x="6586200" y="2725920"/>
              <a:chExt cx="685800" cy="871560"/>
            </a:xfrm>
          </p:grpSpPr>
          <p:sp>
            <p:nvSpPr>
              <p:cNvPr id="2838" name=""/>
              <p:cNvSpPr/>
              <p:nvPr/>
            </p:nvSpPr>
            <p:spPr>
              <a:xfrm>
                <a:off x="6586200" y="34322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748200" y="32259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906960" y="301788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068960" y="28116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229160" y="2725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3" name=""/>
            <p:cNvGrpSpPr/>
            <p:nvPr/>
          </p:nvGrpSpPr>
          <p:grpSpPr>
            <a:xfrm>
              <a:off x="5744880" y="4606920"/>
              <a:ext cx="195480" cy="698760"/>
              <a:chOff x="5744880" y="4606920"/>
              <a:chExt cx="195480" cy="698760"/>
            </a:xfrm>
          </p:grpSpPr>
          <p:sp>
            <p:nvSpPr>
              <p:cNvPr id="2844" name=""/>
              <p:cNvSpPr/>
              <p:nvPr/>
            </p:nvSpPr>
            <p:spPr>
              <a:xfrm>
                <a:off x="5871960" y="51152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808600" y="48610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744880" y="46069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7" name=""/>
            <p:cNvGrpSpPr/>
            <p:nvPr/>
          </p:nvGrpSpPr>
          <p:grpSpPr>
            <a:xfrm>
              <a:off x="7632360" y="3870360"/>
              <a:ext cx="401760" cy="866880"/>
              <a:chOff x="7632360" y="3870360"/>
              <a:chExt cx="401760" cy="866880"/>
            </a:xfrm>
          </p:grpSpPr>
          <p:sp>
            <p:nvSpPr>
              <p:cNvPr id="2848" name=""/>
              <p:cNvSpPr/>
              <p:nvPr/>
            </p:nvSpPr>
            <p:spPr>
              <a:xfrm>
                <a:off x="7632360" y="45529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738920" y="431352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845120" y="407520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951680" y="38703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2" name=""/>
            <p:cNvGrpSpPr/>
            <p:nvPr/>
          </p:nvGrpSpPr>
          <p:grpSpPr>
            <a:xfrm>
              <a:off x="6870600" y="3394080"/>
              <a:ext cx="401400" cy="866880"/>
              <a:chOff x="6870600" y="3394080"/>
              <a:chExt cx="401400" cy="866880"/>
            </a:xfrm>
          </p:grpSpPr>
          <p:sp>
            <p:nvSpPr>
              <p:cNvPr id="2853" name=""/>
              <p:cNvSpPr/>
              <p:nvPr/>
            </p:nvSpPr>
            <p:spPr>
              <a:xfrm>
                <a:off x="6870600" y="40770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6976800" y="38372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083360" y="35989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189560" y="339408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7" name=""/>
            <p:cNvGrpSpPr/>
            <p:nvPr/>
          </p:nvGrpSpPr>
          <p:grpSpPr>
            <a:xfrm>
              <a:off x="5730840" y="3703680"/>
              <a:ext cx="658800" cy="750960"/>
              <a:chOff x="5730840" y="3703680"/>
              <a:chExt cx="658800" cy="750960"/>
            </a:xfrm>
          </p:grpSpPr>
          <p:sp>
            <p:nvSpPr>
              <p:cNvPr id="2858" name=""/>
              <p:cNvSpPr/>
              <p:nvPr/>
            </p:nvSpPr>
            <p:spPr>
              <a:xfrm>
                <a:off x="5730840" y="42958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902200" y="40989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6073560" y="39006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248160" y="37036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2" name=""/>
            <p:cNvGrpSpPr/>
            <p:nvPr/>
          </p:nvGrpSpPr>
          <p:grpSpPr>
            <a:xfrm>
              <a:off x="5254560" y="3009960"/>
              <a:ext cx="588960" cy="682560"/>
              <a:chOff x="5254560" y="3009960"/>
              <a:chExt cx="588960" cy="682560"/>
            </a:xfrm>
          </p:grpSpPr>
          <p:sp>
            <p:nvSpPr>
              <p:cNvPr id="2863" name=""/>
              <p:cNvSpPr/>
              <p:nvPr/>
            </p:nvSpPr>
            <p:spPr>
              <a:xfrm>
                <a:off x="5254560" y="35323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422680" y="33321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594040" y="3133800"/>
                <a:ext cx="14148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763960" y="30099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7" name=""/>
            <p:cNvGrpSpPr/>
            <p:nvPr/>
          </p:nvGrpSpPr>
          <p:grpSpPr>
            <a:xfrm>
              <a:off x="6114960" y="4626000"/>
              <a:ext cx="1533240" cy="687600"/>
              <a:chOff x="6114960" y="4626000"/>
              <a:chExt cx="1533240" cy="687600"/>
            </a:xfrm>
          </p:grpSpPr>
          <p:sp>
            <p:nvSpPr>
              <p:cNvPr id="2868" name=""/>
              <p:cNvSpPr/>
              <p:nvPr/>
            </p:nvSpPr>
            <p:spPr>
              <a:xfrm>
                <a:off x="6114960" y="52167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6354720" y="51120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594120" y="500724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835680" y="49006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073640" y="47977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313400" y="46911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554600" y="46260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5" name=""/>
            <p:cNvGrpSpPr/>
            <p:nvPr/>
          </p:nvGrpSpPr>
          <p:grpSpPr>
            <a:xfrm>
              <a:off x="7072200" y="3113280"/>
              <a:ext cx="485640" cy="565200"/>
              <a:chOff x="7072200" y="3113280"/>
              <a:chExt cx="485640" cy="565200"/>
            </a:xfrm>
          </p:grpSpPr>
          <p:sp>
            <p:nvSpPr>
              <p:cNvPr id="2876" name=""/>
              <p:cNvSpPr/>
              <p:nvPr/>
            </p:nvSpPr>
            <p:spPr>
              <a:xfrm>
                <a:off x="7089480" y="311796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086240" y="3233880"/>
                <a:ext cx="44316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441920" y="3386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394400" y="3378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348320" y="3370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300800" y="3362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252920" y="335448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207200" y="3346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159320" y="33372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272000" y="31132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213320" y="339408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072200" y="3211560"/>
                <a:ext cx="4856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088040" y="32068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345080" y="3497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130880" y="3471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196040" y="3202200"/>
                <a:ext cx="8244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403760" y="3222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3" name=""/>
            <p:cNvGrpSpPr/>
            <p:nvPr/>
          </p:nvGrpSpPr>
          <p:grpSpPr>
            <a:xfrm>
              <a:off x="4976640" y="3494160"/>
              <a:ext cx="487440" cy="566640"/>
              <a:chOff x="4976640" y="3494160"/>
              <a:chExt cx="487440" cy="566640"/>
            </a:xfrm>
          </p:grpSpPr>
          <p:sp>
            <p:nvSpPr>
              <p:cNvPr id="2894" name=""/>
              <p:cNvSpPr/>
              <p:nvPr/>
            </p:nvSpPr>
            <p:spPr>
              <a:xfrm>
                <a:off x="4993920" y="349884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991040" y="36165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346360" y="376740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98840" y="3759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52760" y="37515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05240" y="37436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157720" y="37353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111640" y="37274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063760" y="37195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176800" y="349416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117760" y="377532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976640" y="35928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993920" y="3587760"/>
                <a:ext cx="8424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249520" y="387828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035320" y="385308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100480" y="35830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308560" y="3603600"/>
                <a:ext cx="5364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1" name=""/>
            <p:cNvGrpSpPr/>
            <p:nvPr/>
          </p:nvGrpSpPr>
          <p:grpSpPr>
            <a:xfrm>
              <a:off x="6119640" y="3589560"/>
              <a:ext cx="571320" cy="204840"/>
              <a:chOff x="6119640" y="3589560"/>
              <a:chExt cx="571320" cy="204840"/>
            </a:xfrm>
          </p:grpSpPr>
          <p:sp>
            <p:nvSpPr>
              <p:cNvPr id="2912" name=""/>
              <p:cNvSpPr/>
              <p:nvPr/>
            </p:nvSpPr>
            <p:spPr>
              <a:xfrm>
                <a:off x="6119640" y="358956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360840" y="3632400"/>
                <a:ext cx="6048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270480" y="3622680"/>
                <a:ext cx="6012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159240" y="3732480"/>
                <a:ext cx="27936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119640" y="361656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364080" y="35910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154560" y="36529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294240" y="365616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0" name=""/>
            <p:cNvGrpSpPr/>
            <p:nvPr/>
          </p:nvGrpSpPr>
          <p:grpSpPr>
            <a:xfrm>
              <a:off x="6405480" y="4256280"/>
              <a:ext cx="571320" cy="204840"/>
              <a:chOff x="6405480" y="4256280"/>
              <a:chExt cx="571320" cy="204840"/>
            </a:xfrm>
          </p:grpSpPr>
          <p:sp>
            <p:nvSpPr>
              <p:cNvPr id="2921" name=""/>
              <p:cNvSpPr/>
              <p:nvPr/>
            </p:nvSpPr>
            <p:spPr>
              <a:xfrm>
                <a:off x="6405480" y="425628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646680" y="42976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556320" y="42879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445080" y="43992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405480" y="42814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649920" y="4256280"/>
                <a:ext cx="32364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440400" y="4319640"/>
                <a:ext cx="3222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581520" y="432144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9" name=""/>
            <p:cNvGrpSpPr/>
            <p:nvPr/>
          </p:nvGrpSpPr>
          <p:grpSpPr>
            <a:xfrm>
              <a:off x="5738760" y="5208840"/>
              <a:ext cx="571320" cy="204840"/>
              <a:chOff x="5738760" y="5208840"/>
              <a:chExt cx="571320" cy="204840"/>
            </a:xfrm>
          </p:grpSpPr>
          <p:sp>
            <p:nvSpPr>
              <p:cNvPr id="2930" name=""/>
              <p:cNvSpPr/>
              <p:nvPr/>
            </p:nvSpPr>
            <p:spPr>
              <a:xfrm>
                <a:off x="5738760" y="52088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979960" y="524844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889600" y="52405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778360" y="53499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38760" y="5234040"/>
                <a:ext cx="21240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983200" y="520884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773680" y="5270760"/>
                <a:ext cx="32040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913360" y="52722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8" name=""/>
            <p:cNvGrpSpPr/>
            <p:nvPr/>
          </p:nvGrpSpPr>
          <p:grpSpPr>
            <a:xfrm>
              <a:off x="7833960" y="3780000"/>
              <a:ext cx="571680" cy="204840"/>
              <a:chOff x="7833960" y="3780000"/>
              <a:chExt cx="571680" cy="204840"/>
            </a:xfrm>
          </p:grpSpPr>
          <p:sp>
            <p:nvSpPr>
              <p:cNvPr id="2939" name=""/>
              <p:cNvSpPr/>
              <p:nvPr/>
            </p:nvSpPr>
            <p:spPr>
              <a:xfrm>
                <a:off x="7833960" y="378000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8075520" y="382140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984800" y="381348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873920" y="392292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833960" y="380700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078760" y="37814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868880" y="384336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008560" y="384516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7" name=""/>
            <p:cNvGrpSpPr/>
            <p:nvPr/>
          </p:nvGrpSpPr>
          <p:grpSpPr>
            <a:xfrm>
              <a:off x="4595760" y="4542120"/>
              <a:ext cx="571320" cy="204480"/>
              <a:chOff x="4595760" y="4542120"/>
              <a:chExt cx="571320" cy="204480"/>
            </a:xfrm>
          </p:grpSpPr>
          <p:sp>
            <p:nvSpPr>
              <p:cNvPr id="2948" name=""/>
              <p:cNvSpPr/>
              <p:nvPr/>
            </p:nvSpPr>
            <p:spPr>
              <a:xfrm>
                <a:off x="4595760" y="4542120"/>
                <a:ext cx="57132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836960" y="458316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746600" y="457380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635360" y="46850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95760" y="4567320"/>
                <a:ext cx="21240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840200" y="4542120"/>
                <a:ext cx="32364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630680" y="4605480"/>
                <a:ext cx="3204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770360" y="460692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6" name=""/>
            <p:cNvGrpSpPr/>
            <p:nvPr/>
          </p:nvGrpSpPr>
          <p:grpSpPr>
            <a:xfrm>
              <a:off x="7072200" y="2637000"/>
              <a:ext cx="571320" cy="204840"/>
              <a:chOff x="7072200" y="2637000"/>
              <a:chExt cx="571320" cy="204840"/>
            </a:xfrm>
          </p:grpSpPr>
          <p:sp>
            <p:nvSpPr>
              <p:cNvPr id="2957" name=""/>
              <p:cNvSpPr/>
              <p:nvPr/>
            </p:nvSpPr>
            <p:spPr>
              <a:xfrm>
                <a:off x="7072200" y="26370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313400" y="26798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223040" y="26719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111800" y="27813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072200" y="26654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316640" y="264024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107120" y="27021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246800" y="270360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5" name=""/>
            <p:cNvGrpSpPr/>
            <p:nvPr/>
          </p:nvGrpSpPr>
          <p:grpSpPr>
            <a:xfrm>
              <a:off x="7357680" y="4351320"/>
              <a:ext cx="487440" cy="567000"/>
              <a:chOff x="7357680" y="4351320"/>
              <a:chExt cx="487440" cy="567000"/>
            </a:xfrm>
          </p:grpSpPr>
          <p:sp>
            <p:nvSpPr>
              <p:cNvPr id="2966" name=""/>
              <p:cNvSpPr/>
              <p:nvPr/>
            </p:nvSpPr>
            <p:spPr>
              <a:xfrm>
                <a:off x="7375320" y="4356360"/>
                <a:ext cx="44784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372080" y="447372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727760" y="4624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680240" y="46166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634160" y="46087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586280" y="460080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538760" y="45928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492680" y="45849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445160" y="45770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557840" y="4351320"/>
                <a:ext cx="14760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499160" y="4632480"/>
                <a:ext cx="16992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357680" y="44499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375320" y="444528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630920" y="47358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416720" y="471024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481520" y="444024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689600" y="44611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3" name=""/>
            <p:cNvGrpSpPr/>
            <p:nvPr/>
          </p:nvGrpSpPr>
          <p:grpSpPr>
            <a:xfrm>
              <a:off x="5452920" y="4256280"/>
              <a:ext cx="487440" cy="565200"/>
              <a:chOff x="5452920" y="4256280"/>
              <a:chExt cx="487440" cy="565200"/>
            </a:xfrm>
          </p:grpSpPr>
          <p:sp>
            <p:nvSpPr>
              <p:cNvPr id="2984" name=""/>
              <p:cNvSpPr/>
              <p:nvPr/>
            </p:nvSpPr>
            <p:spPr>
              <a:xfrm>
                <a:off x="5470200" y="426096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467320" y="43768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822640" y="4529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775120" y="4521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729040" y="4513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681520" y="4505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634000" y="44974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87920" y="4489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540040" y="448020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652720" y="4256280"/>
                <a:ext cx="14796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594040" y="453708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452920" y="43545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468760" y="43498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725800" y="4640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511600" y="4614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76760" y="434520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784480" y="4365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547960" y="2922840"/>
              <a:ext cx="571680" cy="204840"/>
              <a:chOff x="5547960" y="2922840"/>
              <a:chExt cx="571680" cy="2048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547960" y="29228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789520" y="29656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698800" y="29577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587920" y="30672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547960" y="294984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792760" y="29260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582880" y="29880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722560" y="29894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10" name=""/>
            <p:cNvSpPr/>
            <p:nvPr/>
          </p:nvSpPr>
          <p:spPr>
            <a:xfrm>
              <a:off x="6095880" y="439128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242760" y="4426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2" name=""/>
            <p:cNvGrpSpPr/>
            <p:nvPr/>
          </p:nvGrpSpPr>
          <p:grpSpPr>
            <a:xfrm>
              <a:off x="4400280" y="4346640"/>
              <a:ext cx="865080" cy="579600"/>
              <a:chOff x="4400280" y="4346640"/>
              <a:chExt cx="865080" cy="579600"/>
            </a:xfrm>
          </p:grpSpPr>
          <p:sp>
            <p:nvSpPr>
              <p:cNvPr id="3013" name=""/>
              <p:cNvSpPr/>
              <p:nvPr/>
            </p:nvSpPr>
            <p:spPr>
              <a:xfrm>
                <a:off x="479736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741560" y="434988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687560" y="43578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635360" y="43689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582800" y="4386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533840" y="44103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489200" y="44402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451040" y="447516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422600" y="4518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404960" y="456732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400280" y="4623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406760" y="467676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425840" y="47293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457520" y="4773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497120" y="4813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541760" y="4845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592520" y="4870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644720" y="48895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697280" y="490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752720" y="49136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808160" y="49165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863960" y="49150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917960" y="49071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973400" y="489276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025960" y="48754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078160" y="48517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125680" y="48214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170320" y="47815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208480" y="47386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238720" y="468792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256000" y="46339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249520" y="45784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227560" y="45277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194080" y="44830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152680" y="444672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106960" y="4416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057640" y="4391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005080" y="437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951080" y="43596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897080" y="4351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84164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4" name=""/>
            <p:cNvGrpSpPr/>
            <p:nvPr/>
          </p:nvGrpSpPr>
          <p:grpSpPr>
            <a:xfrm>
              <a:off x="5400360" y="2727360"/>
              <a:ext cx="865440" cy="579600"/>
              <a:chOff x="5400360" y="2727360"/>
              <a:chExt cx="865440" cy="579600"/>
            </a:xfrm>
          </p:grpSpPr>
          <p:sp>
            <p:nvSpPr>
              <p:cNvPr id="3055" name=""/>
              <p:cNvSpPr/>
              <p:nvPr/>
            </p:nvSpPr>
            <p:spPr>
              <a:xfrm>
                <a:off x="579744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741640" y="2730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687640" y="27385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635440" y="2749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582880" y="2767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533920" y="2791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489280" y="2820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451120" y="2856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422680" y="2899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405400" y="2948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400360" y="3003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406840" y="30578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425920" y="3110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457600" y="3154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497200" y="319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541840" y="32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592600" y="32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44800" y="3270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697360" y="3284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752800" y="3294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08600" y="3297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64040" y="3295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918040" y="3287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973480" y="3273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026040" y="3256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078240" y="3232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126120" y="3202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170400" y="3162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208560" y="3119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238800" y="3068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256080" y="3014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249960" y="2959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227640" y="290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194160" y="2864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153120" y="2827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107040" y="2797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057720" y="2772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005160" y="2752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951160" y="274032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897520" y="2732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84172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6" name=""/>
            <p:cNvGrpSpPr/>
            <p:nvPr/>
          </p:nvGrpSpPr>
          <p:grpSpPr>
            <a:xfrm>
              <a:off x="6932520" y="2401920"/>
              <a:ext cx="865080" cy="579600"/>
              <a:chOff x="6932520" y="2401920"/>
              <a:chExt cx="865080" cy="579600"/>
            </a:xfrm>
          </p:grpSpPr>
          <p:sp>
            <p:nvSpPr>
              <p:cNvPr id="3097" name=""/>
              <p:cNvSpPr/>
              <p:nvPr/>
            </p:nvSpPr>
            <p:spPr>
              <a:xfrm>
                <a:off x="732924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273800" y="24051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219800" y="24130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167240" y="24242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115040" y="24418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065720" y="2465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021440" y="2495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983280" y="2530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954480" y="2573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937200" y="26226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932520" y="26784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938640" y="2732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957720" y="27846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989400" y="2829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029360" y="28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073640" y="2900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124400" y="2926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176960" y="29448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229160" y="29592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284960" y="296892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340400" y="2971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395840" y="297036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449840" y="29624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505640" y="29480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557840" y="29307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610400" y="29070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657920" y="2876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702200" y="2837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40360" y="27943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770600" y="27432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788240" y="268920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781760" y="2633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9440" y="258300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726320" y="25387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684920" y="25020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638840" y="2471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589520" y="2446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537320" y="2427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483320" y="24148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429320" y="24069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37388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8" name=""/>
            <p:cNvGrpSpPr/>
            <p:nvPr/>
          </p:nvGrpSpPr>
          <p:grpSpPr>
            <a:xfrm>
              <a:off x="6019560" y="3394080"/>
              <a:ext cx="865080" cy="579600"/>
              <a:chOff x="6019560" y="3394080"/>
              <a:chExt cx="865080" cy="579600"/>
            </a:xfrm>
          </p:grpSpPr>
          <p:sp>
            <p:nvSpPr>
              <p:cNvPr id="3139" name=""/>
              <p:cNvSpPr/>
              <p:nvPr/>
            </p:nvSpPr>
            <p:spPr>
              <a:xfrm>
                <a:off x="641664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360840" y="3397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306840" y="340524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254640" y="34164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202080" y="34340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53120" y="34578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08480" y="34880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070320" y="35229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041880" y="35658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024240" y="361476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019560" y="3670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026040" y="37245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045120" y="37767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076800" y="3821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16400" y="3861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61040" y="3892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211800" y="3918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264000" y="39373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316560" y="39513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372000" y="3961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42744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483240" y="3962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37240" y="39546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592680" y="3940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645240" y="392292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697440" y="3899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44960" y="3868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789600" y="38293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827760" y="3786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857640" y="3735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875280" y="368172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868800" y="3625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846840" y="357516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813360" y="3530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77196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725880" y="346392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676920" y="34387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624360" y="341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570360" y="340704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516360" y="339912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46092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0" name=""/>
            <p:cNvGrpSpPr/>
            <p:nvPr/>
          </p:nvGrpSpPr>
          <p:grpSpPr>
            <a:xfrm>
              <a:off x="6305400" y="4060800"/>
              <a:ext cx="865080" cy="579600"/>
              <a:chOff x="6305400" y="4060800"/>
              <a:chExt cx="865080" cy="579600"/>
            </a:xfrm>
          </p:grpSpPr>
          <p:sp>
            <p:nvSpPr>
              <p:cNvPr id="3181" name=""/>
              <p:cNvSpPr/>
              <p:nvPr/>
            </p:nvSpPr>
            <p:spPr>
              <a:xfrm>
                <a:off x="6702120" y="4060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646680" y="4064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592680" y="407196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540120" y="408312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487920" y="4100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438600" y="4124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394320" y="415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356160" y="4189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327720" y="4232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310080" y="4281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305400" y="4337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311520" y="439128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330600" y="44434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362640" y="4488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402240" y="45277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446520" y="4559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497280" y="45849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549840" y="460404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602040" y="46180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657840" y="4627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713280" y="46310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768720" y="4629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822720" y="462132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878520" y="4606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930720" y="458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983280" y="456588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030800" y="4535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075440" y="4496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113240" y="4453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143480" y="440244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161120" y="434844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154640" y="429264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132320" y="424188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99200" y="4197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057800" y="4160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011720" y="41310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962400" y="41054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910200" y="4086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856200" y="4073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802200" y="406584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746760" y="4060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2" name=""/>
            <p:cNvGrpSpPr/>
            <p:nvPr/>
          </p:nvGrpSpPr>
          <p:grpSpPr>
            <a:xfrm>
              <a:off x="7734240" y="3584880"/>
              <a:ext cx="865080" cy="579240"/>
              <a:chOff x="7734240" y="3584880"/>
              <a:chExt cx="865080" cy="579240"/>
            </a:xfrm>
          </p:grpSpPr>
          <p:sp>
            <p:nvSpPr>
              <p:cNvPr id="3223" name=""/>
              <p:cNvSpPr/>
              <p:nvPr/>
            </p:nvSpPr>
            <p:spPr>
              <a:xfrm>
                <a:off x="813096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8075520" y="358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021520" y="3595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68960" y="3606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16760" y="36244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867440" y="3648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823160" y="3678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785000" y="3713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756200" y="37562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738920" y="3805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734240" y="386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740360" y="3915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759440" y="3967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791120" y="4011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831080" y="4051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875360" y="4083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926120" y="4108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978680" y="4127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8030880" y="41418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8086680" y="4151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8142120" y="4154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8197560" y="4152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8251560" y="41450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8307360" y="413100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8359560" y="4113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8412120" y="4089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8459640" y="4059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8503920" y="4019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8542080" y="3976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8572320" y="39261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8589600" y="3872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8583480" y="381636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8561160" y="3765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8527680" y="372132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8486640" y="3684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8440560" y="3654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8391240" y="3629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8339040" y="3610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8285040" y="35974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8231040" y="35895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817560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4" name=""/>
            <p:cNvGrpSpPr/>
            <p:nvPr/>
          </p:nvGrpSpPr>
          <p:grpSpPr>
            <a:xfrm>
              <a:off x="5622840" y="5005440"/>
              <a:ext cx="865080" cy="579600"/>
              <a:chOff x="5622840" y="5005440"/>
              <a:chExt cx="865080" cy="579600"/>
            </a:xfrm>
          </p:grpSpPr>
          <p:sp>
            <p:nvSpPr>
              <p:cNvPr id="3265" name=""/>
              <p:cNvSpPr/>
              <p:nvPr/>
            </p:nvSpPr>
            <p:spPr>
              <a:xfrm>
                <a:off x="601956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964120" y="500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910120" y="50166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857560" y="50277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805360" y="504540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756040" y="50691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711760" y="50990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673600" y="513396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644800" y="5177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627520" y="52261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622840" y="5281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628960" y="53355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648040" y="53881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679720" y="5432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719680" y="54723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763960" y="55040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814720" y="552924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867280" y="55483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919480" y="5562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5975280" y="55724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030720" y="55753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086160" y="5573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6140160" y="5565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195960" y="555156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6248160" y="5534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6300720" y="55105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6348240" y="5480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6392520" y="5440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430680" y="5397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6460920" y="53467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478560" y="52927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6472080" y="52372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449760" y="5186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416640" y="514224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375240" y="5105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329160" y="50752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279840" y="5050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622764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173640" y="50184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119640" y="50101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06420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6" name=""/>
            <p:cNvSpPr/>
            <p:nvPr/>
          </p:nvSpPr>
          <p:spPr>
            <a:xfrm>
              <a:off x="7643520" y="490716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0760" y="4942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833800" y="3057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949000" y="3092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881240" y="469296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996800" y="472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357680" y="2732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473240" y="2767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508440" y="37166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655680" y="375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690960" y="444672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6838200" y="448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119640" y="5343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6234840" y="537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10240" y="3875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425800" y="3910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278240" y="23115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3" name=""/>
            <p:cNvGrpSpPr/>
            <p:nvPr/>
          </p:nvGrpSpPr>
          <p:grpSpPr>
            <a:xfrm>
              <a:off x="6927480" y="3051360"/>
              <a:ext cx="1106640" cy="2079720"/>
              <a:chOff x="6927480" y="3051360"/>
              <a:chExt cx="1106640" cy="2079720"/>
            </a:xfrm>
          </p:grpSpPr>
          <p:sp>
            <p:nvSpPr>
              <p:cNvPr id="3324" name=""/>
              <p:cNvSpPr/>
              <p:nvPr/>
            </p:nvSpPr>
            <p:spPr>
              <a:xfrm>
                <a:off x="6960960" y="365148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5" y="43"/>
                    </a:moveTo>
                    <a:lnTo>
                      <a:pt x="17" y="45"/>
                    </a:lnTo>
                    <a:lnTo>
                      <a:pt x="25" y="60"/>
                    </a:lnTo>
                    <a:lnTo>
                      <a:pt x="27" y="61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5" y="58"/>
                    </a:lnTo>
                    <a:lnTo>
                      <a:pt x="35" y="56"/>
                    </a:lnTo>
                    <a:lnTo>
                      <a:pt x="34" y="55"/>
                    </a:lnTo>
                    <a:lnTo>
                      <a:pt x="25" y="40"/>
                    </a:lnTo>
                    <a:lnTo>
                      <a:pt x="20" y="41"/>
                    </a:lnTo>
                    <a:lnTo>
                      <a:pt x="2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945120" y="35989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43"/>
                    </a:moveTo>
                    <a:lnTo>
                      <a:pt x="12" y="45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932520" y="354348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7"/>
                    </a:moveTo>
                    <a:lnTo>
                      <a:pt x="9" y="48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2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6929280" y="34880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4" y="46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0" y="23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927480" y="3432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45"/>
                    </a:moveTo>
                    <a:lnTo>
                      <a:pt x="1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38"/>
                    </a:lnTo>
                    <a:lnTo>
                      <a:pt x="5" y="40"/>
                    </a:lnTo>
                    <a:lnTo>
                      <a:pt x="10" y="40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6930720" y="337680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938640" y="33228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27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3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948360" y="32688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2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962400" y="32148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978600" y="3162600"/>
                <a:ext cx="20520" cy="3780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20" y="15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0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002360" y="31147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7" y="3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8" y="25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034040" y="30783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" y="25"/>
                    </a:move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21" y="20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6" y="12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081560" y="30592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5" y="10"/>
                    </a:moveTo>
                    <a:lnTo>
                      <a:pt x="3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0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8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135560" y="3052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22" y="12"/>
                    </a:lnTo>
                    <a:lnTo>
                      <a:pt x="45" y="10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2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191000" y="305136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246800" y="3051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302240" y="30578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2" y="12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356240" y="3065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410240" y="3078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23" y="15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462800" y="309564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513560" y="311976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5"/>
                    </a:lnTo>
                    <a:lnTo>
                      <a:pt x="37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3"/>
                    </a:lnTo>
                    <a:lnTo>
                      <a:pt x="18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557840" y="315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5"/>
                    </a:lnTo>
                    <a:lnTo>
                      <a:pt x="23" y="21"/>
                    </a:lnTo>
                    <a:lnTo>
                      <a:pt x="18" y="23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26" y="18"/>
                    </a:lnTo>
                    <a:lnTo>
                      <a:pt x="25" y="1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594560" y="3194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10" y="3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6" y="35"/>
                    </a:lnTo>
                    <a:lnTo>
                      <a:pt x="20" y="33"/>
                    </a:lnTo>
                    <a:lnTo>
                      <a:pt x="15" y="3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615080" y="3245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0" y="3"/>
                    </a:move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2" y="8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624440" y="32990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3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3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627680" y="33544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9"/>
                    </a:lnTo>
                    <a:lnTo>
                      <a:pt x="7" y="17"/>
                    </a:lnTo>
                    <a:lnTo>
                      <a:pt x="2" y="17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626240" y="34099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621560" y="346572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7619760" y="35211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16520" y="35769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613280" y="36324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0" y="2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613280" y="3687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5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616520" y="37436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4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621560" y="37972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0" y="5"/>
                    </a:move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634160" y="3853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10" y="5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30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8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3" y="43"/>
                    </a:lnTo>
                    <a:lnTo>
                      <a:pt x="16" y="2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653240" y="390528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11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678440" y="395460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0" y="2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4" y="42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710120" y="40006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9" y="31"/>
                    </a:lnTo>
                    <a:lnTo>
                      <a:pt x="25" y="38"/>
                    </a:lnTo>
                    <a:lnTo>
                      <a:pt x="27" y="40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27" y="2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743600" y="40435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0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20"/>
                    </a:lnTo>
                    <a:lnTo>
                      <a:pt x="27" y="38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5" y="33"/>
                    </a:lnTo>
                    <a:lnTo>
                      <a:pt x="20" y="15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779960" y="40863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26" y="37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11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818120" y="41277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9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7" y="36"/>
                    </a:lnTo>
                    <a:lnTo>
                      <a:pt x="29" y="38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5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5" y="31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854840" y="41688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8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7" y="37"/>
                    </a:lnTo>
                    <a:lnTo>
                      <a:pt x="27" y="39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5" y="34"/>
                    </a:lnTo>
                    <a:lnTo>
                      <a:pt x="35" y="3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891200" y="42102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25" y="2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26120" y="425304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8" y="17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17" y="1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59600" y="42976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8" y="3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1" y="41"/>
                    </a:lnTo>
                    <a:lnTo>
                      <a:pt x="23" y="43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986600" y="4345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3" y="35"/>
                    </a:lnTo>
                    <a:lnTo>
                      <a:pt x="18" y="31"/>
                    </a:lnTo>
                    <a:lnTo>
                      <a:pt x="13" y="33"/>
                    </a:lnTo>
                    <a:lnTo>
                      <a:pt x="16" y="43"/>
                    </a:lnTo>
                    <a:lnTo>
                      <a:pt x="18" y="45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3" y="31"/>
                    </a:lnTo>
                    <a:lnTo>
                      <a:pt x="21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8008560" y="43974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10" y="5"/>
                    </a:move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4" y="15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2" y="43"/>
                    </a:lnTo>
                    <a:lnTo>
                      <a:pt x="20" y="36"/>
                    </a:lnTo>
                    <a:lnTo>
                      <a:pt x="14" y="1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8021520" y="44514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8026200" y="45072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7" y="32"/>
                    </a:lnTo>
                    <a:lnTo>
                      <a:pt x="2" y="30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8026200" y="4562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2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021520" y="461808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13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015040" y="4672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7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5" y="1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005680" y="47278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7"/>
                    </a:moveTo>
                    <a:lnTo>
                      <a:pt x="17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994520" y="47815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6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978680" y="483732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7"/>
                    </a:moveTo>
                    <a:lnTo>
                      <a:pt x="21" y="5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962840" y="4891320"/>
                <a:ext cx="17280" cy="363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941960" y="494208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5" y="7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2" y="39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914960" y="4992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6"/>
                    </a:moveTo>
                    <a:lnTo>
                      <a:pt x="30" y="5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0" y="21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883280" y="50421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3" y="7"/>
                    </a:moveTo>
                    <a:lnTo>
                      <a:pt x="35" y="5"/>
                    </a:lnTo>
                    <a:lnTo>
                      <a:pt x="35" y="4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11" y="22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39"/>
                    </a:lnTo>
                    <a:lnTo>
                      <a:pt x="20" y="27"/>
                    </a:lnTo>
                    <a:lnTo>
                      <a:pt x="33" y="9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41880" y="5083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8"/>
                    </a:moveTo>
                    <a:lnTo>
                      <a:pt x="42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20" y="13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25" y="21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789680" y="51134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5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7" y="2"/>
                    </a:lnTo>
                    <a:lnTo>
                      <a:pt x="17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19" y="17"/>
                    </a:lnTo>
                    <a:lnTo>
                      <a:pt x="39" y="12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734240" y="5121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42" y="7"/>
                    </a:lnTo>
                    <a:lnTo>
                      <a:pt x="4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678440" y="51152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5" y="15"/>
                    </a:moveTo>
                    <a:lnTo>
                      <a:pt x="45" y="15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624440" y="5104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7" y="18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2" y="13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572240" y="50896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19" y="5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17" y="15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518240" y="507060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467480" y="50515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1" y="25"/>
                    </a:moveTo>
                    <a:lnTo>
                      <a:pt x="43" y="25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5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416720" y="50277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367400" y="5000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28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28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3" y="21"/>
                    </a:lnTo>
                    <a:lnTo>
                      <a:pt x="41" y="20"/>
                    </a:lnTo>
                    <a:lnTo>
                      <a:pt x="20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5" y="18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319880" y="497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1" y="21"/>
                    </a:lnTo>
                    <a:lnTo>
                      <a:pt x="21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273800" y="49402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5" y="31"/>
                    </a:moveTo>
                    <a:lnTo>
                      <a:pt x="37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0" y="23"/>
                    </a:lnTo>
                    <a:lnTo>
                      <a:pt x="24" y="1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19" y="21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232400" y="49053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3" y="35"/>
                    </a:move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28" y="20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3" y="28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192800" y="4865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8" y="38"/>
                    </a:move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0" y="33"/>
                    </a:lnTo>
                    <a:lnTo>
                      <a:pt x="33" y="31"/>
                    </a:lnTo>
                    <a:lnTo>
                      <a:pt x="15" y="11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25" y="36"/>
                    </a:lnTo>
                    <a:lnTo>
                      <a:pt x="26" y="38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161120" y="48214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1" y="42"/>
                    </a:move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23" y="27"/>
                    </a:lnTo>
                    <a:lnTo>
                      <a:pt x="11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15" y="32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145280" y="47674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5" y="30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32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138800" y="471168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7"/>
                    </a:move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25"/>
                    </a:lnTo>
                    <a:lnTo>
                      <a:pt x="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140240" y="4656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145280" y="4602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5" y="12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1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154640" y="45482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7" y="1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167240" y="4494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1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181640" y="4440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6" y="1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6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196040" y="4386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210080" y="433260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9" y="15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224480" y="42800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6" y="1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6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238880" y="422604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20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1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250040" y="41706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4" y="2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4" y="2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257960" y="41148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2" y="3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257960" y="405936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4" y="45"/>
                    </a:moveTo>
                    <a:lnTo>
                      <a:pt x="5" y="46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28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4" y="30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243560" y="4005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9">
                    <a:moveTo>
                      <a:pt x="12" y="45"/>
                    </a:moveTo>
                    <a:lnTo>
                      <a:pt x="12" y="47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2" y="44"/>
                    </a:lnTo>
                    <a:lnTo>
                      <a:pt x="18" y="32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8" y="34"/>
                    </a:lnTo>
                    <a:lnTo>
                      <a:pt x="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219800" y="39560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0"/>
                    </a:moveTo>
                    <a:lnTo>
                      <a:pt x="18" y="41"/>
                    </a:lnTo>
                    <a:lnTo>
                      <a:pt x="20" y="43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3"/>
                    </a:lnTo>
                    <a:lnTo>
                      <a:pt x="27" y="41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8" y="20"/>
                    </a:lnTo>
                    <a:lnTo>
                      <a:pt x="12" y="16"/>
                    </a:lnTo>
                    <a:lnTo>
                      <a:pt x="7" y="18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188120" y="3910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5" y="40"/>
                    </a:moveTo>
                    <a:lnTo>
                      <a:pt x="27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7"/>
                    </a:lnTo>
                    <a:lnTo>
                      <a:pt x="33" y="35"/>
                    </a:lnTo>
                    <a:lnTo>
                      <a:pt x="12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149960" y="3868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0" y="36"/>
                    </a:moveTo>
                    <a:lnTo>
                      <a:pt x="31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6" y="33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110360" y="3830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0" y="35"/>
                    </a:moveTo>
                    <a:lnTo>
                      <a:pt x="31" y="37"/>
                    </a:lnTo>
                    <a:lnTo>
                      <a:pt x="33" y="39"/>
                    </a:lnTo>
                    <a:lnTo>
                      <a:pt x="35" y="39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30" y="2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5" y="30"/>
                    </a:lnTo>
                    <a:lnTo>
                      <a:pt x="26" y="25"/>
                    </a:lnTo>
                    <a:lnTo>
                      <a:pt x="23" y="29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068960" y="37944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2" y="36"/>
                    </a:moveTo>
                    <a:lnTo>
                      <a:pt x="33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8" y="30"/>
                    </a:lnTo>
                    <a:lnTo>
                      <a:pt x="37" y="28"/>
                    </a:lnTo>
                    <a:lnTo>
                      <a:pt x="25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0" y="25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7029360" y="375624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0" y="37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22" y="17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3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992640" y="3713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2" y="18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4" y="23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4746600" y="3354480"/>
              <a:ext cx="1569960" cy="1668600"/>
              <a:chOff x="4746600" y="3354480"/>
              <a:chExt cx="1569960" cy="1668600"/>
            </a:xfrm>
          </p:grpSpPr>
          <p:sp>
            <p:nvSpPr>
              <p:cNvPr id="3421" name=""/>
              <p:cNvSpPr/>
              <p:nvPr/>
            </p:nvSpPr>
            <p:spPr>
              <a:xfrm>
                <a:off x="4771800" y="4030920"/>
                <a:ext cx="27000" cy="5868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13" y="45"/>
                    </a:moveTo>
                    <a:lnTo>
                      <a:pt x="22" y="62"/>
                    </a:lnTo>
                    <a:lnTo>
                      <a:pt x="23" y="63"/>
                    </a:lnTo>
                    <a:lnTo>
                      <a:pt x="27" y="70"/>
                    </a:lnTo>
                    <a:lnTo>
                      <a:pt x="28" y="72"/>
                    </a:lnTo>
                    <a:lnTo>
                      <a:pt x="30" y="73"/>
                    </a:lnTo>
                    <a:lnTo>
                      <a:pt x="32" y="73"/>
                    </a:lnTo>
                    <a:lnTo>
                      <a:pt x="33" y="72"/>
                    </a:lnTo>
                    <a:lnTo>
                      <a:pt x="35" y="70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2" y="58"/>
                    </a:lnTo>
                    <a:lnTo>
                      <a:pt x="27" y="62"/>
                    </a:lnTo>
                    <a:lnTo>
                      <a:pt x="32" y="60"/>
                    </a:lnTo>
                    <a:lnTo>
                      <a:pt x="23" y="43"/>
                    </a:lnTo>
                    <a:lnTo>
                      <a:pt x="17" y="23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25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4759200" y="39769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8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7" y="46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13" y="21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23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4751280" y="39229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7" y="47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40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4748040" y="38671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4746600" y="38116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4748040" y="37562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4749480" y="37004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4755960" y="364500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3" y="1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3" y="1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4763880" y="359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25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3" y="2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4776480" y="3537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0" y="42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3" y="34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3" y="3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4794120" y="348624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40"/>
                    </a:move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4817880" y="343872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0" y="35"/>
                    </a:move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12" y="35"/>
                    </a:lnTo>
                    <a:lnTo>
                      <a:pt x="24" y="15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4" y="3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849560" y="3399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4"/>
                    </a:lnTo>
                    <a:lnTo>
                      <a:pt x="12" y="30"/>
                    </a:lnTo>
                    <a:lnTo>
                      <a:pt x="9" y="27"/>
                    </a:lnTo>
                    <a:lnTo>
                      <a:pt x="10" y="32"/>
                    </a:lnTo>
                    <a:lnTo>
                      <a:pt x="27" y="17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2" y="9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892400" y="3373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" y="15"/>
                    </a:move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25" y="16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24" y="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4946400" y="336096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2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0" y="1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000400" y="33562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3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055840" y="33544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11640" y="33562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167080" y="3360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22520" y="33656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276520" y="33735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330520" y="3384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384520" y="33958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0"/>
                    </a:lnTo>
                    <a:lnTo>
                      <a:pt x="45" y="20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438520" y="340848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5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492520" y="34261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545080" y="34434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10" y="13"/>
                    </a:lnTo>
                    <a:lnTo>
                      <a:pt x="37" y="23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38" y="13"/>
                    </a:lnTo>
                    <a:lnTo>
                      <a:pt x="12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597280" y="34657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17" y="17"/>
                    </a:lnTo>
                    <a:lnTo>
                      <a:pt x="37" y="29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3" y="27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42" y="20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64480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2" y="17"/>
                    </a:lnTo>
                    <a:lnTo>
                      <a:pt x="25" y="29"/>
                    </a:lnTo>
                    <a:lnTo>
                      <a:pt x="28" y="24"/>
                    </a:lnTo>
                    <a:lnTo>
                      <a:pt x="23" y="27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9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1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681520" y="3533760"/>
                <a:ext cx="19080" cy="367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6" y="1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13" y="32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3" y="30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700600" y="35863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2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700600" y="364176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695920" y="369756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7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692680" y="3753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18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692680" y="38070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695920" y="386244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8" y="45"/>
                    </a:lnTo>
                    <a:lnTo>
                      <a:pt x="10" y="47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0" y="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709960" y="391644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0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733720" y="396576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0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5" y="29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5" y="37"/>
                    </a:lnTo>
                    <a:lnTo>
                      <a:pt x="34" y="35"/>
                    </a:lnTo>
                    <a:lnTo>
                      <a:pt x="24" y="2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770440" y="40100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9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4" y="39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7" y="32"/>
                    </a:lnTo>
                    <a:lnTo>
                      <a:pt x="35" y="3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810040" y="40482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9" y="30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10" y="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851440" y="4083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895720" y="4118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940360" y="4151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0" y="2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986080" y="41846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030720" y="42166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35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075000" y="42498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121080" y="42814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8"/>
                    </a:lnTo>
                    <a:lnTo>
                      <a:pt x="33" y="33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5"/>
                    </a:lnTo>
                    <a:lnTo>
                      <a:pt x="18" y="1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163920" y="431640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22"/>
                    </a:lnTo>
                    <a:lnTo>
                      <a:pt x="32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8"/>
                    </a:lnTo>
                    <a:lnTo>
                      <a:pt x="37" y="27"/>
                    </a:lnTo>
                    <a:lnTo>
                      <a:pt x="22" y="1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205320" y="4353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21" y="1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244920" y="43927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0" y="17"/>
                    </a:lnTo>
                    <a:lnTo>
                      <a:pt x="28" y="37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18" y="1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279840" y="44355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8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3" y="25"/>
                    </a:lnTo>
                    <a:lnTo>
                      <a:pt x="21" y="2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303600" y="448488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0" y="5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30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28"/>
                    </a:lnTo>
                    <a:lnTo>
                      <a:pt x="11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292800" y="45403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5" y="5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0" y="20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259320" y="45882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5" y="3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13" y="35"/>
                    </a:lnTo>
                    <a:lnTo>
                      <a:pt x="32" y="10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219720" y="46310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10"/>
                    </a:moveTo>
                    <a:lnTo>
                      <a:pt x="38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8" y="37"/>
                    </a:lnTo>
                    <a:lnTo>
                      <a:pt x="13" y="33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6176880" y="46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8" y="9"/>
                    </a:moveTo>
                    <a:lnTo>
                      <a:pt x="40" y="7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36" y="10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134040" y="47023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0" y="10"/>
                    </a:moveTo>
                    <a:lnTo>
                      <a:pt x="41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21" y="11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26" y="2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089400" y="47358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40" y="10"/>
                    </a:moveTo>
                    <a:lnTo>
                      <a:pt x="42" y="9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041880" y="4767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2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25" y="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30" y="17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994360" y="4797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1" y="10"/>
                    </a:moveTo>
                    <a:lnTo>
                      <a:pt x="43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946480" y="4826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2" y="8"/>
                    </a:moveTo>
                    <a:lnTo>
                      <a:pt x="43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897520" y="4853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4" y="10"/>
                    </a:move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848200" y="4878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3" y="9"/>
                    </a:move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1" y="14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797440" y="490248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746680" y="492624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10"/>
                    </a:moveTo>
                    <a:lnTo>
                      <a:pt x="45" y="10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5695920" y="4948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10"/>
                    </a:moveTo>
                    <a:lnTo>
                      <a:pt x="43" y="8"/>
                    </a:lnTo>
                    <a:lnTo>
                      <a:pt x="45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8" y="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0" y="1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5643360" y="4969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12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4" y="2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589360" y="498816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10"/>
                    </a:moveTo>
                    <a:lnTo>
                      <a:pt x="46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41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535360" y="50022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5" y="10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37" y="14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481360" y="50119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12" y="13"/>
                    </a:lnTo>
                    <a:lnTo>
                      <a:pt x="40" y="11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427360" y="50072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1" y="20"/>
                    </a:moveTo>
                    <a:lnTo>
                      <a:pt x="43" y="20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3" y="8"/>
                    </a:lnTo>
                    <a:lnTo>
                      <a:pt x="13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1" y="13"/>
                    </a:lnTo>
                    <a:lnTo>
                      <a:pt x="31" y="18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384520" y="49705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0" y="40"/>
                    </a:moveTo>
                    <a:lnTo>
                      <a:pt x="32" y="40"/>
                    </a:lnTo>
                    <a:lnTo>
                      <a:pt x="34" y="40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34" y="30"/>
                    </a:lnTo>
                    <a:lnTo>
                      <a:pt x="20" y="17"/>
                    </a:lnTo>
                    <a:lnTo>
                      <a:pt x="17" y="20"/>
                    </a:lnTo>
                    <a:lnTo>
                      <a:pt x="22" y="19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29" y="39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360760" y="492156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5" y="41"/>
                    </a:move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348160" y="4867560"/>
                <a:ext cx="14040" cy="3780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8" y="45"/>
                    </a:moveTo>
                    <a:lnTo>
                      <a:pt x="8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1" y="1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19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338440" y="481356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7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2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28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332320" y="475776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5" y="47"/>
                    </a:lnTo>
                    <a:lnTo>
                      <a:pt x="6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1" y="48"/>
                    </a:lnTo>
                    <a:lnTo>
                      <a:pt x="13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3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327280" y="47023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0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322600" y="46468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319360" y="45910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311440" y="453564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6" y="46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43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303520" y="44802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6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292360" y="44262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273640" y="437544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42"/>
                    </a:moveTo>
                    <a:lnTo>
                      <a:pt x="15" y="44"/>
                    </a:lnTo>
                    <a:lnTo>
                      <a:pt x="17" y="45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4" y="35"/>
                    </a:lnTo>
                    <a:lnTo>
                      <a:pt x="14" y="12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14" y="37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241600" y="43293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30" y="27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2" y="32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200560" y="42912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3" y="35"/>
                    </a:move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154480" y="4262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37" y="28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2" y="25"/>
                    </a:lnTo>
                    <a:lnTo>
                      <a:pt x="3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103720" y="42404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4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14" y="14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051160" y="4221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35" y="1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34" y="20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4998960" y="42022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1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8" y="11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4946400" y="4186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2" y="22"/>
                    </a:move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2"/>
                    </a:lnTo>
                    <a:lnTo>
                      <a:pt x="32" y="8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0" y="18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4894200" y="4164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3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10" y="2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846320" y="413712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7" y="30"/>
                    </a:moveTo>
                    <a:lnTo>
                      <a:pt x="38" y="32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3" y="25"/>
                    </a:lnTo>
                    <a:lnTo>
                      <a:pt x="43" y="24"/>
                    </a:lnTo>
                    <a:lnTo>
                      <a:pt x="42" y="22"/>
                    </a:lnTo>
                    <a:lnTo>
                      <a:pt x="33" y="19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28" y="27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805280" y="4098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0" y="38"/>
                    </a:moveTo>
                    <a:lnTo>
                      <a:pt x="32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0" y="16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4" y="23"/>
                    </a:lnTo>
                    <a:lnTo>
                      <a:pt x="15" y="25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3" name=""/>
            <p:cNvSpPr/>
            <p:nvPr/>
          </p:nvSpPr>
          <p:spPr>
            <a:xfrm>
              <a:off x="5240160" y="376884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335720" y="33926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5" name=""/>
            <p:cNvGrpSpPr/>
            <p:nvPr/>
          </p:nvGrpSpPr>
          <p:grpSpPr>
            <a:xfrm>
              <a:off x="4870080" y="3775320"/>
              <a:ext cx="401760" cy="866520"/>
              <a:chOff x="4870080" y="3775320"/>
              <a:chExt cx="401760" cy="866520"/>
            </a:xfrm>
          </p:grpSpPr>
          <p:sp>
            <p:nvSpPr>
              <p:cNvPr id="3516" name=""/>
              <p:cNvSpPr/>
              <p:nvPr/>
            </p:nvSpPr>
            <p:spPr>
              <a:xfrm>
                <a:off x="4870080" y="445788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976640" y="42181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5082840" y="39801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5189400" y="37753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0" name=""/>
            <p:cNvGrpSpPr/>
            <p:nvPr/>
          </p:nvGrpSpPr>
          <p:grpSpPr>
            <a:xfrm>
              <a:off x="6402240" y="3392640"/>
              <a:ext cx="941400" cy="303120"/>
              <a:chOff x="6402240" y="3392640"/>
              <a:chExt cx="941400" cy="303120"/>
            </a:xfrm>
          </p:grpSpPr>
          <p:sp>
            <p:nvSpPr>
              <p:cNvPr id="3521" name=""/>
              <p:cNvSpPr/>
              <p:nvPr/>
            </p:nvSpPr>
            <p:spPr>
              <a:xfrm>
                <a:off x="6402240" y="361800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6653160" y="354348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6903720" y="346716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153200" y="33926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5" name=""/>
            <p:cNvGrpSpPr/>
            <p:nvPr/>
          </p:nvGrpSpPr>
          <p:grpSpPr>
            <a:xfrm>
              <a:off x="6586200" y="2725920"/>
              <a:ext cx="685800" cy="871560"/>
              <a:chOff x="6586200" y="2725920"/>
              <a:chExt cx="685800" cy="871560"/>
            </a:xfrm>
          </p:grpSpPr>
          <p:sp>
            <p:nvSpPr>
              <p:cNvPr id="3526" name=""/>
              <p:cNvSpPr/>
              <p:nvPr/>
            </p:nvSpPr>
            <p:spPr>
              <a:xfrm>
                <a:off x="6586200" y="34322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6748200" y="32259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906960" y="301788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068960" y="28116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229160" y="2725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1" name=""/>
            <p:cNvGrpSpPr/>
            <p:nvPr/>
          </p:nvGrpSpPr>
          <p:grpSpPr>
            <a:xfrm>
              <a:off x="5744880" y="4606920"/>
              <a:ext cx="195480" cy="698760"/>
              <a:chOff x="5744880" y="4606920"/>
              <a:chExt cx="195480" cy="698760"/>
            </a:xfrm>
          </p:grpSpPr>
          <p:sp>
            <p:nvSpPr>
              <p:cNvPr id="3532" name=""/>
              <p:cNvSpPr/>
              <p:nvPr/>
            </p:nvSpPr>
            <p:spPr>
              <a:xfrm>
                <a:off x="5871960" y="51152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5808600" y="48610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5744880" y="46069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5" name=""/>
            <p:cNvGrpSpPr/>
            <p:nvPr/>
          </p:nvGrpSpPr>
          <p:grpSpPr>
            <a:xfrm>
              <a:off x="7632360" y="3870360"/>
              <a:ext cx="401760" cy="866880"/>
              <a:chOff x="7632360" y="3870360"/>
              <a:chExt cx="401760" cy="866880"/>
            </a:xfrm>
          </p:grpSpPr>
          <p:sp>
            <p:nvSpPr>
              <p:cNvPr id="3536" name=""/>
              <p:cNvSpPr/>
              <p:nvPr/>
            </p:nvSpPr>
            <p:spPr>
              <a:xfrm>
                <a:off x="7632360" y="45529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738920" y="431352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845120" y="407520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951680" y="38703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0" name=""/>
            <p:cNvGrpSpPr/>
            <p:nvPr/>
          </p:nvGrpSpPr>
          <p:grpSpPr>
            <a:xfrm>
              <a:off x="6870600" y="3394080"/>
              <a:ext cx="401400" cy="866880"/>
              <a:chOff x="6870600" y="3394080"/>
              <a:chExt cx="401400" cy="866880"/>
            </a:xfrm>
          </p:grpSpPr>
          <p:sp>
            <p:nvSpPr>
              <p:cNvPr id="3541" name=""/>
              <p:cNvSpPr/>
              <p:nvPr/>
            </p:nvSpPr>
            <p:spPr>
              <a:xfrm>
                <a:off x="6870600" y="40770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6976800" y="38372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083360" y="35989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189560" y="339408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5" name=""/>
            <p:cNvGrpSpPr/>
            <p:nvPr/>
          </p:nvGrpSpPr>
          <p:grpSpPr>
            <a:xfrm>
              <a:off x="5730840" y="3703680"/>
              <a:ext cx="658800" cy="750960"/>
              <a:chOff x="5730840" y="3703680"/>
              <a:chExt cx="658800" cy="750960"/>
            </a:xfrm>
          </p:grpSpPr>
          <p:sp>
            <p:nvSpPr>
              <p:cNvPr id="3546" name=""/>
              <p:cNvSpPr/>
              <p:nvPr/>
            </p:nvSpPr>
            <p:spPr>
              <a:xfrm>
                <a:off x="5730840" y="42958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902200" y="40989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6073560" y="39006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6248160" y="37036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254560" y="3009960"/>
              <a:ext cx="588960" cy="682560"/>
              <a:chOff x="5254560" y="3009960"/>
              <a:chExt cx="588960" cy="682560"/>
            </a:xfrm>
          </p:grpSpPr>
          <p:sp>
            <p:nvSpPr>
              <p:cNvPr id="3551" name=""/>
              <p:cNvSpPr/>
              <p:nvPr/>
            </p:nvSpPr>
            <p:spPr>
              <a:xfrm>
                <a:off x="5254560" y="35323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422680" y="33321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594040" y="3133800"/>
                <a:ext cx="14148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763960" y="30099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5" name=""/>
            <p:cNvGrpSpPr/>
            <p:nvPr/>
          </p:nvGrpSpPr>
          <p:grpSpPr>
            <a:xfrm>
              <a:off x="6114960" y="4626000"/>
              <a:ext cx="1533240" cy="687600"/>
              <a:chOff x="6114960" y="4626000"/>
              <a:chExt cx="1533240" cy="687600"/>
            </a:xfrm>
          </p:grpSpPr>
          <p:sp>
            <p:nvSpPr>
              <p:cNvPr id="3556" name=""/>
              <p:cNvSpPr/>
              <p:nvPr/>
            </p:nvSpPr>
            <p:spPr>
              <a:xfrm>
                <a:off x="6114960" y="52167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354720" y="51120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594120" y="500724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835680" y="49006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073640" y="47977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313400" y="46911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554600" y="46260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63" name=""/>
            <p:cNvSpPr/>
            <p:nvPr/>
          </p:nvSpPr>
          <p:spPr>
            <a:xfrm>
              <a:off x="6095880" y="439128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242760" y="4426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65" name=""/>
            <p:cNvGrpSpPr/>
            <p:nvPr/>
          </p:nvGrpSpPr>
          <p:grpSpPr>
            <a:xfrm>
              <a:off x="4400280" y="4346640"/>
              <a:ext cx="865080" cy="579600"/>
              <a:chOff x="4400280" y="4346640"/>
              <a:chExt cx="865080" cy="579600"/>
            </a:xfrm>
          </p:grpSpPr>
          <p:sp>
            <p:nvSpPr>
              <p:cNvPr id="3566" name=""/>
              <p:cNvSpPr/>
              <p:nvPr/>
            </p:nvSpPr>
            <p:spPr>
              <a:xfrm>
                <a:off x="479736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741560" y="434988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687560" y="43578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635360" y="43689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582800" y="4386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533840" y="44103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4489200" y="44402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4451040" y="447516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4422600" y="4518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404960" y="456732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400280" y="4623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406760" y="467676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4425840" y="47293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457520" y="4773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4497120" y="4813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4541760" y="4845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4592520" y="4870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4644720" y="48895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4697280" y="490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752720" y="49136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808160" y="49165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863960" y="49150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917960" y="49071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4973400" y="489276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025960" y="48754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078160" y="48517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125680" y="48214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170320" y="47815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208480" y="47386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238720" y="468792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256000" y="46339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5249520" y="45784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5227560" y="45277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194080" y="44830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5152680" y="444672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5106960" y="4416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5057640" y="4391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005080" y="437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4951080" y="43596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4897080" y="4351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84164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7" name=""/>
            <p:cNvGrpSpPr/>
            <p:nvPr/>
          </p:nvGrpSpPr>
          <p:grpSpPr>
            <a:xfrm>
              <a:off x="5400360" y="2727360"/>
              <a:ext cx="865440" cy="579600"/>
              <a:chOff x="5400360" y="2727360"/>
              <a:chExt cx="865440" cy="579600"/>
            </a:xfrm>
          </p:grpSpPr>
          <p:sp>
            <p:nvSpPr>
              <p:cNvPr id="3608" name=""/>
              <p:cNvSpPr/>
              <p:nvPr/>
            </p:nvSpPr>
            <p:spPr>
              <a:xfrm>
                <a:off x="579744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741640" y="2730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687640" y="27385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635440" y="2749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582880" y="2767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533920" y="2791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489280" y="2820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5451120" y="2856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422680" y="2899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405400" y="2948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400360" y="3003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406840" y="30578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425920" y="3110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457600" y="3154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497200" y="319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541840" y="32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5592600" y="32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5644800" y="3270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697360" y="3284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5752800" y="3294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808600" y="3297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864040" y="3295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918040" y="3287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973480" y="3273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6026040" y="3256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6078240" y="3232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6126120" y="3202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6170400" y="3162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6208560" y="3119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6238800" y="3068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6256080" y="3014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6249960" y="2959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6227640" y="290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6194160" y="2864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6153120" y="2827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6107040" y="2797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6057720" y="2772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6005160" y="2752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951160" y="274032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897520" y="2732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84172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9" name=""/>
            <p:cNvGrpSpPr/>
            <p:nvPr/>
          </p:nvGrpSpPr>
          <p:grpSpPr>
            <a:xfrm>
              <a:off x="6932520" y="2401920"/>
              <a:ext cx="865080" cy="579600"/>
              <a:chOff x="6932520" y="2401920"/>
              <a:chExt cx="865080" cy="579600"/>
            </a:xfrm>
          </p:grpSpPr>
          <p:sp>
            <p:nvSpPr>
              <p:cNvPr id="3650" name=""/>
              <p:cNvSpPr/>
              <p:nvPr/>
            </p:nvSpPr>
            <p:spPr>
              <a:xfrm>
                <a:off x="732924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273800" y="24051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219800" y="24130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167240" y="24242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115040" y="24418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065720" y="2465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021440" y="2495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983280" y="2530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6954480" y="2573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937200" y="26226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6932520" y="26784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938640" y="2732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6957720" y="27846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989400" y="2829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029360" y="28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073640" y="2900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124400" y="2926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176960" y="29448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229160" y="29592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284960" y="296892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340400" y="2971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395840" y="297036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449840" y="29624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505640" y="29480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557840" y="29307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610400" y="29070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657920" y="2876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702200" y="2837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740360" y="27943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770600" y="27432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788240" y="268920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781760" y="2633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759440" y="258300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726320" y="25387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684920" y="25020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7638840" y="2471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7589520" y="2446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537320" y="2427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483320" y="24148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429320" y="24069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37388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1" name=""/>
            <p:cNvGrpSpPr/>
            <p:nvPr/>
          </p:nvGrpSpPr>
          <p:grpSpPr>
            <a:xfrm>
              <a:off x="6019560" y="3394080"/>
              <a:ext cx="865080" cy="579600"/>
              <a:chOff x="6019560" y="3394080"/>
              <a:chExt cx="865080" cy="579600"/>
            </a:xfrm>
          </p:grpSpPr>
          <p:sp>
            <p:nvSpPr>
              <p:cNvPr id="3692" name=""/>
              <p:cNvSpPr/>
              <p:nvPr/>
            </p:nvSpPr>
            <p:spPr>
              <a:xfrm>
                <a:off x="641664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360840" y="3397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306840" y="340524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254640" y="34164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202080" y="34340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153120" y="34578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6108480" y="34880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6070320" y="35229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6041880" y="35658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6024240" y="361476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6019560" y="3670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026040" y="37245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6045120" y="37767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076800" y="3821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116400" y="3861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6161040" y="3892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6211800" y="3918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6264000" y="39373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6316560" y="39513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6372000" y="3961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42744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483240" y="3962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537240" y="39546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6592680" y="3940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645240" y="392292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6697440" y="3899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744960" y="3868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789600" y="38293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6827760" y="3786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6857640" y="3735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6875280" y="368172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6868800" y="3625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6846840" y="357516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6813360" y="3530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677196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6725880" y="346392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6676920" y="34387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6624360" y="341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6570360" y="340704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6516360" y="339912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646092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3" name=""/>
            <p:cNvGrpSpPr/>
            <p:nvPr/>
          </p:nvGrpSpPr>
          <p:grpSpPr>
            <a:xfrm>
              <a:off x="6305400" y="4060800"/>
              <a:ext cx="865080" cy="579600"/>
              <a:chOff x="6305400" y="4060800"/>
              <a:chExt cx="865080" cy="579600"/>
            </a:xfrm>
          </p:grpSpPr>
          <p:sp>
            <p:nvSpPr>
              <p:cNvPr id="3734" name=""/>
              <p:cNvSpPr/>
              <p:nvPr/>
            </p:nvSpPr>
            <p:spPr>
              <a:xfrm>
                <a:off x="6702120" y="4060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6646680" y="4064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6592680" y="407196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6540120" y="408312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6487920" y="4100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6438600" y="4124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6394320" y="415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6356160" y="4189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6327720" y="4232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6310080" y="4281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6305400" y="4337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6311520" y="439128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6330600" y="44434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6362640" y="4488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6402240" y="45277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6446520" y="4559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6497280" y="45849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6549840" y="460404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6602040" y="46180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6657840" y="4627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6713280" y="46310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6768720" y="4629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6822720" y="462132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6878520" y="4606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6930720" y="458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6983280" y="456588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030800" y="4535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075440" y="4496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113240" y="4453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143480" y="440244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7161120" y="434844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7154640" y="429264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7132320" y="424188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099200" y="4197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057800" y="4160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011720" y="41310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962400" y="41054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910200" y="4086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856200" y="4073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802200" y="406584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746760" y="4060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5" name=""/>
            <p:cNvGrpSpPr/>
            <p:nvPr/>
          </p:nvGrpSpPr>
          <p:grpSpPr>
            <a:xfrm>
              <a:off x="7734240" y="3584880"/>
              <a:ext cx="865080" cy="579240"/>
              <a:chOff x="7734240" y="3584880"/>
              <a:chExt cx="865080" cy="579240"/>
            </a:xfrm>
          </p:grpSpPr>
          <p:sp>
            <p:nvSpPr>
              <p:cNvPr id="3776" name=""/>
              <p:cNvSpPr/>
              <p:nvPr/>
            </p:nvSpPr>
            <p:spPr>
              <a:xfrm>
                <a:off x="813096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075520" y="358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8021520" y="3595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968960" y="3606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916760" y="36244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867440" y="3648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823160" y="3678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785000" y="3713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756200" y="37562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738920" y="3805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734240" y="386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740360" y="3915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759440" y="3967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791120" y="4011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831080" y="4051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875360" y="4083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26120" y="4108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978680" y="4127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8030880" y="41418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086680" y="4151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8142120" y="4154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8197560" y="4152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8251560" y="41450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8307360" y="413100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8359560" y="4113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8412120" y="4089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8459640" y="4059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8503920" y="4019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8542080" y="3976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8572320" y="39261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8589600" y="3872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8583480" y="381636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8561160" y="3765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8527680" y="372132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8486640" y="3684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8440560" y="3654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8391240" y="3629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8339040" y="3610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8285040" y="35974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8231040" y="35895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817560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7" name=""/>
            <p:cNvGrpSpPr/>
            <p:nvPr/>
          </p:nvGrpSpPr>
          <p:grpSpPr>
            <a:xfrm>
              <a:off x="5622840" y="5005440"/>
              <a:ext cx="865080" cy="579600"/>
              <a:chOff x="5622840" y="5005440"/>
              <a:chExt cx="865080" cy="579600"/>
            </a:xfrm>
          </p:grpSpPr>
          <p:sp>
            <p:nvSpPr>
              <p:cNvPr id="3818" name=""/>
              <p:cNvSpPr/>
              <p:nvPr/>
            </p:nvSpPr>
            <p:spPr>
              <a:xfrm>
                <a:off x="601956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964120" y="500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910120" y="50166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5857560" y="50277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5805360" y="504540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5756040" y="50691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5711760" y="50990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5673600" y="513396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5644800" y="5177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5627520" y="52261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5622840" y="5281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5628960" y="53355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5648040" y="53881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5679720" y="5432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5719680" y="54723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5763960" y="55040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5814720" y="552924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5867280" y="55483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5919480" y="5562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5975280" y="55724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6030720" y="55753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6086160" y="5573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6140160" y="5565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6195960" y="555156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6248160" y="5534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6300720" y="55105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6348240" y="5480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6392520" y="5440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6430680" y="5397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6460920" y="53467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6478560" y="52927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6472080" y="52372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449760" y="5186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416640" y="514224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375240" y="5105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6329160" y="50752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6279840" y="5050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622764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6173640" y="50184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6119640" y="50101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606420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59" name=""/>
            <p:cNvSpPr/>
            <p:nvPr/>
          </p:nvSpPr>
          <p:spPr>
            <a:xfrm>
              <a:off x="7643520" y="490716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7790760" y="4942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833800" y="3057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949000" y="3092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4881240" y="469296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4996800" y="472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357680" y="2732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473240" y="2767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6508440" y="37166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6655680" y="375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6690960" y="444672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6838200" y="448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6119640" y="5343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234840" y="537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8310240" y="3875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8425800" y="3910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365720" y="518004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S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76" name=""/>
            <p:cNvGrpSpPr/>
            <p:nvPr/>
          </p:nvGrpSpPr>
          <p:grpSpPr>
            <a:xfrm>
              <a:off x="4937040" y="3503880"/>
              <a:ext cx="609480" cy="457200"/>
              <a:chOff x="4937040" y="3503880"/>
              <a:chExt cx="609480" cy="457200"/>
            </a:xfrm>
          </p:grpSpPr>
          <p:sp>
            <p:nvSpPr>
              <p:cNvPr id="3877" name=""/>
              <p:cNvSpPr/>
              <p:nvPr/>
            </p:nvSpPr>
            <p:spPr>
              <a:xfrm>
                <a:off x="4961520" y="37490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78" name=""/>
              <p:cNvGrpSpPr/>
              <p:nvPr/>
            </p:nvGrpSpPr>
            <p:grpSpPr>
              <a:xfrm>
                <a:off x="4937040" y="3503880"/>
                <a:ext cx="609480" cy="457200"/>
                <a:chOff x="4937040" y="3503880"/>
                <a:chExt cx="609480" cy="457200"/>
              </a:xfrm>
            </p:grpSpPr>
            <p:sp>
              <p:nvSpPr>
                <p:cNvPr id="3879" name=""/>
                <p:cNvSpPr/>
                <p:nvPr/>
              </p:nvSpPr>
              <p:spPr>
                <a:xfrm>
                  <a:off x="5145120" y="3557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5145120" y="3611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5145120" y="3826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5145120" y="3880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4944600" y="36921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5178600" y="3503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5178600" y="3772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4978080" y="3611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 flipV="1">
                  <a:off x="4978080" y="3772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 flipH="1">
                  <a:off x="4937040" y="3701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9" name=""/>
            <p:cNvGrpSpPr/>
            <p:nvPr/>
          </p:nvGrpSpPr>
          <p:grpSpPr>
            <a:xfrm>
              <a:off x="5470200" y="4341960"/>
              <a:ext cx="609840" cy="457200"/>
              <a:chOff x="5470200" y="4341960"/>
              <a:chExt cx="609840" cy="457200"/>
            </a:xfrm>
          </p:grpSpPr>
          <p:sp>
            <p:nvSpPr>
              <p:cNvPr id="3890" name=""/>
              <p:cNvSpPr/>
              <p:nvPr/>
            </p:nvSpPr>
            <p:spPr>
              <a:xfrm>
                <a:off x="5494680" y="45871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91" name=""/>
              <p:cNvGrpSpPr/>
              <p:nvPr/>
            </p:nvGrpSpPr>
            <p:grpSpPr>
              <a:xfrm>
                <a:off x="5470200" y="4341960"/>
                <a:ext cx="609840" cy="457200"/>
                <a:chOff x="5470200" y="4341960"/>
                <a:chExt cx="609840" cy="457200"/>
              </a:xfrm>
            </p:grpSpPr>
            <p:sp>
              <p:nvSpPr>
                <p:cNvPr id="3892" name=""/>
                <p:cNvSpPr/>
                <p:nvPr/>
              </p:nvSpPr>
              <p:spPr>
                <a:xfrm>
                  <a:off x="5678640" y="4395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5678640" y="4449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5678640" y="4664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5678640" y="4718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>
                  <a:off x="5477760" y="453024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>
                  <a:off x="5711760" y="4341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>
                  <a:off x="5711760" y="461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>
                  <a:off x="5511240" y="4449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 flipV="1">
                  <a:off x="5511240" y="4610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 flipH="1">
                  <a:off x="5470200" y="453924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2" name=""/>
            <p:cNvGrpSpPr/>
            <p:nvPr/>
          </p:nvGrpSpPr>
          <p:grpSpPr>
            <a:xfrm>
              <a:off x="7070400" y="3122640"/>
              <a:ext cx="609840" cy="457200"/>
              <a:chOff x="7070400" y="3122640"/>
              <a:chExt cx="609840" cy="457200"/>
            </a:xfrm>
          </p:grpSpPr>
          <p:sp>
            <p:nvSpPr>
              <p:cNvPr id="3903" name=""/>
              <p:cNvSpPr/>
              <p:nvPr/>
            </p:nvSpPr>
            <p:spPr>
              <a:xfrm>
                <a:off x="7094880" y="336780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04" name=""/>
              <p:cNvGrpSpPr/>
              <p:nvPr/>
            </p:nvGrpSpPr>
            <p:grpSpPr>
              <a:xfrm>
                <a:off x="7070400" y="3122640"/>
                <a:ext cx="609840" cy="457200"/>
                <a:chOff x="7070400" y="3122640"/>
                <a:chExt cx="609840" cy="457200"/>
              </a:xfrm>
            </p:grpSpPr>
            <p:sp>
              <p:nvSpPr>
                <p:cNvPr id="3905" name=""/>
                <p:cNvSpPr/>
                <p:nvPr/>
              </p:nvSpPr>
              <p:spPr>
                <a:xfrm>
                  <a:off x="7278840" y="3176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7278840" y="3229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7278840" y="344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7278840" y="3499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7077960" y="331092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7311960" y="3122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7311960" y="33915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7111440" y="32299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 flipV="1">
                  <a:off x="7111440" y="3391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 flipH="1">
                  <a:off x="7070400" y="3319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15" name=""/>
            <p:cNvGrpSpPr/>
            <p:nvPr/>
          </p:nvGrpSpPr>
          <p:grpSpPr>
            <a:xfrm>
              <a:off x="7375320" y="4418280"/>
              <a:ext cx="609480" cy="457200"/>
              <a:chOff x="7375320" y="4418280"/>
              <a:chExt cx="609480" cy="457200"/>
            </a:xfrm>
          </p:grpSpPr>
          <p:sp>
            <p:nvSpPr>
              <p:cNvPr id="3916" name=""/>
              <p:cNvSpPr/>
              <p:nvPr/>
            </p:nvSpPr>
            <p:spPr>
              <a:xfrm>
                <a:off x="7399800" y="46634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7" name=""/>
              <p:cNvGrpSpPr/>
              <p:nvPr/>
            </p:nvGrpSpPr>
            <p:grpSpPr>
              <a:xfrm>
                <a:off x="7375320" y="4418280"/>
                <a:ext cx="609480" cy="457200"/>
                <a:chOff x="7375320" y="4418280"/>
                <a:chExt cx="609480" cy="457200"/>
              </a:xfrm>
            </p:grpSpPr>
            <p:sp>
              <p:nvSpPr>
                <p:cNvPr id="3918" name=""/>
                <p:cNvSpPr/>
                <p:nvPr/>
              </p:nvSpPr>
              <p:spPr>
                <a:xfrm>
                  <a:off x="7583400" y="447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7583400" y="452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7583400" y="4741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7583400" y="4794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7382880" y="46065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>
                  <a:off x="7616880" y="4418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7616880" y="4687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7416360" y="4525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 flipV="1">
                  <a:off x="7416360" y="4687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 flipH="1">
                  <a:off x="7375320" y="4615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8" name=""/>
            <p:cNvGrpSpPr/>
            <p:nvPr/>
          </p:nvGrpSpPr>
          <p:grpSpPr>
            <a:xfrm>
              <a:off x="4495320" y="4446000"/>
              <a:ext cx="606960" cy="513000"/>
              <a:chOff x="4495320" y="4446000"/>
              <a:chExt cx="606960" cy="513000"/>
            </a:xfrm>
          </p:grpSpPr>
          <p:sp>
            <p:nvSpPr>
              <p:cNvPr id="3929" name=""/>
              <p:cNvSpPr/>
              <p:nvPr/>
            </p:nvSpPr>
            <p:spPr>
              <a:xfrm rot="19834800">
                <a:off x="4559400" y="46562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30" name=""/>
              <p:cNvGrpSpPr/>
              <p:nvPr/>
            </p:nvGrpSpPr>
            <p:grpSpPr>
              <a:xfrm>
                <a:off x="4495320" y="4446000"/>
                <a:ext cx="574200" cy="435600"/>
                <a:chOff x="4495320" y="4446000"/>
                <a:chExt cx="574200" cy="435600"/>
              </a:xfrm>
            </p:grpSpPr>
            <p:sp>
              <p:nvSpPr>
                <p:cNvPr id="3931" name=""/>
                <p:cNvSpPr/>
                <p:nvPr/>
              </p:nvSpPr>
              <p:spPr>
                <a:xfrm rot="19834800">
                  <a:off x="4612320" y="4507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 rot="19834800">
                  <a:off x="4638600" y="4554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 rot="19834800">
                  <a:off x="4744440" y="474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 rot="19834800">
                  <a:off x="4770720" y="4788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 rot="19834800">
                  <a:off x="4486680" y="46044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 rot="19834800">
                  <a:off x="4659120" y="4449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 rot="19834800">
                  <a:off x="4791240" y="4684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 rot="19834800">
                  <a:off x="4510800" y="4648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 flipV="1" rot="19834800">
                  <a:off x="4589640" y="478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 flipH="1" rot="19834800">
                  <a:off x="4507560" y="4725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1" name=""/>
            <p:cNvGrpSpPr/>
            <p:nvPr/>
          </p:nvGrpSpPr>
          <p:grpSpPr>
            <a:xfrm>
              <a:off x="5485680" y="2769480"/>
              <a:ext cx="607320" cy="513360"/>
              <a:chOff x="5485680" y="2769480"/>
              <a:chExt cx="607320" cy="513360"/>
            </a:xfrm>
          </p:grpSpPr>
          <p:sp>
            <p:nvSpPr>
              <p:cNvPr id="3942" name=""/>
              <p:cNvSpPr/>
              <p:nvPr/>
            </p:nvSpPr>
            <p:spPr>
              <a:xfrm rot="19834800">
                <a:off x="5549760" y="29797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43" name=""/>
              <p:cNvGrpSpPr/>
              <p:nvPr/>
            </p:nvGrpSpPr>
            <p:grpSpPr>
              <a:xfrm>
                <a:off x="5485680" y="2769480"/>
                <a:ext cx="574920" cy="435600"/>
                <a:chOff x="5485680" y="2769480"/>
                <a:chExt cx="574920" cy="435600"/>
              </a:xfrm>
            </p:grpSpPr>
            <p:sp>
              <p:nvSpPr>
                <p:cNvPr id="3944" name=""/>
                <p:cNvSpPr/>
                <p:nvPr/>
              </p:nvSpPr>
              <p:spPr>
                <a:xfrm rot="19834800">
                  <a:off x="5603040" y="2830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 rot="19834800">
                  <a:off x="5629320" y="2877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 rot="19834800">
                  <a:off x="5735160" y="3065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 rot="19834800">
                  <a:off x="5761440" y="311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 rot="19834800">
                  <a:off x="5477400" y="29278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 rot="19834800">
                  <a:off x="5649480" y="27734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 rot="19834800">
                  <a:off x="5781600" y="3007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 rot="19834800">
                  <a:off x="5501160" y="2972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 flipV="1" rot="19834800">
                  <a:off x="5580360" y="31132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 flipH="1" rot="19834800">
                  <a:off x="5497920" y="3048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4" name=""/>
            <p:cNvGrpSpPr/>
            <p:nvPr/>
          </p:nvGrpSpPr>
          <p:grpSpPr>
            <a:xfrm>
              <a:off x="5790600" y="5055480"/>
              <a:ext cx="606960" cy="513000"/>
              <a:chOff x="5790600" y="5055480"/>
              <a:chExt cx="606960" cy="513000"/>
            </a:xfrm>
          </p:grpSpPr>
          <p:sp>
            <p:nvSpPr>
              <p:cNvPr id="3955" name=""/>
              <p:cNvSpPr/>
              <p:nvPr/>
            </p:nvSpPr>
            <p:spPr>
              <a:xfrm rot="19834800">
                <a:off x="5854680" y="52657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6" name=""/>
              <p:cNvGrpSpPr/>
              <p:nvPr/>
            </p:nvGrpSpPr>
            <p:grpSpPr>
              <a:xfrm>
                <a:off x="5790600" y="5055480"/>
                <a:ext cx="574200" cy="435600"/>
                <a:chOff x="5790600" y="5055480"/>
                <a:chExt cx="574200" cy="435600"/>
              </a:xfrm>
            </p:grpSpPr>
            <p:sp>
              <p:nvSpPr>
                <p:cNvPr id="3957" name=""/>
                <p:cNvSpPr/>
                <p:nvPr/>
              </p:nvSpPr>
              <p:spPr>
                <a:xfrm rot="19834800">
                  <a:off x="5907600" y="5116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 rot="19834800">
                  <a:off x="5933880" y="5163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 rot="19834800">
                  <a:off x="6039720" y="5351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 rot="19834800">
                  <a:off x="6066000" y="5398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 rot="19834800">
                  <a:off x="5781960" y="52138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 rot="19834800">
                  <a:off x="5954400" y="50594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 rot="19834800">
                  <a:off x="6086520" y="5293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 rot="19834800">
                  <a:off x="5806080" y="5258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 flipV="1" rot="19834800">
                  <a:off x="5884920" y="53992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 flipH="1" rot="19834800">
                  <a:off x="5802840" y="5334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7" name=""/>
            <p:cNvGrpSpPr/>
            <p:nvPr/>
          </p:nvGrpSpPr>
          <p:grpSpPr>
            <a:xfrm>
              <a:off x="7009920" y="2464560"/>
              <a:ext cx="606960" cy="513000"/>
              <a:chOff x="7009920" y="2464560"/>
              <a:chExt cx="606960" cy="513000"/>
            </a:xfrm>
          </p:grpSpPr>
          <p:sp>
            <p:nvSpPr>
              <p:cNvPr id="3968" name=""/>
              <p:cNvSpPr/>
              <p:nvPr/>
            </p:nvSpPr>
            <p:spPr>
              <a:xfrm rot="19834800">
                <a:off x="7074000" y="26748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9" name=""/>
              <p:cNvGrpSpPr/>
              <p:nvPr/>
            </p:nvGrpSpPr>
            <p:grpSpPr>
              <a:xfrm>
                <a:off x="7009920" y="2464560"/>
                <a:ext cx="574200" cy="435600"/>
                <a:chOff x="7009920" y="2464560"/>
                <a:chExt cx="574200" cy="435600"/>
              </a:xfrm>
            </p:grpSpPr>
            <p:sp>
              <p:nvSpPr>
                <p:cNvPr id="3970" name=""/>
                <p:cNvSpPr/>
                <p:nvPr/>
              </p:nvSpPr>
              <p:spPr>
                <a:xfrm rot="19834800">
                  <a:off x="7126920" y="2525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 rot="19834800">
                  <a:off x="7153200" y="2572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 rot="19834800">
                  <a:off x="7259040" y="2760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 rot="19834800">
                  <a:off x="7285320" y="2807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 rot="19834800">
                  <a:off x="7001280" y="26229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 rot="19834800">
                  <a:off x="7173720" y="2468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rot="19834800">
                  <a:off x="7305840" y="2702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 rot="19834800">
                  <a:off x="7025400" y="2667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 flipV="1" rot="19834800">
                  <a:off x="7104240" y="2808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 flipH="1" rot="19834800">
                  <a:off x="7022160" y="2743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0" name=""/>
            <p:cNvGrpSpPr/>
            <p:nvPr/>
          </p:nvGrpSpPr>
          <p:grpSpPr>
            <a:xfrm>
              <a:off x="6095520" y="3455280"/>
              <a:ext cx="606960" cy="513000"/>
              <a:chOff x="6095520" y="3455280"/>
              <a:chExt cx="606960" cy="513000"/>
            </a:xfrm>
          </p:grpSpPr>
          <p:sp>
            <p:nvSpPr>
              <p:cNvPr id="3981" name=""/>
              <p:cNvSpPr/>
              <p:nvPr/>
            </p:nvSpPr>
            <p:spPr>
              <a:xfrm rot="19834800">
                <a:off x="6159600" y="36655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2" name=""/>
              <p:cNvGrpSpPr/>
              <p:nvPr/>
            </p:nvGrpSpPr>
            <p:grpSpPr>
              <a:xfrm>
                <a:off x="6095520" y="3455280"/>
                <a:ext cx="574200" cy="435600"/>
                <a:chOff x="6095520" y="3455280"/>
                <a:chExt cx="574200" cy="435600"/>
              </a:xfrm>
            </p:grpSpPr>
            <p:sp>
              <p:nvSpPr>
                <p:cNvPr id="3983" name=""/>
                <p:cNvSpPr/>
                <p:nvPr/>
              </p:nvSpPr>
              <p:spPr>
                <a:xfrm rot="19834800">
                  <a:off x="6212520" y="3516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 rot="19834800">
                  <a:off x="6238800" y="356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 rot="19834800">
                  <a:off x="6344640" y="3751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 rot="19834800">
                  <a:off x="6370920" y="3798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 rot="19834800">
                  <a:off x="6086880" y="36136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 rot="19834800">
                  <a:off x="6259320" y="3459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 rot="19834800">
                  <a:off x="6391440" y="36936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 rot="19834800">
                  <a:off x="6111000" y="36579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 flipV="1" rot="19834800">
                  <a:off x="6189840" y="37990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 flipH="1" rot="19834800">
                  <a:off x="6107760" y="37342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3" name=""/>
            <p:cNvGrpSpPr/>
            <p:nvPr/>
          </p:nvGrpSpPr>
          <p:grpSpPr>
            <a:xfrm>
              <a:off x="6400080" y="4141080"/>
              <a:ext cx="607320" cy="513360"/>
              <a:chOff x="6400080" y="4141080"/>
              <a:chExt cx="607320" cy="513360"/>
            </a:xfrm>
          </p:grpSpPr>
          <p:sp>
            <p:nvSpPr>
              <p:cNvPr id="3994" name=""/>
              <p:cNvSpPr/>
              <p:nvPr/>
            </p:nvSpPr>
            <p:spPr>
              <a:xfrm rot="19834800">
                <a:off x="6464160" y="43513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95" name=""/>
              <p:cNvGrpSpPr/>
              <p:nvPr/>
            </p:nvGrpSpPr>
            <p:grpSpPr>
              <a:xfrm>
                <a:off x="6400080" y="4141080"/>
                <a:ext cx="574920" cy="435600"/>
                <a:chOff x="6400080" y="4141080"/>
                <a:chExt cx="574920" cy="435600"/>
              </a:xfrm>
            </p:grpSpPr>
            <p:sp>
              <p:nvSpPr>
                <p:cNvPr id="3996" name=""/>
                <p:cNvSpPr/>
                <p:nvPr/>
              </p:nvSpPr>
              <p:spPr>
                <a:xfrm rot="19834800">
                  <a:off x="6517440" y="4202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 rot="19834800">
                  <a:off x="6543720" y="4249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 rot="19834800">
                  <a:off x="6649560" y="443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 rot="19834800">
                  <a:off x="6675840" y="448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 rot="19834800">
                  <a:off x="6391800" y="42994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 rot="19834800">
                  <a:off x="6563880" y="414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rot="19834800">
                  <a:off x="6696000" y="4379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 rot="19834800">
                  <a:off x="6415560" y="4344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 flipV="1" rot="19834800">
                  <a:off x="6494760" y="4484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 rot="19834800">
                  <a:off x="6412320" y="44200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06" name=""/>
            <p:cNvGrpSpPr/>
            <p:nvPr/>
          </p:nvGrpSpPr>
          <p:grpSpPr>
            <a:xfrm>
              <a:off x="7848000" y="3607560"/>
              <a:ext cx="606960" cy="513000"/>
              <a:chOff x="7848000" y="3607560"/>
              <a:chExt cx="606960" cy="513000"/>
            </a:xfrm>
          </p:grpSpPr>
          <p:sp>
            <p:nvSpPr>
              <p:cNvPr id="4007" name=""/>
              <p:cNvSpPr/>
              <p:nvPr/>
            </p:nvSpPr>
            <p:spPr>
              <a:xfrm rot="19834800">
                <a:off x="7912080" y="38178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08" name=""/>
              <p:cNvGrpSpPr/>
              <p:nvPr/>
            </p:nvGrpSpPr>
            <p:grpSpPr>
              <a:xfrm>
                <a:off x="7848000" y="3607560"/>
                <a:ext cx="574200" cy="435600"/>
                <a:chOff x="7848000" y="3607560"/>
                <a:chExt cx="574200" cy="435600"/>
              </a:xfrm>
            </p:grpSpPr>
            <p:sp>
              <p:nvSpPr>
                <p:cNvPr id="4009" name=""/>
                <p:cNvSpPr/>
                <p:nvPr/>
              </p:nvSpPr>
              <p:spPr>
                <a:xfrm rot="19834800">
                  <a:off x="7965000" y="3668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 rot="19834800">
                  <a:off x="7991280" y="371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rot="19834800">
                  <a:off x="8097120" y="3903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 rot="19834800">
                  <a:off x="8123400" y="3950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 rot="19834800">
                  <a:off x="7839360" y="37659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rot="19834800">
                  <a:off x="8011800" y="3611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 rot="19834800">
                  <a:off x="8143920" y="3845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 rot="19834800">
                  <a:off x="7863480" y="3810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V="1" rot="19834800">
                  <a:off x="7942320" y="3951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 flipH="1" rot="19834800">
                  <a:off x="7860240" y="3886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049-FBFA-410B-8FAB-4DD1BBC18A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3AF61-A507-4D9F-AE64-A80DAED350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Look to the Future:  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020" name=""/>
          <p:cNvGrpSpPr/>
          <p:nvPr/>
        </p:nvGrpSpPr>
        <p:grpSpPr>
          <a:xfrm>
            <a:off x="1219320" y="1752480"/>
            <a:ext cx="5104440" cy="4267080"/>
            <a:chOff x="1219320" y="1752480"/>
            <a:chExt cx="5104440" cy="4267080"/>
          </a:xfrm>
        </p:grpSpPr>
        <p:sp>
          <p:nvSpPr>
            <p:cNvPr id="4021" name=""/>
            <p:cNvSpPr/>
            <p:nvPr/>
          </p:nvSpPr>
          <p:spPr>
            <a:xfrm>
              <a:off x="1219320" y="1752480"/>
              <a:ext cx="510444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219320" y="2971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219320" y="4114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219320" y="5257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369360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69360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69360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9" name=""/>
          <p:cNvSpPr/>
          <p:nvPr/>
        </p:nvSpPr>
        <p:spPr>
          <a:xfrm>
            <a:off x="1219320" y="1752480"/>
            <a:ext cx="5105160" cy="83844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1219320" y="4038480"/>
            <a:ext cx="5105160" cy="83844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craft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1219320" y="4038480"/>
            <a:ext cx="5105160" cy="838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craft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1219320" y="5181480"/>
            <a:ext cx="5105160" cy="838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1219320" y="5181480"/>
            <a:ext cx="5105160" cy="8384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6400800" y="1828800"/>
            <a:ext cx="251460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rating crew scheduling and fleet assignment models yie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itional 3% savings in total operating, spill and crew cos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eeting costs increase by about 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w costs decrease by about 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D0C-EDD0-401B-8D46-1193376B98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468DD-DEBA-4A75-836B-26CC02CAFB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Look to the Future:  Real-time Decision Mak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a typical airline, about 10% of scheduled revenue flights are affected by irregularities (like inclement weather, maintenance problems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w York Ti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irregular operations (due mostly to weather) result in more than $440 million per year in lost revenue, crew overtime pay, and passenger hospitalit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ing use and acceptance of optimization-based decision support tools for operations recov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FD7-8894-456A-8757-AA94FD4282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933BA-3D70-44F9-B9BC-AB501BDE8E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Look to the Future:  Robust Schedul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sue:  Optimizing “plans” results in minimiz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lann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s, no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aliz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ized plans have littl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lac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ulting 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7040" indent="-20556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likelihood of plan “breakage”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77040" indent="-20556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wer recovery o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llenge:  Building “robust” plans that achieve minimal realized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13D-C983-4183-B7A3-721A38E845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16D84-6B35-4DD8-BF06-6713CED23C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aircraft types to flight le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ribu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max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752480"/>
            <a:ext cx="2438280" cy="175284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828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71600" y="2286000"/>
            <a:ext cx="2666880" cy="1145520"/>
            <a:chOff x="1371600" y="2286000"/>
            <a:chExt cx="2666880" cy="1145520"/>
          </a:xfrm>
        </p:grpSpPr>
        <p:sp>
          <p:nvSpPr>
            <p:cNvPr id="59" name=""/>
            <p:cNvSpPr/>
            <p:nvPr/>
          </p:nvSpPr>
          <p:spPr>
            <a:xfrm>
              <a:off x="1371600" y="2971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6880" y="2286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371600" y="3429000"/>
            <a:ext cx="2666880" cy="1145520"/>
            <a:chOff x="1371600" y="3429000"/>
            <a:chExt cx="2666880" cy="1145520"/>
          </a:xfrm>
        </p:grpSpPr>
        <p:sp>
          <p:nvSpPr>
            <p:cNvPr id="62" name=""/>
            <p:cNvSpPr/>
            <p:nvPr/>
          </p:nvSpPr>
          <p:spPr>
            <a:xfrm>
              <a:off x="1371600" y="4114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6880" y="3429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371600" y="4572000"/>
            <a:ext cx="2666880" cy="1145520"/>
            <a:chOff x="1371600" y="4572000"/>
            <a:chExt cx="2666880" cy="1145520"/>
          </a:xfrm>
        </p:grpSpPr>
        <p:sp>
          <p:nvSpPr>
            <p:cNvPr id="65" name=""/>
            <p:cNvSpPr/>
            <p:nvPr/>
          </p:nvSpPr>
          <p:spPr>
            <a:xfrm>
              <a:off x="13716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4572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191120" y="16002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lect optimal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flight leg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a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5B5-BCDF-4A82-8A78-57AC2C2816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384D3-F45F-4271-938B-85D278A8EF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origin-destination demands and fares, fleet composition and size, fleet operating characteristics and cost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nd the revenue maximizing flight schedu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389-B2BA-4BD7-AE42-985F26797D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2AE46-F629-4AEB-A1E6-0B91EB9AD2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 Fixed Flight Network, Flexible Schedule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model with time windo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flights to be re-timed slightly (plus/ minus 10 minutes) to allow for improved utilization of aircraft and improved capacity assign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itial step in integrating flight schedule design and fleet assignment deci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4BB-10D7-4F06-8E11-35395FA923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E9FA7-5517-4295-A5EB-262853EE4C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 Optional Flights, Flexible Schedule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with “optional” flight le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tional flight legs representing varying flight departure ti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tional flight legs representing new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on to eliminate existing flights from future flight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mental Schedule De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FE6-62A1-4F67-BE15-8D99A201C3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37844-F3A5-4034-A69A-9B8E6544E8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tegrated, Incremental Schedule Design and Fleet Assignment Model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2362320"/>
            <a:ext cx="236232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ition Candi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2362320"/>
            <a:ext cx="5105520" cy="1981080"/>
            <a:chOff x="914400" y="2362320"/>
            <a:chExt cx="5105520" cy="1981080"/>
          </a:xfrm>
        </p:grpSpPr>
        <p:sp>
          <p:nvSpPr>
            <p:cNvPr id="78" name=""/>
            <p:cNvSpPr/>
            <p:nvPr/>
          </p:nvSpPr>
          <p:spPr>
            <a:xfrm>
              <a:off x="914400" y="365760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ndatory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2362320"/>
              <a:ext cx="236232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eletion Candida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0400" y="2743200"/>
              <a:ext cx="45720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2895480"/>
              <a:ext cx="0" cy="76212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143000" y="2362320"/>
            <a:ext cx="205740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se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029200" y="2467080"/>
            <a:ext cx="2514600" cy="1876320"/>
            <a:chOff x="5029200" y="2467080"/>
            <a:chExt cx="2514600" cy="1876320"/>
          </a:xfrm>
        </p:grpSpPr>
        <p:sp>
          <p:nvSpPr>
            <p:cNvPr id="84" name=""/>
            <p:cNvSpPr/>
            <p:nvPr/>
          </p:nvSpPr>
          <p:spPr>
            <a:xfrm>
              <a:off x="5029200" y="365760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Optional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3048120"/>
              <a:ext cx="0" cy="60948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138720" y="2467080"/>
              <a:ext cx="380880" cy="457200"/>
              <a:chOff x="6138720" y="2467080"/>
              <a:chExt cx="380880" cy="457200"/>
            </a:xfrm>
          </p:grpSpPr>
          <p:sp>
            <p:nvSpPr>
              <p:cNvPr id="87" name=""/>
              <p:cNvSpPr/>
              <p:nvPr/>
            </p:nvSpPr>
            <p:spPr>
              <a:xfrm>
                <a:off x="6333840" y="2467080"/>
                <a:ext cx="0" cy="45720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138720" y="2695680"/>
                <a:ext cx="380880" cy="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2895480" y="3762360"/>
            <a:ext cx="2514600" cy="1876320"/>
            <a:chOff x="2895480" y="3762360"/>
            <a:chExt cx="2514600" cy="1876320"/>
          </a:xfrm>
        </p:grpSpPr>
        <p:sp>
          <p:nvSpPr>
            <p:cNvPr id="90" name=""/>
            <p:cNvSpPr/>
            <p:nvPr/>
          </p:nvSpPr>
          <p:spPr>
            <a:xfrm>
              <a:off x="2895480" y="495288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ster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038480" y="3762360"/>
              <a:ext cx="380880" cy="457200"/>
              <a:chOff x="4038480" y="3762360"/>
              <a:chExt cx="380880" cy="457200"/>
            </a:xfrm>
          </p:grpSpPr>
          <p:sp>
            <p:nvSpPr>
              <p:cNvPr id="92" name=""/>
              <p:cNvSpPr/>
              <p:nvPr/>
            </p:nvSpPr>
            <p:spPr>
              <a:xfrm>
                <a:off x="4233600" y="3762360"/>
                <a:ext cx="0" cy="45720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38480" y="3990960"/>
                <a:ext cx="380880" cy="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224240" y="4324320"/>
              <a:ext cx="0" cy="60948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1840" y="4005360"/>
              <a:ext cx="45720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5680" y="3995640"/>
              <a:ext cx="53352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229040" y="5883120"/>
            <a:ext cx="593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lect optimal set of flight legs from master flight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ssign fleet types to flight le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9F7-5807-4DCB-A21B-AA5107CD2F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58589-63CB-42A5-ABF2-BD27EA521E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emand and Supply Interaction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51240" y="990720"/>
            <a:ext cx="2361960" cy="1828800"/>
            <a:chOff x="4251240" y="990720"/>
            <a:chExt cx="2361960" cy="1828800"/>
          </a:xfrm>
        </p:grpSpPr>
        <p:sp>
          <p:nvSpPr>
            <p:cNvPr id="100" name=""/>
            <p:cNvSpPr/>
            <p:nvPr/>
          </p:nvSpPr>
          <p:spPr>
            <a:xfrm>
              <a:off x="4251240" y="9907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6000" y="9907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32480" y="1295280"/>
            <a:ext cx="1600200" cy="381240"/>
            <a:chOff x="4632480" y="1295280"/>
            <a:chExt cx="1600200" cy="381240"/>
          </a:xfrm>
        </p:grpSpPr>
        <p:sp>
          <p:nvSpPr>
            <p:cNvPr id="103" name=""/>
            <p:cNvSpPr/>
            <p:nvPr/>
          </p:nvSpPr>
          <p:spPr>
            <a:xfrm>
              <a:off x="4632480" y="12952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08800" y="16765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32480" y="2057400"/>
            <a:ext cx="1600200" cy="380880"/>
            <a:chOff x="4632480" y="2057400"/>
            <a:chExt cx="1600200" cy="380880"/>
          </a:xfrm>
        </p:grpSpPr>
        <p:sp>
          <p:nvSpPr>
            <p:cNvPr id="106" name=""/>
            <p:cNvSpPr/>
            <p:nvPr/>
          </p:nvSpPr>
          <p:spPr>
            <a:xfrm>
              <a:off x="4708800" y="20574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32480" y="24382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27160" y="1447920"/>
            <a:ext cx="2186280" cy="1114560"/>
            <a:chOff x="1127160" y="1447920"/>
            <a:chExt cx="2186280" cy="1114560"/>
          </a:xfrm>
        </p:grpSpPr>
        <p:sp>
          <p:nvSpPr>
            <p:cNvPr id="109" name=""/>
            <p:cNvSpPr/>
            <p:nvPr/>
          </p:nvSpPr>
          <p:spPr>
            <a:xfrm>
              <a:off x="1127160" y="14479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7960" y="198108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5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251240" y="2935440"/>
            <a:ext cx="2361960" cy="1828800"/>
            <a:chOff x="4251240" y="2935440"/>
            <a:chExt cx="2361960" cy="1828800"/>
          </a:xfrm>
        </p:grpSpPr>
        <p:sp>
          <p:nvSpPr>
            <p:cNvPr id="112" name=""/>
            <p:cNvSpPr/>
            <p:nvPr/>
          </p:nvSpPr>
          <p:spPr>
            <a:xfrm>
              <a:off x="4251240" y="293544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6000" y="293544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32120" y="324000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08440" y="362124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08440" y="4230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336840" y="874800"/>
            <a:ext cx="2352600" cy="1642320"/>
            <a:chOff x="3336840" y="874800"/>
            <a:chExt cx="2352600" cy="1642320"/>
          </a:xfrm>
        </p:grpSpPr>
        <p:sp>
          <p:nvSpPr>
            <p:cNvPr id="118" name=""/>
            <p:cNvSpPr/>
            <p:nvPr/>
          </p:nvSpPr>
          <p:spPr>
            <a:xfrm>
              <a:off x="5076720" y="8748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6720" y="12556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92560" y="1636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92560" y="2057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6840" y="1523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066680" y="3352680"/>
            <a:ext cx="2186280" cy="1114920"/>
            <a:chOff x="1066680" y="3352680"/>
            <a:chExt cx="2186280" cy="1114920"/>
          </a:xfrm>
        </p:grpSpPr>
        <p:sp>
          <p:nvSpPr>
            <p:cNvPr id="124" name=""/>
            <p:cNvSpPr/>
            <p:nvPr/>
          </p:nvSpPr>
          <p:spPr>
            <a:xfrm>
              <a:off x="1066680" y="335268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53920" y="388620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1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67080" y="4876920"/>
            <a:ext cx="2361960" cy="1828800"/>
            <a:chOff x="4267080" y="4876920"/>
            <a:chExt cx="2361960" cy="1828800"/>
          </a:xfrm>
        </p:grpSpPr>
        <p:sp>
          <p:nvSpPr>
            <p:cNvPr id="127" name=""/>
            <p:cNvSpPr/>
            <p:nvPr/>
          </p:nvSpPr>
          <p:spPr>
            <a:xfrm>
              <a:off x="426708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184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7960" y="5181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143000" y="5334120"/>
            <a:ext cx="2186280" cy="1190880"/>
            <a:chOff x="1143000" y="5334120"/>
            <a:chExt cx="2186280" cy="1190880"/>
          </a:xfrm>
        </p:grpSpPr>
        <p:sp>
          <p:nvSpPr>
            <p:cNvPr id="132" name=""/>
            <p:cNvSpPr/>
            <p:nvPr/>
          </p:nvSpPr>
          <p:spPr>
            <a:xfrm>
              <a:off x="1143000" y="53341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3920" y="594360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352680" y="4761000"/>
            <a:ext cx="2336760" cy="1106280"/>
            <a:chOff x="3352680" y="4761000"/>
            <a:chExt cx="2336760" cy="1106280"/>
          </a:xfrm>
        </p:grpSpPr>
        <p:sp>
          <p:nvSpPr>
            <p:cNvPr id="135" name=""/>
            <p:cNvSpPr/>
            <p:nvPr/>
          </p:nvSpPr>
          <p:spPr>
            <a:xfrm>
              <a:off x="5092560" y="4761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2560" y="51418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2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54100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781680" y="1828800"/>
            <a:ext cx="990360" cy="1981080"/>
            <a:chOff x="6781680" y="1828800"/>
            <a:chExt cx="990360" cy="1981080"/>
          </a:xfrm>
        </p:grpSpPr>
        <p:sp>
          <p:nvSpPr>
            <p:cNvPr id="139" name=""/>
            <p:cNvSpPr/>
            <p:nvPr/>
          </p:nvSpPr>
          <p:spPr>
            <a:xfrm>
              <a:off x="6781680" y="182880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81680" y="380988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81680" y="1828800"/>
              <a:ext cx="914400" cy="1981080"/>
            </a:xfrm>
            <a:prstGeom prst="downArrow">
              <a:avLst>
                <a:gd name="adj1" fmla="val 50000"/>
                <a:gd name="adj2" fmla="val 54163"/>
              </a:avLst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82840" y="2819520"/>
            <a:ext cx="2428920" cy="1413720"/>
            <a:chOff x="3282840" y="2819520"/>
            <a:chExt cx="2428920" cy="1413720"/>
          </a:xfrm>
        </p:grpSpPr>
        <p:sp>
          <p:nvSpPr>
            <p:cNvPr id="143" name=""/>
            <p:cNvSpPr/>
            <p:nvPr/>
          </p:nvSpPr>
          <p:spPr>
            <a:xfrm>
              <a:off x="5099040" y="2819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9040" y="3200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14880" y="3773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90760" y="1828800"/>
            <a:ext cx="2023200" cy="4953960"/>
            <a:chOff x="6890760" y="1828800"/>
            <a:chExt cx="2023200" cy="4953960"/>
          </a:xfrm>
        </p:grpSpPr>
        <p:grpSp>
          <p:nvGrpSpPr>
            <p:cNvPr id="148" name=""/>
            <p:cNvGrpSpPr/>
            <p:nvPr/>
          </p:nvGrpSpPr>
          <p:grpSpPr>
            <a:xfrm>
              <a:off x="7772400" y="1828800"/>
              <a:ext cx="990720" cy="3962520"/>
              <a:chOff x="7772400" y="1828800"/>
              <a:chExt cx="990720" cy="3962520"/>
            </a:xfrm>
          </p:grpSpPr>
          <p:sp>
            <p:nvSpPr>
              <p:cNvPr id="149" name=""/>
              <p:cNvSpPr/>
              <p:nvPr/>
            </p:nvSpPr>
            <p:spPr>
              <a:xfrm>
                <a:off x="7772400" y="57913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48720" y="1828800"/>
                <a:ext cx="914400" cy="3962520"/>
              </a:xfrm>
              <a:prstGeom prst="downArrow">
                <a:avLst>
                  <a:gd name="adj1" fmla="val 50000"/>
                  <a:gd name="adj2" fmla="val 108337"/>
                </a:avLst>
              </a:prstGeom>
              <a:gradFill rotWithShape="0">
                <a:gsLst>
                  <a:gs pos="0">
                    <a:srgbClr val="755e46"/>
                  </a:gs>
                  <a:gs pos="100000">
                    <a:srgbClr val="ffcc99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72400" y="18288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6890760" y="5835600"/>
              <a:ext cx="202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on-Linea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terac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E03-7729-462C-9FCB-A12A638868D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4D17D-2664-4748-A559-D42A3EFEE7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Schedule Design:  Constant Market Share Mode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Constant market share mode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tegrated Schedule Design and Fleet Assignment Model (ISD-FAM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Utilize recapture mechanism to adjust demand approximatel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05E-D456-417A-B0D9-9E59DA69DB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D188B-B157-4EC9-8E14-1D03E06A50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2-06T16:13:15Z</dcterms:modified>
  <cp:revision>460</cp:revision>
  <dc:subject/>
  <dc:title>Thesis Proposal Meeting</dc:title>
</cp:coreProperties>
</file>