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4.wmf" ContentType="image/x-wmf"/>
  <Override PartName="/ppt/media/image34.wmf" ContentType="image/x-wmf"/>
  <Override PartName="/ppt/media/image10.wmf" ContentType="image/x-wmf"/>
  <Override PartName="/ppt/media/image30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8127-C226-44FF-BC70-2A0579DB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DC7B-680A-4A22-BC16-9F82A58F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0D62-F959-44DA-8BB7-B65897D63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31AC-AFAB-4A0E-BB32-E20428BC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E2F2-4843-4CDD-8847-E298E26E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4D18-79AB-4079-A2C5-CA477BB7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A92E-8EB7-46D4-8459-0130C471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865E-F680-462D-B886-927426B6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1E9D-168A-4194-8F34-67C0948F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54FC-1753-410E-A195-528A8475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5299-D769-4DA7-A1A0-A1B5725B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AF81-7E76-44C4-97A3-7698B875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591240"/>
            <a:ext cx="2057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DF68-84A7-4929-B3F2-5FEDD0BC57FF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1920" y="6590880"/>
            <a:ext cx="28958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590880"/>
            <a:ext cx="19047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A986-F6C2-4E67-B3C5-8F10FCB65D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image" Target="../media/image32.wmf"/><Relationship Id="rId8" Type="http://schemas.openxmlformats.org/officeDocument/2006/relationships/image" Target="../media/image33.wmf"/><Relationship Id="rId9" Type="http://schemas.openxmlformats.org/officeDocument/2006/relationships/image" Target="../media/image34.wmf"/><Relationship Id="rId10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.206J/16.77J/ESD.215J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ynthia Barnhar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pring 2003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uty Cost Func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of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tal flying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* total duty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guaranteed duty pa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marily compensates for flying time, but also compensates for “undesirable” sched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7073-9C3C-4B52-9057-DC4E87FE5EC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F13FCB-9620-43B6-BC48-3F679FA128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airing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ition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equence of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uty period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interspersed wit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eriods of res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that begins and ends at 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rew domici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9846-8AD9-4466-ADAC-964BF22A6CF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5AA46-6B8D-47F9-87B3-24733C3919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airing Rul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rst duty starts/last duty ends at domici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uties are sequential in space/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imum rest between du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layover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number of days away from b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-in-24 r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B2DE-C356-4AB2-936A-546FFE4E6E6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F0CB2E-887C-4F98-A0E1-76B263B160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airing Cost Func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of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m of duty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* total time away from base (TAFB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guaranteed pairing pa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8007-CB56-4448-B10E-828DC5AF257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F90967-93CB-41DC-880C-AB5BF42503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ul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rest between pairin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ximum monthly flying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ximum time on du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total number of days of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o key differenc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st function focuses on crew prefer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chedules individuals rather than complete crew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F7EC-C8BE-4078-921E-73B5D9DD8F0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13018B-FF09-402B-876B-2FA6CC4AAC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rew Scheduling Proble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1371600"/>
            <a:ext cx="6172200" cy="4419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w Scheduling Probl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47920" y="1359000"/>
            <a:ext cx="6184800" cy="4432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47920" y="1359000"/>
            <a:ext cx="6184800" cy="4432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88880" y="1251000"/>
            <a:ext cx="8166240" cy="4660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82760" y="1219320"/>
            <a:ext cx="8178480" cy="4825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254160" y="1130400"/>
            <a:ext cx="8635680" cy="490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D2F8-DA03-445E-B5C3-D31FD1BDCEB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A4B9E-F28C-402F-BCD2-001D5B81B3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airing Proble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a minimum cost set of pairings such that every flight is included in exactly one pai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w Pairing Decompo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i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ek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cep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nsi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7D68-FF0A-4487-9FD7-C83808F7731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8AB21-54FD-445A-B12D-56A91EA981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ail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flights operating four or more times per we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sen pairings will be repeated each da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lti-day pairings will be flown by multiple crew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ights cannot be repeated in a pai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3C02-40EB-41E4-8DAC-E17A16C32F6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11DA93-ACD5-47A3-ADC7-F6FAAB91A3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159840" y="1336680"/>
            <a:ext cx="79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        TUE      WED      THU         FRI       SAT          S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03040" y="195588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346040" y="248904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489040" y="302256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3632040" y="355608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4775040" y="408924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228600" y="4648320"/>
            <a:ext cx="7883640" cy="419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228600" y="5143680"/>
            <a:ext cx="788364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2B0E-419F-4809-9539-75B53FA4A03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CF0600-797B-44DB-AA59-56A7FAC14E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ample, cont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"/>
          <p:cNvSpPr/>
          <p:nvPr/>
        </p:nvSpPr>
        <p:spPr>
          <a:xfrm>
            <a:off x="159840" y="1336680"/>
            <a:ext cx="79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        TUE      WED      THU         FRI       SAT          S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03040" y="195588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346040" y="248904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489040" y="302256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3632040" y="190512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4775040" y="2438280"/>
            <a:ext cx="3302280" cy="406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924520" y="2978280"/>
            <a:ext cx="992160" cy="382320"/>
          </a:xfrm>
          <a:prstGeom prst="rect">
            <a:avLst/>
          </a:prstGeom>
          <a:solidFill>
            <a:srgbClr val="ff33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0080" y="3035160"/>
            <a:ext cx="75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ty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67520" y="2978280"/>
            <a:ext cx="992160" cy="382320"/>
          </a:xfrm>
          <a:prstGeom prst="rect">
            <a:avLst/>
          </a:prstGeom>
          <a:solidFill>
            <a:srgbClr val="ff33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89920" y="3035160"/>
            <a:ext cx="744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ty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7920" y="2436840"/>
            <a:ext cx="992160" cy="382680"/>
          </a:xfrm>
          <a:prstGeom prst="rect">
            <a:avLst/>
          </a:prstGeom>
          <a:solidFill>
            <a:srgbClr val="ff33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0320" y="2494080"/>
            <a:ext cx="744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ty 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93080" y="1905120"/>
            <a:ext cx="992160" cy="382320"/>
          </a:xfrm>
          <a:prstGeom prst="rect">
            <a:avLst/>
          </a:prstGeom>
          <a:solidFill>
            <a:srgbClr val="ff9933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08640" y="1962000"/>
            <a:ext cx="75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ty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7160" y="3046320"/>
            <a:ext cx="992160" cy="3826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9560" y="3103560"/>
            <a:ext cx="744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ty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0160" y="3046320"/>
            <a:ext cx="992160" cy="3826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92560" y="3103560"/>
            <a:ext cx="744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ty 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93D7-C84D-45E3-A3A2-393F7686BBE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A153D7-A3AB-420D-A72C-B0C0809621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206J/16.77J/ESD.215J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br>
              <a:rPr sz="44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The Crew Scheduling Problem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blem Defin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quential Solution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w Pairing Optimization Mod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-and-Price Sol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anching strateg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157B-E852-4E14-97C2-97C26BBC1BF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A222A1-2399-41D8-8F06-4E2C7241FF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eekl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ver all flights scheduled in a week-long peri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eet assignment on a particular flight leg can vary by day of we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flights by day-of-week as well as flight number, location,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ABB1-3343-4941-A530-B774832E685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5A149B-8533-4D4E-B7AA-70B5CB2525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cep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ver all flights in “broken pairing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ver all flights that are scheduled at most three times/we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flights by day-of-week as well as flight number, location,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erate “weekly” pairin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03CD-3ABF-472C-B2D7-D74126780CC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732D5F-C57E-4BE9-9C46-4FEA9ADFC1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ransi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ver flights in pairings that cross the end of the mon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flights by date as well as flight number, location, time, day-of-week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erate pairings connecting two different flight sched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4A67-E72F-4BB4-9003-D625BD1CAF0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9129F-FBD9-4555-979F-607D032923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rew Plann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"/>
          <p:cNvSpPr/>
          <p:nvPr/>
        </p:nvSpPr>
        <p:spPr>
          <a:xfrm>
            <a:off x="812880" y="3048120"/>
            <a:ext cx="1854000" cy="1066680"/>
          </a:xfrm>
          <a:prstGeom prst="rect">
            <a:avLst/>
          </a:prstGeom>
          <a:solidFill>
            <a:srgbClr val="ed253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ai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3124080"/>
            <a:ext cx="1981440" cy="1067040"/>
          </a:xfrm>
          <a:prstGeom prst="rect">
            <a:avLst/>
          </a:prstGeom>
          <a:solidFill>
            <a:srgbClr val="ed253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cep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77120" y="3124080"/>
            <a:ext cx="2057400" cy="1067040"/>
          </a:xfrm>
          <a:prstGeom prst="rect">
            <a:avLst/>
          </a:prstGeom>
          <a:solidFill>
            <a:srgbClr val="ed253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58128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91320" y="36576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45280" y="4191120"/>
            <a:ext cx="11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rok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air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"/>
          <p:cNvSpPr/>
          <p:nvPr/>
        </p:nvSpPr>
        <p:spPr>
          <a:xfrm>
            <a:off x="5388480" y="4191120"/>
            <a:ext cx="11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rok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air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9A55-0E93-4853-BCBD-535CB85A42A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6FDA46-15B2-4A64-AEEE-9D7E10D8F8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ssignment Proble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fied at the individual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orporates rest, vacation time, medical leave, trai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cus is not on cost but crew needs/ preferen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AD26-B1B1-401F-B5B9-33422AE99F3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E13993-FF72-4223-9723-01CF114151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Bidline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irings are constructed into generic sched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edules are posted and crew members bid for specific sched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senior crew members given greater prior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monly used in the U.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2125-4643-4A7A-A956-B91BD44B9B8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D691E-9BD3-4E4E-806F-0BA81D747B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Rostering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rsonalized pairings are construc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orporates crew vacation requests, training needs,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gher priority given to more senior crew memb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ical outside the U.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D800-1997-479E-8F36-47DCD871D11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76F60-77EA-4AEB-9BD1-96F417FACE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airing vs. Assign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imilarit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quencing flights to form pairing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equencing pairings to form sched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t partitioning formulations (possibly with side constraint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ifferenc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crews vs. single crew memb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jective func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me horiz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466A-1632-48DD-867F-5876DC5B8D1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7150F9-C05D-4CDE-A0BC-E46D68EC83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ckpit vs. Cabi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ckpit crews stay together; cabin crews do no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ckpit crew makeup is fixed; cabin needs can vary by dema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bin crew members have a wider range of aircraft they can staf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ckpit crew members receive higher sala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9DB1-491A-4AC5-9A9C-24A15B4A4E1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3857DE-031B-4E72-B3CA-8374185A0F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omestic vs. Internation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mestic U.S. networks of large carriers are predominantly hub-and-spok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many connection opportun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mestic networks are usually dai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national networks are typically point-to-poi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re of a need to us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eadhea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ernational networks are typically week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1B25-83DB-4D51-89CF-5F9B5F99B24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D11270-1903-4399-87EA-FB1B1F04EB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hy Crew Scheduling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largest operating expense (after fue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 success sto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lex problems with many remaining opportun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case study for techniques to solve large IP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49FA-8AD0-4E93-81B4-52140B7B1A5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731E04-C9AB-4149-AF4C-36E938BF38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covery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a disruption, adjust the crew schedule so that it becomes feasi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our objectiv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urn to original schedule as quickly as possibl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ize passenger disruption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ize cost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mited time horizon -- need fast heurist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6025-F854-4BE5-88FF-ACCA4DAA76E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2B486E-DEC3-45ED-9D64-AA88175081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Focus: Daily Domestic Cockpit Crew Pairing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roblem descrip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rmul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olution approach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omputational resul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ntegration with aircraft routing, FA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9FF3-9843-4C89-B26B-8B35959589C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569EA-569D-4023-A6E7-21E85724EA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Crew Pairing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a set of flights (corresponding to 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dividual fleet type 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leet famil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, choose 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imum cost set of pairings such that eve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ight is covered exactly once (i.e. every flight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ained in exactly one pairing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0EC9-D6A1-4512-83B6-05818AD3E32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B4F65-1F70-41AA-B8B1-93ACB61195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the set of feasible pairings for fleet type 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the set of daily flights assigned to fleet type 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Times New Roman"/>
              </a:rPr>
              <a:t>f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defined to be 1 if flight f is included in pairing p, else 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the cost of pairing 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a binary decision variable – value 1 indicates that pairing p is chosen, else 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C21D-12DA-463A-A3EC-CF6F5DFFBC2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59BE3C-19EF-4159-9D76-9619B76175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1371600"/>
            <a:ext cx="6400800" cy="464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133720" y="1447920"/>
                <a:ext cx="4876560" cy="44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   </m:t>
                        </m:r>
                        <m:r>
                          <m:t xml:space="preserve">∀</m:t>
                        </m:r>
                        <m:r>
                          <m:t xml:space="preserve">f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∀</m:t>
                        </m:r>
                        <m:r>
                          <m:t xml:space="preserve">p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7E5A-5E5E-49E2-9EFA-88BADE309EAF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D25FB-0057-483D-8121-8725C47B95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Is this an easy problem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near objective fun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 complex feasibility r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to write/intuit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mall number of constra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uge number of integer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DF22-6976-4AA8-BF4A-466E6FF3AA8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A358FA-AB16-4D24-B280-36B09FD454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How do we solve it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e need branch-and-bound to solve the I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e need column generation to solve the individual LP relaxatio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Branch-and-pric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combines the tw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EE59-334E-4E4E-855A-0F7254E77E5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40D28-00A4-461B-A5E4-74228CC44E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 Review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lumn generation solve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inea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rograms with a large number of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rt with 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restricted mast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a subset of the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ve to optima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put the duals to 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ricing proble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look for negative reduced cost colum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pe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5B7C-2F93-4E95-8CD9-6DC5C3B4DFC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5A8B6-5FF5-4722-8EC3-2E9CBC1535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Generating Crew Pairing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rt with enough columns to ensure a feasible solution (may need to use artificial variabl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ve Restricted Master prob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ok for one or more negative reduced cost columns for each crew base; add to Restricted Master problem and re-sol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no new columns are found, LP is optim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FA9B-7B91-4CAF-AB27-48E66F0E664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ED70A-DC7C-4762-8881-A57CAF5C70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rew Pairing Reduced Cos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cost of pairing p 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2819520"/>
            <a:ext cx="7238880" cy="220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295280" y="3060720"/>
                <a:ext cx="7220160" cy="16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26C6-76A1-4836-BF27-861C0C75981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5C9C7-6655-4359-B4FF-8838C87C85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irlin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n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54080" y="1752480"/>
            <a:ext cx="5104800" cy="4267080"/>
            <a:chOff x="1954080" y="1752480"/>
            <a:chExt cx="5104800" cy="4267080"/>
          </a:xfrm>
        </p:grpSpPr>
        <p:sp>
          <p:nvSpPr>
            <p:cNvPr id="51" name=""/>
            <p:cNvSpPr/>
            <p:nvPr/>
          </p:nvSpPr>
          <p:spPr>
            <a:xfrm>
              <a:off x="1954080" y="1752480"/>
              <a:ext cx="510480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chedule Desig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54080" y="2971440"/>
              <a:ext cx="51048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leet Assig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54080" y="4114440"/>
              <a:ext cx="51048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ircraft Rou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54080" y="5257440"/>
              <a:ext cx="51048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rew Schedul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28720" y="2590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28720" y="3733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28720" y="4876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965A-F13A-43A9-B568-E794F5594EF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616463-20FB-4788-B1D6-804A40B210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1371600"/>
            <a:ext cx="6400800" cy="464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133720" y="1447920"/>
                <a:ext cx="4876560" cy="44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   </m:t>
                        </m:r>
                        <m:r>
                          <m:t xml:space="preserve">∀</m:t>
                        </m:r>
                        <m:r>
                          <m:t xml:space="preserve">f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∀</m:t>
                        </m:r>
                        <m:r>
                          <m:t xml:space="preserve">p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F47B-4744-47F6-B97B-96A7811481BC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A40E9-228D-4B0C-B1E0-E56638B991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icing as a Shortest Path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pairing can be seen as a path, where nodes represent flights and arcs represent valid connec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hs must start/end at a given crew bas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daily problem,  paths cannot repeat a fli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hs must satisfy duty and pairing r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h costs can be computed via labels corresponding to pairing reduced co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1BBB-2BF2-415E-910A-B804C8A5C6C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2A3844-D977-46EE-84C4-93B6FCC3B1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etwork Structur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nection arc networ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des represent fligh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cs represent (potentially) feasible conne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ltiple copies of the network in order to construct multi-day pairin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urce/sink nodes at the crew b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400E-A605-49D2-8325-574089AD2F6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72164-FBAB-40A1-9D93-BC01F700A9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etwork Examp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3429000"/>
            <a:ext cx="1143000" cy="1143000"/>
          </a:xfrm>
          <a:prstGeom prst="ellipse">
            <a:avLst/>
          </a:prstGeom>
          <a:solidFill>
            <a:srgbClr val="00ccff"/>
          </a:solidFill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B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447920" y="2819520"/>
            <a:ext cx="1371600" cy="761760"/>
          </a:xfrm>
          <a:prstGeom prst="line">
            <a:avLst/>
          </a:prstGeom>
          <a:ln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4419720"/>
            <a:ext cx="1219320" cy="685800"/>
          </a:xfrm>
          <a:prstGeom prst="line">
            <a:avLst/>
          </a:prstGeom>
          <a:ln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486400"/>
            <a:ext cx="3200400" cy="304920"/>
          </a:xfrm>
          <a:prstGeom prst="line">
            <a:avLst/>
          </a:prstGeom>
          <a:ln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5651640" cy="51944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792600" y="1905120"/>
            <a:ext cx="2760480" cy="711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3792600" y="2819520"/>
            <a:ext cx="2684520" cy="909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809880" y="3962520"/>
            <a:ext cx="2760840" cy="125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DA5B-59DA-4016-AE34-ACF3ECC79A9C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91B724-2566-4E0B-82C0-424525B73B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ulti-Day Networ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809880"/>
            <a:ext cx="30456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2057400"/>
            <a:ext cx="0" cy="3657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2590920"/>
            <a:ext cx="30492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81080" y="3276720"/>
            <a:ext cx="30492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3886200"/>
            <a:ext cx="30456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62320" y="4419720"/>
            <a:ext cx="30456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38280" y="2438280"/>
            <a:ext cx="30492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00400" y="2057400"/>
            <a:ext cx="0" cy="3657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2590920"/>
            <a:ext cx="30456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3886200"/>
            <a:ext cx="30492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95680" y="4419720"/>
            <a:ext cx="30492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2438280"/>
            <a:ext cx="30492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057400"/>
            <a:ext cx="0" cy="3657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67280" y="2590920"/>
            <a:ext cx="30492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48520" y="3276720"/>
            <a:ext cx="30456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15000" y="3886200"/>
            <a:ext cx="30492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629400" y="4419720"/>
            <a:ext cx="30492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05720" y="2438280"/>
            <a:ext cx="30456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43800" y="2057400"/>
            <a:ext cx="0" cy="3657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77320" y="3809880"/>
            <a:ext cx="30456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5462-75D5-4A49-9E2A-7E91252D9C0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2E356-351D-403A-BBF9-65D6837134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bel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asibilit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iring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 rest between du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x rest between du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x # of du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t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x fly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x duty ti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 idle (connection arc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x idle (connections arc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765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st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iring -- max of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m of duty co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* TAF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 guarantee p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ty -- max of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tal flying ti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* total duty ti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 guarantee p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D41F-7305-474C-ABC4-08E329425124}" type="slidenum">
              <a:t>4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C97DD-9D82-4526-B560-75C8F6AD25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bels, cont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bels have to track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urrent dut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ying time in current du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tal elapsed time in current du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urrent duty co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iring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iring TAF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m of completed duties’ co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# completed du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urrent pairing reduced co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bels also contai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bel i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vious fligh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vious flight’s label i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BF5D-DC15-41C5-A719-F355AE202B42}" type="slidenum">
              <a:t>4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29317-92F8-43F3-88FC-78723B1813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cessing Label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r each node (in topological order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each label at that no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66240" indent="-20340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each connection arc out of that no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271520" indent="-20340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cess the ar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271520" indent="-20340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a label is created, check existing labels for domina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271520" indent="-20340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the node ends at the crew base and reduced cost is negative, a potential column’s been fou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3E81-4F1E-4861-84A1-B21F07653E8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B7E5EC-3C3E-4D34-8EDA-24D4260F1E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cessing Labels, cont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"/>
          <p:cNvSpPr/>
          <p:nvPr/>
        </p:nvSpPr>
        <p:spPr>
          <a:xfrm>
            <a:off x="2336760" y="2133720"/>
            <a:ext cx="1371600" cy="1371600"/>
          </a:xfrm>
          <a:prstGeom prst="rect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Flight repeat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2133720"/>
            <a:ext cx="914400" cy="13716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Giv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Ar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311560" y="762120"/>
            <a:ext cx="1396800" cy="1422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708360" y="2108160"/>
            <a:ext cx="2563920" cy="139716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5477040" y="1301760"/>
            <a:ext cx="134640" cy="838080"/>
            <a:chOff x="5477040" y="1301760"/>
            <a:chExt cx="134640" cy="838080"/>
          </a:xfrm>
        </p:grpSpPr>
        <p:sp>
          <p:nvSpPr>
            <p:cNvPr id="249" name=""/>
            <p:cNvSpPr/>
            <p:nvPr/>
          </p:nvSpPr>
          <p:spPr>
            <a:xfrm>
              <a:off x="5514840" y="1433520"/>
              <a:ext cx="57240" cy="70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7040" y="1301760"/>
              <a:ext cx="134640" cy="1364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85" y="86"/>
                  </a:moveTo>
                  <a:lnTo>
                    <a:pt x="42" y="0"/>
                  </a:lnTo>
                  <a:lnTo>
                    <a:pt x="0" y="86"/>
                  </a:lnTo>
                  <a:lnTo>
                    <a:pt x="85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857840" y="768240"/>
            <a:ext cx="1373040" cy="53496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79840" y="912960"/>
            <a:ext cx="41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15040" y="1682640"/>
            <a:ext cx="534960" cy="230400"/>
          </a:xfrm>
          <a:prstGeom prst="rect">
            <a:avLst/>
          </a:prstGeom>
          <a:solidFill>
            <a:srgbClr val="00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06560" y="170352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280200" y="2657520"/>
            <a:ext cx="1143000" cy="135000"/>
            <a:chOff x="6280200" y="2657520"/>
            <a:chExt cx="1143000" cy="135000"/>
          </a:xfrm>
        </p:grpSpPr>
        <p:sp>
          <p:nvSpPr>
            <p:cNvPr id="256" name=""/>
            <p:cNvSpPr/>
            <p:nvPr/>
          </p:nvSpPr>
          <p:spPr>
            <a:xfrm>
              <a:off x="6280200" y="2695680"/>
              <a:ext cx="101124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88200" y="2657520"/>
              <a:ext cx="13500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0" y="85"/>
                  </a:moveTo>
                  <a:lnTo>
                    <a:pt x="85" y="42"/>
                  </a:lnTo>
                  <a:lnTo>
                    <a:pt x="0" y="0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7423200" y="2114640"/>
            <a:ext cx="1373040" cy="1373040"/>
          </a:xfrm>
          <a:prstGeom prst="rect">
            <a:avLst/>
          </a:prstGeom>
          <a:solidFill>
            <a:srgbClr val="cc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37840" y="2541600"/>
            <a:ext cx="83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id f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779600" y="2816280"/>
            <a:ext cx="75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ring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85120" y="2571840"/>
            <a:ext cx="534960" cy="230040"/>
          </a:xfrm>
          <a:prstGeom prst="rect">
            <a:avLst/>
          </a:prstGeom>
          <a:solidFill>
            <a:srgbClr val="00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46760" y="2592360"/>
            <a:ext cx="27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7416720" y="762120"/>
            <a:ext cx="1397160" cy="1422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7442280" y="3456000"/>
            <a:ext cx="1396800" cy="14209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895480" y="3733920"/>
            <a:ext cx="4572000" cy="1981080"/>
          </a:xfrm>
          <a:prstGeom prst="rect">
            <a:avLst/>
          </a:prstGeom>
          <a:solidFill>
            <a:srgbClr val="ed25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lid for dut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n’t violate max duty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n’t violate max idle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n’t violate max flying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14600" y="914400"/>
            <a:ext cx="60199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3657600"/>
            <a:ext cx="3429000" cy="2895480"/>
          </a:xfrm>
          <a:prstGeom prst="rect">
            <a:avLst/>
          </a:prstGeom>
          <a:solidFill>
            <a:srgbClr val="ed25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 labe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date duty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date flying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date duty c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date pairing red. c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date pairing TAF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date sum of duty cos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38280" y="762120"/>
            <a:ext cx="6096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19720" y="5105520"/>
            <a:ext cx="4724280" cy="1447560"/>
          </a:xfrm>
          <a:prstGeom prst="rect">
            <a:avLst/>
          </a:prstGeom>
          <a:solidFill>
            <a:srgbClr val="ed25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lid for pairing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n’t violate number of du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n’t violate min layo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n’t violate max TAF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38280" y="838080"/>
            <a:ext cx="62485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62320" y="838080"/>
            <a:ext cx="609588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D89C-045C-474C-AC22-77E78C3980DD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C1DE29-7B25-43DE-9731-0AE1A56E39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113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 and Network Structur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lvl="1" marL="609120" indent="-234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uty assignment networ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890280" indent="-18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rge number of arc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171440" indent="-18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e arc per du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171440" indent="-18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n be hundreds of connections per du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171440" indent="-18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: 363 flights, 7838 duties, 1.65 M connec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890280" indent="-18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wer labels per path - duty rules are built 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ight assignment networ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890280" indent="-18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maller number of arc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171440" indent="-18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e arc per fligh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171440" indent="-18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ypically not more than 30 connections per fligh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890280" indent="-18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rger number of labe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890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3F15-B93A-4CE7-9EAE-81F4FB12390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54EED6-EBF1-470E-8379-AAE2DF5DF1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Crew Scheduling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sign crews to cover all flights for a given fleet ty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imize c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me paid for fly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nalty” pa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de constra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l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bust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D928-2F49-45F2-B727-D317D2F249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6DD016-C8E7-487A-8FBF-3D5292E6FA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Bound Review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"/>
          <p:cNvSpPr/>
          <p:nvPr/>
        </p:nvSpPr>
        <p:spPr>
          <a:xfrm>
            <a:off x="4049640" y="1066680"/>
            <a:ext cx="762120" cy="762120"/>
          </a:xfrm>
          <a:prstGeom prst="rect">
            <a:avLst/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Ro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819520" y="1371600"/>
            <a:ext cx="3190680" cy="9698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2514600" y="2362320"/>
            <a:ext cx="865080" cy="8031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5562720" y="2362320"/>
            <a:ext cx="803160" cy="8031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4343400" y="2916360"/>
            <a:ext cx="3144960" cy="9698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4073400" y="4038480"/>
            <a:ext cx="803520" cy="8035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7121520" y="4038480"/>
            <a:ext cx="803160" cy="8035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2860560" y="4668840"/>
            <a:ext cx="3159360" cy="9698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8"/>
          <a:stretch/>
        </p:blipFill>
        <p:spPr>
          <a:xfrm>
            <a:off x="5673600" y="5749920"/>
            <a:ext cx="803520" cy="803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9"/>
          <a:stretch/>
        </p:blipFill>
        <p:spPr>
          <a:xfrm>
            <a:off x="2133720" y="5749920"/>
            <a:ext cx="1655640" cy="80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8D0C-305C-4BF6-BB61-153D7F5ACF09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0C42D-9DFE-44D1-A796-8E6DF3D934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Heuristic Solution Approach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ranch-and-bound with only root node LP solved using column gener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 feasible solution may exist in the columns generated to solve the root node L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ventional wisdom:  need some “bad” columns to get a “good” sol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562A-8B55-430F-B768-E2A46477F21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1DC09-0F9A-44E2-992A-04E267BC92C0}" type="datetime1">
              <a:rPr lang="en-US"/>
              <a:t>07/30/26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Branch-and-Price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a branching rule that is compatible with column gene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ule must be enforceable without changing the structure of the pricing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3000" indent="-221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ulti-label shortest path proble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anching based on variable dichotomy is not compati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3000" indent="-221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nnot restrict the shortest path algorithm from finding a path (that is, a pairing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E101-249C-4E86-9089-FCABA4101FE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C12F60-05EC-4381-9E0F-4A81DE27F9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Variable Dichotomy Branch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iven a fractional solution to the crew pairing problem, pick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s.t.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0 &lt; x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&lt; 1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wo new problems: {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= 1, x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= 0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rawback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bal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depth of tr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forcing in the pricing problem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868320" indent="-182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= 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eas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868320" indent="-182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= 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har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315F-D224-46F8-B3CD-A353E8D2CA3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FD579-9360-4DA1-8611-DA378E9442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ing on Follow-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iven a fractional solution, there must be two flights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1, f2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such that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1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is followed by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2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 fractional amount in the solu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iring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1-f2-f3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has value 1/2 and pairing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-f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has value 1/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ranch on {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is/is not followed by 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balanc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ewer branching leve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to enforce in pricing prob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89AE-BA8D-462B-BE54-5A1E3CC8DCB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AA5BC-D414-4820-BEFF-B7566B6F26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How to Alter Network to Enforce Branching Decis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follow-on flight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-b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quir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move all connection arcs from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flights other tha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move all connection arcs in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b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rom flights other tha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follow-on flight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-b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allow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move all connection arcs from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A59B-6134-4F9D-A4E0-469DDE85DE5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8509E-9289-4E46-B620-FC7BAB918D49}" type="datetime1">
              <a:rPr lang="en-US"/>
              <a:t>07/30/26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How to Select Flight Pairs for Branch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m current LP solution values of all possible flight follow-on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 on the follow-on with the greatest val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41E5-1FF8-45E6-B866-BAB5E9B44D4B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BEA1CB-91EC-4B02-BD3F-80DE207B99FF}" type="datetime1">
              <a:rPr lang="en-US"/>
              <a:t>07/30/2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mputational Resul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merican Airlines (1993)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25,000+ crew memb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ave $20+ million/yea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olutions in 4 - 10 hou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5264-A90B-4A37-A8B2-99C74E2CC6B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C13B4D-6306-41FC-81D7-7E0F798D9A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Other Crew Scheduling Research Topic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abin crew schedul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ntegrating pairing and assignm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obust plann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ecover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ntegrated mode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1E15-5863-4980-B5BD-94E484704B8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B79EA-176D-490C-9DC4-2043F53C68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etwork Flow Problem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031240" cy="4373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73080" y="1430280"/>
            <a:ext cx="7180200" cy="4361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362320" y="2438280"/>
            <a:ext cx="4495680" cy="2971800"/>
          </a:xfrm>
          <a:prstGeom prst="rect">
            <a:avLst/>
          </a:prstGeom>
          <a:solidFill>
            <a:srgbClr val="ed253d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lex feasibility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-linear objective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255A-240E-4060-8917-B3B3908B88A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512F8F-B305-488F-BB1D-D98312C121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uilding Block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798640" y="1828800"/>
            <a:ext cx="1849680" cy="3351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340760" y="2058840"/>
            <a:ext cx="1706400" cy="312264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365400" y="2133720"/>
            <a:ext cx="2247480" cy="3062160"/>
            <a:chOff x="365400" y="2133720"/>
            <a:chExt cx="2247480" cy="3062160"/>
          </a:xfrm>
        </p:grpSpPr>
        <p:grpSp>
          <p:nvGrpSpPr>
            <p:cNvPr id="68" name=""/>
            <p:cNvGrpSpPr/>
            <p:nvPr/>
          </p:nvGrpSpPr>
          <p:grpSpPr>
            <a:xfrm>
              <a:off x="365400" y="2133720"/>
              <a:ext cx="1485720" cy="3062160"/>
              <a:chOff x="365400" y="2133720"/>
              <a:chExt cx="1485720" cy="306216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461880" y="2133720"/>
                <a:ext cx="1389240" cy="1295280"/>
                <a:chOff x="461880" y="2133720"/>
                <a:chExt cx="1389240" cy="129528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517680" y="2828880"/>
                  <a:ext cx="1212840" cy="52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" name=""/>
                <p:cNvGrpSpPr/>
                <p:nvPr/>
              </p:nvGrpSpPr>
              <p:grpSpPr>
                <a:xfrm>
                  <a:off x="461880" y="2133720"/>
                  <a:ext cx="1389240" cy="1295280"/>
                  <a:chOff x="461880" y="2133720"/>
                  <a:chExt cx="1389240" cy="129528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>
                    <a:off x="936720" y="2286000"/>
                    <a:ext cx="304560" cy="7632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936720" y="2438280"/>
                    <a:ext cx="304560" cy="7632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936720" y="3048120"/>
                    <a:ext cx="304560" cy="759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936720" y="3200400"/>
                    <a:ext cx="304560" cy="7632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479520" y="2666880"/>
                    <a:ext cx="1371600" cy="228600"/>
                  </a:xfrm>
                  <a:custGeom>
                    <a:avLst/>
                    <a:gdLst>
                      <a:gd name="textAreaLeft" fmla="*/ 0 w 1371600"/>
                      <a:gd name="textAreaRight" fmla="*/ 1371960 w 1371600"/>
                      <a:gd name="textAreaTop" fmla="*/ 0 h 228600"/>
                      <a:gd name="textAreaBottom" fmla="*/ 228960 h 228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lnTo>
                          <a:pt x="5400" y="10800"/>
                        </a:lnTo>
                        <a:close/>
                      </a:path>
                    </a:pathLst>
                  </a:custGeom>
                  <a:solidFill>
                    <a:srgbClr val="cc99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1012680" y="2133720"/>
                    <a:ext cx="152640" cy="533160"/>
                  </a:xfrm>
                  <a:prstGeom prst="rect">
                    <a:avLst/>
                  </a:prstGeom>
                  <a:solidFill>
                    <a:srgbClr val="cc99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1012680" y="2895480"/>
                    <a:ext cx="152640" cy="533520"/>
                  </a:xfrm>
                  <a:prstGeom prst="rect">
                    <a:avLst/>
                  </a:prstGeom>
                  <a:solidFill>
                    <a:srgbClr val="cc99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555480" y="2438280"/>
                    <a:ext cx="152640" cy="228600"/>
                  </a:xfrm>
                  <a:prstGeom prst="rtTriangle">
                    <a:avLst/>
                  </a:prstGeom>
                  <a:solidFill>
                    <a:srgbClr val="cc99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 flipV="1">
                    <a:off x="555480" y="2894760"/>
                    <a:ext cx="152640" cy="228600"/>
                  </a:xfrm>
                  <a:prstGeom prst="rtTriangle">
                    <a:avLst/>
                  </a:prstGeom>
                  <a:solidFill>
                    <a:srgbClr val="cc99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 flipH="1">
                    <a:off x="461880" y="2692440"/>
                    <a:ext cx="372960" cy="166680"/>
                  </a:xfrm>
                  <a:custGeom>
                    <a:avLst/>
                    <a:gdLst>
                      <a:gd name="textAreaLeft" fmla="*/ 360 w 372960"/>
                      <a:gd name="textAreaRight" fmla="*/ 373680 w 372960"/>
                      <a:gd name="textAreaTop" fmla="*/ 0 h 166680"/>
                      <a:gd name="textAreaBottom" fmla="*/ 166680 h 166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cc99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2" name=""/>
              <p:cNvSpPr/>
              <p:nvPr/>
            </p:nvSpPr>
            <p:spPr>
              <a:xfrm>
                <a:off x="365400" y="4675320"/>
                <a:ext cx="103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Flight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1816200" y="4842000"/>
              <a:ext cx="590400" cy="134640"/>
            </a:xfrm>
            <a:prstGeom prst="rightArrow">
              <a:avLst>
                <a:gd name="adj1" fmla="val 50000"/>
                <a:gd name="adj2" fmla="val 109626"/>
              </a:avLst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22480" y="2720880"/>
              <a:ext cx="590400" cy="135000"/>
            </a:xfrm>
            <a:prstGeom prst="rightArrow">
              <a:avLst>
                <a:gd name="adj1" fmla="val 50000"/>
                <a:gd name="adj2" fmla="val 109333"/>
              </a:avLst>
            </a:prstGeom>
            <a:solidFill>
              <a:srgbClr val="ff0000"/>
            </a:solidFill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699080" y="2200320"/>
            <a:ext cx="2679480" cy="2936520"/>
            <a:chOff x="4699080" y="2200320"/>
            <a:chExt cx="2679480" cy="2936520"/>
          </a:xfrm>
        </p:grpSpPr>
        <p:sp>
          <p:nvSpPr>
            <p:cNvPr id="86" name=""/>
            <p:cNvSpPr/>
            <p:nvPr/>
          </p:nvSpPr>
          <p:spPr>
            <a:xfrm>
              <a:off x="5230080" y="4616280"/>
              <a:ext cx="120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Pairing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88160" y="4822920"/>
              <a:ext cx="590400" cy="135000"/>
            </a:xfrm>
            <a:prstGeom prst="rightArrow">
              <a:avLst>
                <a:gd name="adj1" fmla="val 50000"/>
                <a:gd name="adj2" fmla="val 109333"/>
              </a:avLst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97800" y="2647800"/>
              <a:ext cx="590400" cy="135000"/>
            </a:xfrm>
            <a:prstGeom prst="rightArrow">
              <a:avLst>
                <a:gd name="adj1" fmla="val 50000"/>
                <a:gd name="adj2" fmla="val 109333"/>
              </a:avLst>
            </a:prstGeom>
            <a:solidFill>
              <a:srgbClr val="ff0000"/>
            </a:solidFill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4699080" y="2200320"/>
              <a:ext cx="1927080" cy="109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6489-08DC-4CBB-9390-69C58CC7162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17391-AD2B-45F6-8ABC-BBA40CD39D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uty Period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ition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duty period is a day-long sequence of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onsecutive flight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at can be assigned to 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ingle crew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to be followed by 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eriod of r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0F4B-1123-4A58-9F62-88AA68CB026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AA8EA9-C363-446E-8CEC-F747AA7636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uty Rul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ights are sequential in space/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flying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imum idle/sit/connec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idle/sit/connec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duty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09AD-54AC-4CBD-9DFF-A763223C0FD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C7C490-0D4D-4B7B-BD42-0374B4855B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3:11:32Z</dcterms:created>
  <dc:creator>Andrew P. Armacost</dc:creator>
  <dc:description/>
  <dc:language>en-US</dc:language>
  <cp:lastModifiedBy>CEE</cp:lastModifiedBy>
  <cp:lastPrinted>2000-05-28T17:01:40Z</cp:lastPrinted>
  <dcterms:modified xsi:type="dcterms:W3CDTF">2004-01-16T16:12:55Z</dcterms:modified>
  <cp:revision>493</cp:revision>
  <dc:subject/>
  <dc:title>Thesis Proposal Meeting</dc:title>
</cp:coreProperties>
</file>