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8B7361-F3DC-446B-9B79-CFA53B43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CD3291-31BB-45CA-A57E-DCE70523D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9EBBCD-E1B6-4E22-BAED-3F3EAE20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CD87A6-3B22-4367-B450-C3E37B16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715AC-30CE-496D-97E4-4FDA1ED3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91D-E458-4299-9757-8714E173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F1D-CFD0-4177-8610-ECAFA09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7E9-EA96-4C36-986A-E46AB7B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2F6-31AD-462A-ACEE-2F40DA8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4EE-4D4E-47DB-95B1-8E87FC4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B31-3A4B-4419-B926-3690D624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3AA-ADDD-4D2C-B216-86B035C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1F8-E348-4BA1-9692-397AE39C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8DD-DA4D-4E99-BFBA-96D704E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837-2347-47AA-B94C-5D6E46D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244-3349-479F-8A37-EA9998B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943-0A1C-4A41-B723-8C873BA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3E6-66A2-48B7-84AB-0874A5222ED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87C1-E441-4D7A-BB90-A9C71A2998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0FE-0404-459F-99ED-CE2CC89AFF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A25FC-FA05-4BED-92F7-AB2654F80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A5E-CA19-4B87-A5C4-F4A1CC3BB6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C0E22-C674-40AF-BCAC-460F555B7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417-F445-4D4A-8050-9A31F9380890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A84EF-2C80-4589-8B92-FF670EF0A75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AD6-8EC9-4FDF-85B7-79046D951EB5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A87D2-DC21-4BD5-BFBA-D154DEA445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2FC-AF13-4ECD-AF00-BA08232607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18380-0652-43DE-ADD3-CB1940AEFB4D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FEE-6F62-4D82-80A6-30F6F88FE0C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786AA-04A8-46EE-9719-541B7B2D7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1AF-20D9-43D6-BF34-02C59F6FEF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5D144-2CBD-4179-AE2F-E8E45A89EC1D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F14-82DF-4CC0-ADFE-F19FD74747B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0DCD5-2C18-4823-A4F2-A48BFBB54D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C99-D5FA-4C95-995F-A05A9AF4A2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91FC5-83FE-43E2-A5BD-930B7E8A5243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A76-00EB-43DB-B3CD-C2108D774B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5C4B4-1E78-4762-B9E6-8149DAB1BC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547-AE13-4EDF-81E0-4F81F1164B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F25F1-107E-40E0-BDEF-9B6637C6838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F04-4592-4007-B56D-9CB1A98739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EE7CF-15E6-41BF-858C-F61E5A5100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AAB-C191-4108-BD8E-3B1C2EE80E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BB5C3-9104-447F-B7C4-C1612C3E2E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A5A-387C-47F1-8C6E-D9AC85CE2C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382E8-96E6-40AA-8B1C-24DC037CC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4B4-A3C3-4A4C-99FA-6D72A95967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EB63E-4043-4E7A-A7C9-61CA6AC36FB0}" type="datetime5">
              <a:rPr lang="en-US"/>
              <a:t>Jul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46F-D40D-4571-A58B-15E597DB89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5B28-E8A0-4FB5-B15D-129461BDF809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4BE-DEC7-403A-A3D0-F026295229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8CC9B-0359-49AA-98DB-9F144A82CF8C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BED-12D6-41AA-83D8-FC1B58D5B7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F529A-76E7-4E3D-B6EA-8FFAFDE93D13}" type="datetime5">
              <a:rPr lang="en-US"/>
              <a:t>Jul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294-981B-42CB-949C-24D902059B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1B1D3-0148-45E0-9115-0D5E8B8E7036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FAE-33E1-4546-97BC-467F5DFD1F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10DC6-E05F-40EC-BE59-0F549A589188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506-2A83-452C-BB8F-762AC3BEA0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0665D-8971-406F-850F-2EAC15AFE1F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409-6A09-4C41-A34B-7F35D40451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CB02F-A4CE-4FFD-8668-A47ED490D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C06-35CF-4D55-898D-308875F956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3FD8D-587D-4B53-93E6-09E3C8809917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12571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0DE-4A9B-4960-A0F8-531924335E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20654-12F9-4B4E-A91D-7FD8F6E81B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B9B-9302-447D-B85A-EB808701EB8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78538-D81F-44A6-9BF6-B16046E400CC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C5A-8C95-42B1-86C8-CE97DA0EEFF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D50DF-3345-40E9-AC45-0F9926E2FF7A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0AD-0ED9-49C5-82BD-EB948FA36E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D4213-A755-48D0-909B-DA8221ED6E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CAF-EB61-4799-A6C5-798162EA6F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8461D-EA47-40A6-A4DA-FAF281A26AD7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B55-D35C-456B-9E86-980DEBAFF5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723CE-12F9-4D8C-81B2-2B7DC4203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01D-F225-4E60-96D2-DDC337D51D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C2D69-4065-42CD-B21B-D1E180399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2B6-496A-4C98-B812-89765D4F5E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25421-8A4A-4406-96A8-67E23E29D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2D5-B196-4ECA-B20E-838D92E2D8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2F2C4-AA58-4A3F-80DA-F6816D0D0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6B7-BCEF-4901-90E0-8E84541183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808B8-3D42-4824-95D1-B97128F00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ADD-BFC1-4F0F-886E-8D6012844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C6FBC-B6E5-4021-BC91-5C4DEAFC98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230-2E61-4C6D-9958-D608C6A4AD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B0398-8E62-4E88-A602-42F16A4B3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F62-679E-4F2A-826F-C22BB58A45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7C837-2C8C-4C5C-B2AC-9FC5244A3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68A-746B-437F-8FA3-269D4E00E0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ABE45-26B2-4620-8F49-84BFC14211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4:38Z</dcterms:modified>
  <cp:revision>370</cp:revision>
  <dc:subject/>
  <dc:title>Thesis Proposal Meeting</dc:title>
</cp:coreProperties>
</file>