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B1BC-8CBB-450B-B8FB-E3B577FE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D5ED-B172-472A-A807-59D4D3B2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FCA9-4161-4FB9-A84F-CFFE56581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B7BB-7159-4B11-8222-5BF1F6496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C34B-EA2B-46FD-AFEB-80E12548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5A30-8F8B-46B9-A107-6D33B340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9243-50FE-44A9-9D9F-B27886D5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9622-9AB3-42A6-9D11-C48CDF9F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3A9D-D887-429D-9CF3-2EBCBE7D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3823-5681-4D98-A287-E510EBD3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792D-3F6A-4B13-8640-39F572F8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92E8-98DF-42D4-94E2-97ADDB0A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591240"/>
            <a:ext cx="20574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A873-9B3D-4F79-90D1-D3D948699960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1920" y="6590880"/>
            <a:ext cx="28958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590880"/>
            <a:ext cx="19047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3071-16DF-4DDD-9233-A23AD8259F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.206J/16.77J/ESD.215J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ynthia Barnhar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pring 2003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5713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Quantitative Share Index or Quality of Service Index (QSI):  Defini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11360" y="2228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antitative Share Index or Quality of Service Index (QSI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is a QSI for each itinerar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each mark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each airlin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QSI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(m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um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QSI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(m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ver all itineraries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 a mark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ver all airlines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s equal 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for all markets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7E7E-2EFF-43E6-85CF-875F2CA557D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F0C0ED-6711-4424-98AD-323181151194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arket Shar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market share of airlin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mark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 the sum of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SI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(m)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ver all itinerarie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 mark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market share of the competitors of airlin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mark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1 – (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um of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SI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(m)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ver all itinerarie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 mark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 this as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s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m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3B2F-555B-4C90-A365-71480562765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681A46-B6AD-41CC-8721-087ADEC1BEC7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capture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028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der a passenger who desires itinerar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t is redirected (spilled) to itinerar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passenger has the choice of accepting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 not (going to a competitor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ability that passenger will accept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(given an uniform distribution) is the ratio o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QSI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J(m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o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QSI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J(m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s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m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bability that passenger will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OT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ep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given an uniform distribution) is the ratio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s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m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o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QSI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J(m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s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m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ratios sum to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a monopoly, recapture rate will equal 1.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9844-2A3C-49B5-9123-830269AAADE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681400-B78A-4215-824C-7301CBB2D047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capture Calc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apture rates for airlin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 probability that a passenger spilled from I will accept a seat on J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if one exi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QSI mechanism for computing recapture ra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660760" y="4222800"/>
                <a:ext cx="361944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SI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a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c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a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SI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a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9D37-2D75-40CD-A502-291D1505790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BD0C1A-2B50-4B2E-8F19-3895EC251016}" type="datetime1">
              <a:rPr lang="en-US"/>
              <a:t>07/30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ample with Recaptur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"/>
          <p:cNvSpPr/>
          <p:nvPr/>
        </p:nvSpPr>
        <p:spPr>
          <a:xfrm>
            <a:off x="2489040" y="5619600"/>
            <a:ext cx="533520" cy="533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13480" y="5619600"/>
            <a:ext cx="533160" cy="533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46240" y="5257800"/>
            <a:ext cx="2743200" cy="438120"/>
          </a:xfrm>
          <a:custGeom>
            <a:avLst/>
            <a:gdLst/>
            <a:ahLst/>
            <a:rect l="l" t="t" r="r" b="b"/>
            <a:pathLst>
              <a:path w="1728" h="276">
                <a:moveTo>
                  <a:pt x="0" y="276"/>
                </a:moveTo>
                <a:cubicBezTo>
                  <a:pt x="146" y="230"/>
                  <a:pt x="589" y="0"/>
                  <a:pt x="877" y="0"/>
                </a:cubicBezTo>
                <a:cubicBezTo>
                  <a:pt x="1165" y="0"/>
                  <a:pt x="1551" y="219"/>
                  <a:pt x="1728" y="2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22560" y="5605560"/>
            <a:ext cx="2560680" cy="250560"/>
          </a:xfrm>
          <a:custGeom>
            <a:avLst/>
            <a:gdLst/>
            <a:ahLst/>
            <a:rect l="l" t="t" r="r" b="b"/>
            <a:pathLst>
              <a:path w="1613" h="158">
                <a:moveTo>
                  <a:pt x="0" y="105"/>
                </a:moveTo>
                <a:cubicBezTo>
                  <a:pt x="272" y="57"/>
                  <a:pt x="547" y="0"/>
                  <a:pt x="816" y="9"/>
                </a:cubicBezTo>
                <a:cubicBezTo>
                  <a:pt x="1085" y="18"/>
                  <a:pt x="1447" y="127"/>
                  <a:pt x="1613" y="15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22560" y="5929200"/>
            <a:ext cx="2573280" cy="235080"/>
          </a:xfrm>
          <a:custGeom>
            <a:avLst/>
            <a:gdLst/>
            <a:ahLst/>
            <a:rect l="l" t="t" r="r" b="b"/>
            <a:pathLst>
              <a:path w="1621" h="148">
                <a:moveTo>
                  <a:pt x="0" y="45"/>
                </a:moveTo>
                <a:cubicBezTo>
                  <a:pt x="272" y="93"/>
                  <a:pt x="546" y="148"/>
                  <a:pt x="816" y="141"/>
                </a:cubicBezTo>
                <a:cubicBezTo>
                  <a:pt x="1086" y="134"/>
                  <a:pt x="1453" y="29"/>
                  <a:pt x="1621" y="0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4920" y="497196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,100,1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83080" y="531504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,300,1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96960" y="577224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,100,1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8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capture rat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 0.4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 0.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 0.5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 0.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 0.5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 0.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ume all itineraries have a single fare class, and their fares are all equ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timal solutio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ill _____ from I to J, Spill _____ from I to 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ill _____ from J to I, Spill _____ from J to 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ill _____ from K to I, Spill _____ from K to 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362320" y="3733920"/>
            <a:ext cx="1904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181480" y="3657600"/>
            <a:ext cx="1908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133720" y="4114800"/>
            <a:ext cx="5331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00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029200" y="4114800"/>
            <a:ext cx="457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5</a:t>
            </a:r>
            <a:endParaRPr b="0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438280" y="4572000"/>
            <a:ext cx="1908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181480" y="4572000"/>
            <a:ext cx="1908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5252-9519-4C91-9E23-77BBF306A51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CCEB21-5B39-499D-8CFC-AC7E1D859F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athematical Model:  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the number of passengers that desire travel on itinerar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then travel on itinerar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s an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average fare for itinerar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daily unconstrained demand for itinerar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capacity on flight leg 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recapture rate of a passenger desiring itinerar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who is offered itinerar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422360" y="5543640"/>
                <a:ext cx="60958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flight leg 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is on itinerary </m:t>
                              </m:r>
                              <m:r>
                                <m:t xml:space="preserve">p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228680" y="2286000"/>
                <a:ext cx="2858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930240" y="3772080"/>
                <a:ext cx="7826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ar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914400" y="4114800"/>
                <a:ext cx="6094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914400" y="4457880"/>
                <a:ext cx="81288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219320" y="4743360"/>
                <a:ext cx="260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7893-7F12-4C93-85CE-3833A95F9F0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64455-7B56-42D7-85F9-67435F9EBB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asic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26880" y="1314360"/>
                <a:ext cx="8490240" cy="418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imize</m:t>
                          </m:r>
                        </m:e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p</m:t>
                              </m:r>
                              <m:r>
                                <m:t xml:space="preserve">∈</m:t>
                              </m:r>
                              <m:r>
                                <m:t xml:space="preserve">P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P</m:t>
                                  </m:r>
                                </m:sub>
                                <m:sup/>
                                <m:e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fare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  <m:sSub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</m:e>
                              </m:nary>
                            </m:e>
                          </m:nary>
                        </m:e>
                        <m:e/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subject to:</m:t>
                          </m:r>
                        </m:e>
                        <m:e/>
                        <m:e/>
                      </m:mr>
                      <m:mr>
                        <m:e/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p</m:t>
                              </m:r>
                              <m:r>
                                <m:t xml:space="preserve">∈</m:t>
                              </m:r>
                              <m:r>
                                <m:t xml:space="preserve">P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P</m:t>
                                  </m:r>
                                </m:sub>
                                <m:sup/>
                                <m:e>
                                  <m:sSubSup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</m:e>
                              </m:nary>
                            </m:e>
                          </m:nary>
                          <m:r>
                            <m:t xml:space="preserve">≤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A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  <m:e>
                          <m:r>
                            <m:t xml:space="preserve">∀</m:t>
                          </m:r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L</m:t>
                          </m:r>
                        </m:e>
                      </m:mr>
                      <m:mr>
                        <m:e/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r</m:t>
                              </m:r>
                              <m:r>
                                <m:t xml:space="preserve">∈</m:t>
                              </m:r>
                              <m:r>
                                <m:t xml:space="preserve">P</m:t>
                              </m:r>
                            </m:sub>
                            <m:sup/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sSub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</m:den>
                              </m:f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nary>
                        </m:e>
                        <m:e>
                          <m:r>
                            <m:t xml:space="preserve">∀</m:t>
                          </m:r>
                          <m:r>
                            <m:t xml:space="preserve">p</m:t>
                          </m:r>
                          <m:r>
                            <m:t xml:space="preserve">∈</m:t>
                          </m:r>
                          <m:r>
                            <m:t xml:space="preserve">P</m:t>
                          </m:r>
                        </m:e>
                      </m:mr>
                      <m:mr>
                        <m:e/>
                        <m:e>
                          <m:sSubSup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r</m:t>
                              </m:r>
                            </m:sup>
                          </m:sSubSup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∀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  <m:r>
                            <m:t xml:space="preserve">∈</m:t>
                          </m:r>
                          <m:r>
                            <m:t xml:space="preserve">P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832F-C62B-4257-86A8-62BB1FFD164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DBCEF-9956-44EC-9860-C390EB3078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358452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3342-093A-4773-B979-0E00EC8C123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E66B4-6892-4ABF-A1B1-28EC48B1EF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ow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358452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85D2-C0AB-492F-9729-10D8A22AB75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72D706-B814-4E72-904C-1CA5017AC3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and Row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4659480" cy="480060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83D7-21FE-489E-9081-1F117DFCF52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A8A4CB-0CAC-48ED-999D-57EDAF2E38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206J/16.77J/ESD.215J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Passenger Mix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utlin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i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mul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lumn and Row Gene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lution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s and Extens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80CA-DAF6-46D9-B032-EA64424929D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7BA43-A77C-425E-806A-494AEF3708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and Row Generation:  Constraint Matrix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943600" cy="47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A4D3-4B6D-4767-9E7E-9ED01728168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2CD75E-78F8-46F4-AF7E-78512B3CC4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Keypath Concep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ume most passengers flow along their desired itiner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cus on which passengers the airline would like to redirect on other itinerar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w decision vari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number of passengers who desire travel on itinerary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, but the airline attempts to redirect onto the itinerary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w 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unconstrained demand on flight leg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803160" y="4191120"/>
                <a:ext cx="728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224000" y="5327640"/>
                <a:ext cx="2412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387520" y="5886360"/>
                <a:ext cx="299556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∈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CBC7-7B59-489F-A775-B3520DFEB92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D1232-6C2D-4AA3-AD98-4496E424B2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Keypath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62120" y="1428840"/>
                <a:ext cx="7619760" cy="33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e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p</m:t>
                              </m:r>
                              <m:r>
                                <m:t xml:space="preserve">∈</m:t>
                              </m:r>
                              <m:r>
                                <m:t xml:space="preserve">P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P</m:t>
                                  </m:r>
                                </m:sub>
                                <m:sup/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fare</m:t>
                                          </m:r>
                                        </m:e>
                                        <m:sub>
                                          <m:r>
                                            <m:t xml:space="preserve">p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b</m:t>
                                          </m:r>
                                        </m:e>
                                        <m:sub>
                                          <m:r>
                                            <m:t xml:space="preserve">p</m:t>
                                          </m:r>
                                        </m:sub>
                                        <m:sup>
                                          <m:r>
                                            <m:t xml:space="preserve">r</m:t>
                                          </m:r>
                                        </m:sup>
                                      </m:sSubSup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fare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</m:sub>
                                      </m:sSub>
                                    </m:e>
                                  </m:d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</m:e>
                              </m:nary>
                            </m:e>
                          </m:nary>
                        </m:e>
                        <m:e/>
                        <m:e/>
                      </m:mr>
                      <m:mr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t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:</m:t>
                          </m:r>
                        </m:e>
                        <m:e/>
                        <m:e/>
                        <m:e/>
                      </m:mr>
                      <m:mr>
                        <m:e/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r</m:t>
                              </m:r>
                              <m:r>
                                <m:t xml:space="preserve">∈</m:t>
                              </m:r>
                              <m:r>
                                <m:t xml:space="preserve">P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p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P</m:t>
                                  </m:r>
                                </m:sub>
                                <m:sup/>
                                <m:e>
                                  <m:sSubSup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p</m:t>
                                      </m:r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</m:e>
                              </m:nary>
                            </m:e>
                          </m:nary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r</m:t>
                              </m:r>
                              <m:r>
                                <m:t xml:space="preserve">∈</m:t>
                              </m:r>
                              <m:r>
                                <m:t xml:space="preserve">P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p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P</m:t>
                                  </m:r>
                                </m:sub>
                                <m:sup/>
                                <m:e>
                                  <m:sSubSup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p</m:t>
                                      </m:r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  <m:sup>
                                      <m:r>
                                        <m:t xml:space="preserve">p</m:t>
                                      </m:r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  <m:sup>
                                      <m:r>
                                        <m:t xml:space="preserve">p</m:t>
                                      </m:r>
                                    </m:sup>
                                  </m:sSubSup>
                                </m:e>
                              </m:nary>
                            </m:e>
                          </m:nary>
                        </m:e>
                        <m:e/>
                        <m:e/>
                      </m:mr>
                      <m:mr>
                        <m:e/>
                        <m:e>
                          <m:r>
                            <m:t xml:space="preserve"> </m:t>
                          </m:r>
                          <m:r>
                            <m:t xml:space="preserve">≥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A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  <m:e>
                          <m:r>
                            <m:t xml:space="preserve">∀</m:t>
                          </m:r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L</m:t>
                          </m:r>
                        </m:e>
                        <m:e/>
                      </m:mr>
                      <m:mr>
                        <m:e/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r</m:t>
                              </m:r>
                              <m:r>
                                <m:t xml:space="preserve">∈</m:t>
                              </m:r>
                              <m:r>
                                <m:t xml:space="preserve">P</m:t>
                              </m:r>
                            </m:sub>
                            <m:sup/>
                            <m:e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  <m:sup>
                                  <m:r>
                                    <m:t xml:space="preserve">r</m:t>
                                  </m:r>
                                </m:sup>
                              </m:sSubSup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nary>
                        </m:e>
                        <m:e>
                          <m:r>
                            <m:t xml:space="preserve">∀</m:t>
                          </m:r>
                          <m:r>
                            <m:t xml:space="preserve">p</m:t>
                          </m:r>
                          <m:r>
                            <m:t xml:space="preserve">∈</m:t>
                          </m:r>
                          <m:r>
                            <m:t xml:space="preserve">P</m:t>
                          </m:r>
                        </m:e>
                        <m:e/>
                      </m:mr>
                      <m:mr>
                        <m:e/>
                        <m:e>
                          <m:sSubSup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r</m:t>
                              </m:r>
                            </m:sup>
                          </m:sSubSup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629400" y="5562720"/>
                <a:ext cx="167328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¹</m:t>
                            </m:r>
                            <m:r>
                              <m:t xml:space="preserve">p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</m:sSubSup>
                          </m:e>
                        </m:nary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4875120" y="4952880"/>
            <a:ext cx="266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hange of 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elation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4952880"/>
            <a:ext cx="3429000" cy="1600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789D-C814-4AA6-83B1-6FB1246B5D1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3268ED-883A-4AB2-8597-9847921673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Benefit of the Keypath Concep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now minimizing the objective function and most of the objective coefficients are __________.  Therefore, this will guide the decision variables to values of __________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does this help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86200" y="2743200"/>
            <a:ext cx="1447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ositive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057400" y="3733920"/>
            <a:ext cx="1904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3EB8-4732-41A8-BDCE-99B213FE796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72E26-CC57-4612-AFA9-286B9252B3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olution Procedur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11360" y="971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Both Column Generation and Row Gen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tual flow of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1- Define RMP for Iteration 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Set k =1.  Denote an initial subset of columns (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 which is to be used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2- Solve RMP for Iteration 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Solve a problem with the subset of columns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3- Generate Row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Determine if any constraints are violated and express them explicitly in the constraint matrix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4- Generate Column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Price some of the remaining columns, and add a group (A*) that have a reduced cost less than zero, i.e.,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[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|A*]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5- Test Optimalit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If no columns or rows are added, terminate.  Otherwise, k =k+1, go to Step 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F6F3-C8DB-45A2-B0E7-439465F18E0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FE970D-BCAD-4865-9A5C-E8A0BE8C7D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are a large number of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the number of itineraries in mark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st of them aren’t going to be consider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erate columns by explicit enumeration and “pricing out” of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828C-AACF-46A4-80E5-2464F0C2029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F7E133-7B59-427B-947A-64C0837E9F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mputing Reduced Cos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reduced cost of a column is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re     is the non-negative dual cost associated with flight leg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      is the non-negative dual cost associated with itinerar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187280" y="2400480"/>
                <a:ext cx="677088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ar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are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r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133720" y="3352680"/>
                <a:ext cx="380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867280" y="3962520"/>
                <a:ext cx="609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7701-8BD8-49B4-B277-45CFAF7E890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1FD1E-F979-42DD-8067-0F964554B7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olving the Pricing Problem (Column Generation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n the column generation step be accomplished by solving shortest paths on a network with “modified” arc costs, or some other polynomial time algorith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nt:  Think about fare struc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are the implications of the answer to this question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A7C3-14D7-491E-97B2-C6FD32E8B2F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316295-DE3E-4B68-A4F7-11F295B00C8E}" type="datetime1">
              <a:rPr lang="en-US"/>
              <a:t>07/30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mputational Experienc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urrent United 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umber of Markets -15,67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umber of Itineraries - 60,21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ximum number of legs in an itinerary- 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ximum number of itineraries in a market- 6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light network (# of flights)-  2,03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ing CPLEX, we solved the above problem in roughly 100 seconds, generating just over 100,000 columns and 4,100+ row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8F79-2845-400A-B76B-CC645F89F57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A7E8A5-37AD-4EE8-BB15-506A5C4FF2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pplications:  Irregular Opera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en flights are cancelled or delaye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ssenger itineraries are cancell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ssenger reassignments to alternative itineraries necessa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light schedule and fleet assignments (capacity) are know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bjective might be to minimize total delays or to minimize the maximum delay beyond schedul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are recapture rates affected by this scenario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would the passenger-mix model have to be altered for this scenario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4ACB-F23B-47BB-BC90-BD0477C68CF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6C8F3-8DA4-470B-99D6-BF894A37FB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ome Basic Defin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rk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 origin-destination airport pair, between which passengers wish to fly one-w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OS-ORD and ORD-BOS are differ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iner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specific sequence of flight legs on which a passenger travels from their ultimate origin to their ultimate destin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re Clas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fferent prices for the same travel service, usually distinguished from one another by the set of restrictions imposed by the airli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C443-66ED-41C1-849B-69DD43D5BA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BF8095-1C9A-4FED-B9B5-DC0683A188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79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tensions:  Yield Manage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 the passenger mix problem be used as a tool for yield management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are the issue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terministic vs. stochasti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quence of reque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mall demands (i.e., quality of dat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anta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hows the expected makeup of seat alloc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akes into account the probability of recapturing spilled passeng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ives ideas of itineraries that should be block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ual prices might give us ideas for contributions, or displacement co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D875-AC87-457F-8B7E-D44C8A6B1BF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52625-DB3C-4AA1-9B18-CB2864690B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tensions: Fleet Assign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be explained in the next lectures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3C80-D905-4531-A489-B6B5B042E82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2A46C-228F-4726-BD95-1FA80B881E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ome More Defin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i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ssengers that are denied booking due to capacity restri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ap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ssengers that are recaptured back to the airline after being spilled from another flight le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0297-1191-4F07-9924-7785280454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23024-E0AC-4B50-A85F-68A619F8F6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blem Descrip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 airline’s flight schedu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unconstrained demand for all itineraries over the airline’s flight schedu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ject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ximize revenues by intelligently spilling passengers that are either low fare or will most likely fly another itinerary (recaptur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quivalent to minimize the total spill co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D31B-73C4-459E-9C88-A06DDD3048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AF1397-5D14-42A1-96D8-A53D8CDCAF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"/>
          <p:cNvSpPr/>
          <p:nvPr/>
        </p:nvSpPr>
        <p:spPr>
          <a:xfrm>
            <a:off x="2489040" y="5105520"/>
            <a:ext cx="53352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13480" y="5105520"/>
            <a:ext cx="53316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46240" y="4743360"/>
            <a:ext cx="2743200" cy="438120"/>
          </a:xfrm>
          <a:custGeom>
            <a:avLst/>
            <a:gdLst/>
            <a:ahLst/>
            <a:rect l="l" t="t" r="r" b="b"/>
            <a:pathLst>
              <a:path w="1728" h="276">
                <a:moveTo>
                  <a:pt x="0" y="276"/>
                </a:moveTo>
                <a:cubicBezTo>
                  <a:pt x="146" y="230"/>
                  <a:pt x="589" y="0"/>
                  <a:pt x="877" y="0"/>
                </a:cubicBezTo>
                <a:cubicBezTo>
                  <a:pt x="1165" y="0"/>
                  <a:pt x="1551" y="219"/>
                  <a:pt x="1728" y="2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22560" y="5091120"/>
            <a:ext cx="2560680" cy="250920"/>
          </a:xfrm>
          <a:custGeom>
            <a:avLst/>
            <a:gdLst/>
            <a:ahLst/>
            <a:rect l="l" t="t" r="r" b="b"/>
            <a:pathLst>
              <a:path w="1613" h="158">
                <a:moveTo>
                  <a:pt x="0" y="105"/>
                </a:moveTo>
                <a:cubicBezTo>
                  <a:pt x="272" y="57"/>
                  <a:pt x="547" y="0"/>
                  <a:pt x="816" y="9"/>
                </a:cubicBezTo>
                <a:cubicBezTo>
                  <a:pt x="1085" y="18"/>
                  <a:pt x="1447" y="127"/>
                  <a:pt x="1613" y="15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22560" y="5415120"/>
            <a:ext cx="2573280" cy="234720"/>
          </a:xfrm>
          <a:custGeom>
            <a:avLst/>
            <a:gdLst/>
            <a:ahLst/>
            <a:rect l="l" t="t" r="r" b="b"/>
            <a:pathLst>
              <a:path w="1621" h="148">
                <a:moveTo>
                  <a:pt x="0" y="45"/>
                </a:moveTo>
                <a:cubicBezTo>
                  <a:pt x="272" y="93"/>
                  <a:pt x="546" y="148"/>
                  <a:pt x="816" y="141"/>
                </a:cubicBezTo>
                <a:cubicBezTo>
                  <a:pt x="1086" y="134"/>
                  <a:pt x="1453" y="29"/>
                  <a:pt x="1621" y="0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51160" y="436248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,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54760" y="474336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,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72040" y="5200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,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136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market, 3 itinera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constrained demand per itinera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tal demand for an itinerary when the number of seats is unlimi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2FBC-6CA2-42B2-9A3A-27B5956FCD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7FAE45-6063-400D-AFFB-8CECB59F1A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ample with Capacity Constrain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"/>
          <p:cNvSpPr/>
          <p:nvPr/>
        </p:nvSpPr>
        <p:spPr>
          <a:xfrm>
            <a:off x="4622760" y="4648320"/>
            <a:ext cx="53352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746840" y="4648320"/>
            <a:ext cx="53352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79960" y="4286160"/>
            <a:ext cx="2743200" cy="438120"/>
          </a:xfrm>
          <a:custGeom>
            <a:avLst/>
            <a:gdLst/>
            <a:ahLst/>
            <a:rect l="l" t="t" r="r" b="b"/>
            <a:pathLst>
              <a:path w="1728" h="276">
                <a:moveTo>
                  <a:pt x="0" y="276"/>
                </a:moveTo>
                <a:cubicBezTo>
                  <a:pt x="146" y="230"/>
                  <a:pt x="589" y="0"/>
                  <a:pt x="877" y="0"/>
                </a:cubicBezTo>
                <a:cubicBezTo>
                  <a:pt x="1165" y="0"/>
                  <a:pt x="1551" y="219"/>
                  <a:pt x="1728" y="2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56280" y="4633920"/>
            <a:ext cx="2560680" cy="250920"/>
          </a:xfrm>
          <a:custGeom>
            <a:avLst/>
            <a:gdLst/>
            <a:ahLst/>
            <a:rect l="l" t="t" r="r" b="b"/>
            <a:pathLst>
              <a:path w="1613" h="158">
                <a:moveTo>
                  <a:pt x="0" y="105"/>
                </a:moveTo>
                <a:cubicBezTo>
                  <a:pt x="272" y="57"/>
                  <a:pt x="547" y="0"/>
                  <a:pt x="816" y="9"/>
                </a:cubicBezTo>
                <a:cubicBezTo>
                  <a:pt x="1085" y="18"/>
                  <a:pt x="1447" y="127"/>
                  <a:pt x="1613" y="15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56280" y="4957920"/>
            <a:ext cx="2573280" cy="234720"/>
          </a:xfrm>
          <a:custGeom>
            <a:avLst/>
            <a:gdLst/>
            <a:ahLst/>
            <a:rect l="l" t="t" r="r" b="b"/>
            <a:pathLst>
              <a:path w="1621" h="148">
                <a:moveTo>
                  <a:pt x="0" y="45"/>
                </a:moveTo>
                <a:cubicBezTo>
                  <a:pt x="272" y="93"/>
                  <a:pt x="546" y="148"/>
                  <a:pt x="816" y="141"/>
                </a:cubicBezTo>
                <a:cubicBezTo>
                  <a:pt x="1086" y="134"/>
                  <a:pt x="1453" y="29"/>
                  <a:pt x="1621" y="0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54520" y="38862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,100,1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4160" y="464832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,200,1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40840" y="525780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,100,1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market, 3 itinera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pacity on itinerary I = 15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pacity on itinerary J = 17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pacity on itinerary K = 13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timal solu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ill _____ from 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ill _____ from 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ill _____ from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590920" y="4114800"/>
            <a:ext cx="1616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90920" y="5029200"/>
            <a:ext cx="1616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209680" y="4572000"/>
            <a:ext cx="3142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5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0ED6-0D65-449A-98B2-96E8BD7162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E925B3-335E-44E3-9139-4DC59C92B4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13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venue Management:  A Quick Loo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486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e flight le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light 105, LGA-ORD, 287 seats availab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o fare class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: High fare, no restric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: Low fare, many restric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mand for Flight 10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 class: 95 with an average fare of $40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 class:  225 with an average fare of $10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ptimal Spill Solution (     Y and      M passenger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venue:  $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pill:  $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419720" y="4876920"/>
            <a:ext cx="1616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486400" y="4876920"/>
            <a:ext cx="3142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33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048120" y="5334120"/>
            <a:ext cx="21333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95*400 + 192*100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666880" y="5867280"/>
            <a:ext cx="9144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33*100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A6E1-01A0-4893-BE99-C7C18AE9E8A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18F90A-7A9D-49ED-87F9-8032DE4B14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etwork Revenue Manage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o Fligh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light 105, LGA-ORD, 287 sea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light 201, ORD-SFO, 287 sea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mand (one fare clas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GA-ORD, 225 passengers $10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D-SFO, 150 passengers $15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GA-SFO, 150 passengers, $22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timal Solution:  $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GA-ORD,          passenger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D-SFO,         passeng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GA-SFO,         passeng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114800" y="4400640"/>
            <a:ext cx="28195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50*100+150*150+137*225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48120" y="4705200"/>
            <a:ext cx="5331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50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971800" y="5162400"/>
            <a:ext cx="5335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50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971800" y="5619600"/>
            <a:ext cx="5335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37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2868-E053-40E6-9398-99507EE766D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6692D-0998-4060-836D-5CD6ED0CC6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03:11:32Z</dcterms:created>
  <dc:creator>Andrew P. Armacost</dc:creator>
  <dc:description/>
  <dc:language>en-US</dc:language>
  <cp:lastModifiedBy>CEE</cp:lastModifiedBy>
  <cp:lastPrinted>2000-05-28T17:01:40Z</cp:lastPrinted>
  <dcterms:modified xsi:type="dcterms:W3CDTF">2004-01-15T22:54:55Z</dcterms:modified>
  <cp:revision>413</cp:revision>
  <dc:subject/>
  <dc:title>Thesis Proposal Meeting</dc:title>
</cp:coreProperties>
</file>