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5880" y="685440"/>
            <a:ext cx="457020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1479543-9337-4224-B427-037CCA7CAA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DAD28A8-4E4E-4964-8DE0-74F687D429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body"/>
          </p:nvPr>
        </p:nvSpPr>
        <p:spPr>
          <a:xfrm>
            <a:off x="909720" y="4343040"/>
            <a:ext cx="502920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328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3414194-12CF-4D5A-BE59-AD7B37C8BB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3280" cy="34160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7BC4498-DD71-4003-B74F-8BD142432A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3280" cy="34160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06480" y="4341600"/>
            <a:ext cx="503064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EFFE852-FC48-47C9-AB68-15A854E354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3280" cy="341604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06480" y="4341600"/>
            <a:ext cx="503064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187C-EA75-41CF-86CB-4AD51DF2C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C352-19B4-4E36-86D0-9F075E04C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FD15-7843-4045-96A4-0FE558AF8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D9AD-C9C4-4A8F-8D3D-F7B6493C0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6E85-7B10-4226-94EF-EE8077558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CB04-F86F-4724-8378-931319DBF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87D5-5AB9-474D-BB9B-62D3AED8F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04E3-8617-412D-8EE4-A6F0449D7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8D4F-3C99-479A-808B-CC29A0FF9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E323-DDD0-4880-ADA4-8D77F38B4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2DD3-C3D4-4A5D-AD77-0BB8C0700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B3D3-FF20-4E92-84D5-D29C7697E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074600" indent="-226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414440" indent="-22608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1753560" indent="-22608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1753560" indent="-22608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1753560" indent="-22608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591240"/>
            <a:ext cx="205740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6F579-677D-458F-91E9-68782AB338B0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01920" y="6590880"/>
            <a:ext cx="2895840" cy="2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360" y="6590880"/>
            <a:ext cx="1904760" cy="2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B3AED-52F7-410A-912D-8FE1B68532F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3701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4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3048120"/>
          </a:xfrm>
          <a:prstGeom prst="rect">
            <a:avLst/>
          </a:prstGeom>
          <a:solidFill>
            <a:srgbClr val="0066ff"/>
          </a:solidFill>
          <a:ln w="1260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.206J/16.77J/ESD.215J</a:t>
            </a: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  </a:t>
            </a:r>
            <a:br>
              <a:rPr sz="5400"/>
            </a:b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Airline Schedule Planning</a:t>
            </a: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0" y="2362320"/>
            <a:ext cx="9144000" cy="44956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ynthia Barnhar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Spring 2003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Modified Cost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077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9000"/>
          </a:bodyPr>
          <a:p>
            <a:pPr marL="202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Definition: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 Reduced cost for path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 r,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ommodity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 k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02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= 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1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1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i="1" lang="en-US" sz="2800" spc="-1" strike="noStrike" baseline="-25000">
                <a:solidFill>
                  <a:srgbClr val="ffffff"/>
                </a:solidFill>
                <a:latin typeface="Garamond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1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1" i="1" lang="en-US" sz="2800" spc="-1" strike="noStrike" baseline="30000">
                <a:solidFill>
                  <a:srgbClr val="ffffff"/>
                </a:solidFill>
                <a:latin typeface="Garamond"/>
              </a:rPr>
              <a:t>k 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d</a:t>
            </a:r>
            <a:r>
              <a:rPr b="1" i="1" lang="en-US" sz="36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1" i="1" lang="en-US" sz="36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1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1" i="1" lang="en-US" sz="2800" spc="-1" strike="noStrike" baseline="30000">
                <a:solidFill>
                  <a:srgbClr val="ffffff"/>
                </a:solidFill>
                <a:latin typeface="Garamond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-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1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1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i="1" lang="en-US" sz="2800" spc="-1" strike="noStrike" baseline="-25000">
                <a:solidFill>
                  <a:srgbClr val="ffffff"/>
                </a:solidFill>
                <a:latin typeface="Garamond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1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1" i="1" lang="en-US" sz="2800" spc="-1" strike="noStrike" baseline="30000">
                <a:solidFill>
                  <a:srgbClr val="ffffff"/>
                </a:solidFill>
                <a:latin typeface="Garamond"/>
              </a:rPr>
              <a:t>k 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d</a:t>
            </a:r>
            <a:r>
              <a:rPr b="1" i="1" lang="en-US" sz="36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1" i="1" lang="en-US" sz="36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1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1" i="1" lang="en-US" sz="2800" spc="-1" strike="noStrike" baseline="30000">
                <a:solidFill>
                  <a:srgbClr val="ffffff"/>
                </a:solidFill>
                <a:latin typeface="Garamond"/>
              </a:rPr>
              <a:t>p(k)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+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1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1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i="1" lang="en-US" sz="2800" spc="-1" strike="noStrike" baseline="-25000">
                <a:solidFill>
                  <a:srgbClr val="ffffff"/>
                </a:solidFill>
                <a:latin typeface="Garamond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1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d</a:t>
            </a:r>
            <a:r>
              <a:rPr b="1" i="1" lang="en-US" sz="36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1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1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1" i="1" lang="en-US" sz="2800" spc="-1" strike="noStrike" baseline="30000">
                <a:solidFill>
                  <a:srgbClr val="ffffff"/>
                </a:solidFill>
                <a:latin typeface="Garamond"/>
              </a:rPr>
              <a:t>r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-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1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1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i="1" lang="en-US" sz="2800" spc="-1" strike="noStrike" baseline="-25000">
                <a:solidFill>
                  <a:srgbClr val="ffffff"/>
                </a:solidFill>
                <a:latin typeface="Garamond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1" i="1" lang="en-US" sz="28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d</a:t>
            </a:r>
            <a:r>
              <a:rPr b="1" i="1" lang="en-US" sz="36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1" i="1" lang="en-US" sz="36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1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1" i="1" lang="en-US" sz="2800" spc="-1" strike="noStrike" baseline="30000">
                <a:solidFill>
                  <a:srgbClr val="ffffff"/>
                </a:solidFill>
                <a:latin typeface="Garamond"/>
              </a:rPr>
              <a:t>p(k) 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+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1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02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baseline="30000">
                <a:solidFill>
                  <a:srgbClr val="ffffff"/>
                </a:solidFill>
                <a:latin typeface="Garamond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= 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1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1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i="1" lang="en-US" sz="2800" spc="-1" strike="noStrike" baseline="-25000">
                <a:solidFill>
                  <a:srgbClr val="ffffff"/>
                </a:solidFill>
                <a:latin typeface="Garamond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(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1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1" i="1" lang="en-US" sz="28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+ </a:t>
            </a:r>
            <a:r>
              <a:rPr b="1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1" i="1" lang="en-US" sz="28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1" i="1" lang="en-US" sz="2800" spc="-1" strike="noStrike" baseline="-25000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1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1" i="1" lang="en-US" sz="2800" spc="-1" strike="noStrike" baseline="30000">
                <a:solidFill>
                  <a:srgbClr val="ffffff"/>
                </a:solidFill>
                <a:latin typeface="Garamond"/>
              </a:rPr>
              <a:t>r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 –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023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1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1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i="1" lang="en-US" sz="2800" spc="-1" strike="noStrike" baseline="-25000">
                <a:solidFill>
                  <a:srgbClr val="ffffff"/>
                </a:solidFill>
                <a:latin typeface="Garamond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(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1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1" i="1" lang="en-US" sz="28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+ </a:t>
            </a:r>
            <a:r>
              <a:rPr b="1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1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1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1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1" i="1" lang="en-US" sz="2800" spc="-1" strike="noStrike" baseline="30000">
                <a:solidFill>
                  <a:srgbClr val="ffffff"/>
                </a:solidFill>
                <a:latin typeface="Garamond"/>
              </a:rPr>
              <a:t>p(k)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+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1" i="1" lang="en-US" sz="2800" spc="-1" strike="noStrike" baseline="30000">
                <a:solidFill>
                  <a:srgbClr val="ffffff"/>
                </a:solidFill>
                <a:latin typeface="Garamond"/>
              </a:rPr>
              <a:t> /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d</a:t>
            </a:r>
            <a:r>
              <a:rPr b="1" i="1" lang="en-US" sz="36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1" i="1" lang="en-US" sz="36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02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02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Definition: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 Let modified cost for arc 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ij and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ommodity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 k  =  c</a:t>
            </a:r>
            <a:r>
              <a:rPr b="1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1" i="1" lang="en-US" sz="2800" spc="-1" strike="noStrike" baseline="30000">
                <a:solidFill>
                  <a:srgbClr val="ffffff"/>
                </a:solidFill>
                <a:latin typeface="Garamond"/>
              </a:rPr>
              <a:t>k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+ </a:t>
            </a:r>
            <a:r>
              <a:rPr b="1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1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02320" indent="-202320">
              <a:lnSpc>
                <a:spcPct val="9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Reduced cost is non-negative for all commodity 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k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variables if the modified cost of path 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r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equals or exceeds the modified cost of 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p(k)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ess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1" i="1" lang="en-US" sz="2800" spc="-1" strike="noStrike" baseline="30000">
                <a:solidFill>
                  <a:srgbClr val="ffffff"/>
                </a:solidFill>
                <a:latin typeface="Garamond"/>
              </a:rPr>
              <a:t>/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d</a:t>
            </a:r>
            <a:r>
              <a:rPr b="1" i="1" lang="en-US" sz="3600" spc="-1" strike="noStrike" baseline="-25000">
                <a:solidFill>
                  <a:srgbClr val="ffffff"/>
                </a:solidFill>
                <a:latin typeface="Garamond"/>
              </a:rPr>
              <a:t>k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023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"/>
          <p:cNvSpPr/>
          <p:nvPr/>
        </p:nvSpPr>
        <p:spPr>
          <a:xfrm>
            <a:off x="4932720" y="10539360"/>
            <a:ext cx="110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dcr10"/>
              </a:rPr>
              <a:t>1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668480" y="10395000"/>
            <a:ext cx="110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dcr10"/>
              </a:rPr>
              <a:t>1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F6C3-52A1-4985-847E-BD6D2E0818A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8C0067-0F47-4332-B0AA-EAD0E2BE5450}" type="datetime1">
              <a:rPr lang="en-US"/>
              <a:t>07/30/26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olumn Generation- A Price Directive Decomposi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"/>
          <p:cNvSpPr/>
          <p:nvPr/>
        </p:nvSpPr>
        <p:spPr>
          <a:xfrm>
            <a:off x="1177920" y="2590920"/>
            <a:ext cx="1549440" cy="2842920"/>
          </a:xfrm>
          <a:prstGeom prst="rect">
            <a:avLst/>
          </a:prstGeom>
          <a:solidFill>
            <a:srgbClr val="cc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649600" y="2590920"/>
            <a:ext cx="2109600" cy="2842920"/>
          </a:xfrm>
          <a:prstGeom prst="rect">
            <a:avLst/>
          </a:prstGeom>
          <a:solidFill>
            <a:srgbClr val="00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495680" y="2590920"/>
            <a:ext cx="4124520" cy="2842920"/>
          </a:xfrm>
          <a:prstGeom prst="rect">
            <a:avLst/>
          </a:prstGeom>
          <a:solidFill>
            <a:srgbClr val="ffcc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6140000">
            <a:off x="-765360" y="3659400"/>
            <a:ext cx="2900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Constrai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7920" y="1905120"/>
            <a:ext cx="4503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Millions/Billions of Variab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968360" y="4292640"/>
            <a:ext cx="2447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Book Antiqua"/>
              </a:rPr>
              <a:t>Never Consider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rot="16080000">
            <a:off x="1551960" y="4603320"/>
            <a:ext cx="810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Star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rot="16140000">
            <a:off x="3225240" y="4622400"/>
            <a:ext cx="9921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Add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676520" y="3124080"/>
            <a:ext cx="243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stricted Master Problem (RM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9DF3-CD1D-4EE3-AAA4-79B0E48A1722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49DC3F-0F73-4343-A0BC-2E65C549F1AB}" type="datetime1">
              <a:rPr lang="en-US"/>
              <a:t>07/30/26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LP Solution:  Column Genera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2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ep 1:  Solve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Restricted Master Problem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RMP) with subset of all variables (columns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ep 2:  Solve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ricing Problem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o determine if any variables when added to the RMP can improve the objective function value (that is, if any variables have negative reduced cost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ep 3:  If variables are identified in Step 2, add them to the RMP and return to Step 1; otherwise STOP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687F-265E-4B9C-AD1A-962CFCEE75C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A9CBA2-F98B-45B7-BD83-32DC9ABF4E3A}" type="datetime1">
              <a:rPr lang="en-US"/>
              <a:t>07/30/26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Pricing Problem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61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Given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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nd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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optimal (non-negative) duals for the current restricted master problem and the keypath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(k)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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pricing problem, for each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K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i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in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 baseline="-16000">
                <a:solidFill>
                  <a:srgbClr val="ffffff"/>
                </a:solidFill>
                <a:latin typeface="Garamond"/>
              </a:rPr>
              <a:t>r</a:t>
            </a:r>
            <a:r>
              <a:rPr b="0" i="1" lang="en-US" sz="2800" spc="-1" strike="noStrike" baseline="-16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16000">
                <a:solidFill>
                  <a:srgbClr val="ffffff"/>
                </a:solidFill>
                <a:latin typeface="Garamond"/>
              </a:rPr>
              <a:t> P</a:t>
            </a:r>
            <a:r>
              <a:rPr b="0" i="1" lang="en-US" sz="2800" spc="-1" strike="noStrike" baseline="-4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d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(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+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r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 –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(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+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p(k) 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+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 /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d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r, letting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C =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(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+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p(k)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-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k /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d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quivalently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in </a:t>
            </a:r>
            <a:r>
              <a:rPr b="0" i="1" lang="en-US" sz="2800" spc="-1" strike="noStrike" baseline="-16000">
                <a:solidFill>
                  <a:srgbClr val="ffffff"/>
                </a:solidFill>
                <a:latin typeface="Garamond"/>
              </a:rPr>
              <a:t>r</a:t>
            </a:r>
            <a:r>
              <a:rPr b="0" i="1" lang="en-US" sz="2800" spc="-1" strike="noStrike" baseline="-16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16000">
                <a:solidFill>
                  <a:srgbClr val="ffffff"/>
                </a:solidFill>
                <a:latin typeface="Garamond"/>
              </a:rPr>
              <a:t> P</a:t>
            </a:r>
            <a:r>
              <a:rPr b="0" i="1" lang="en-US" sz="2800" spc="-1" strike="noStrike" baseline="-4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+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r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-  C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 shortest path problem for commodity k (with modified arc costs).  If min </a:t>
            </a:r>
            <a:r>
              <a:rPr b="0" i="1" lang="en-US" sz="2800" spc="-1" strike="noStrike" baseline="-16000">
                <a:solidFill>
                  <a:srgbClr val="ffffff"/>
                </a:solidFill>
                <a:latin typeface="Garamond"/>
              </a:rPr>
              <a:t>r</a:t>
            </a:r>
            <a:r>
              <a:rPr b="0" i="1" lang="en-US" sz="2800" spc="-1" strike="noStrike" baseline="-16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16000">
                <a:solidFill>
                  <a:srgbClr val="ffffff"/>
                </a:solidFill>
                <a:latin typeface="Garamond"/>
              </a:rPr>
              <a:t> P</a:t>
            </a:r>
            <a:r>
              <a:rPr b="0" i="1" lang="en-US" sz="2800" spc="-1" strike="noStrike" baseline="-4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(c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+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r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-  C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0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, then the original problem is solved, else add column corresponding to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(k)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r</a:t>
            </a:r>
            <a:r>
              <a:rPr b="0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o the master proble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6757-7AE3-4CB3-B9EC-93732D276A5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E3C026-CDB4-4DC5-879A-F8C2C8B8137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17080" y="0"/>
            <a:ext cx="708660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Example- Iteration 1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0" y="1828800"/>
          <a:ext cx="13106520" cy="571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828800"/>
                    <a:ext cx="1310652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0" y="1066680"/>
            <a:ext cx="883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et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(1)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= 2;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(2)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= 4;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(3)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= 7;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(4)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= 8 (** denotes keypath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520" y="5486400"/>
            <a:ext cx="7738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OTE:  Gray columns not included in keypath formulation; purple elements are initial keypath matri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F9ED-CCB8-47E9-B4FE-8F3A229F23AA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6FC179-704B-4C39-8565-551CE207D325}" type="datetime1">
              <a:rPr lang="en-US"/>
              <a:t>07/30/26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17080" y="0"/>
            <a:ext cx="708660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Example- Iteration 2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0" y="1752480"/>
          <a:ext cx="13106520" cy="571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1310652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>
            <a:off x="533520" y="5105520"/>
            <a:ext cx="7738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2800" spc="-1" strike="noStrike" baseline="30000">
                <a:solidFill>
                  <a:srgbClr val="ffffff"/>
                </a:solidFill>
                <a:latin typeface="Garamond"/>
              </a:rPr>
              <a:t>nd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iteration:  no columns price out, one constraint for commodity 3 is violated and added; and the problem is resolved– feasibility and optimality achiev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1066680"/>
            <a:ext cx="883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et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(1)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= 2;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(2)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= 4;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(3)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= 7;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(4)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= 8 (** denotes keypath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F398-51ED-4FA9-ACF5-3922E0017EA6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81B5FC-8B95-4D45-A67A-2E764B683A4A}" type="datetime1">
              <a:rPr lang="en-US"/>
              <a:t>07/30/26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olumn Genera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209680" y="1219320"/>
            <a:ext cx="4303800" cy="50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9F71-009F-458B-974C-6733F6A806C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05B32E-5CA1-449D-A317-4D3FEC65143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Row Genera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743200" y="1447920"/>
            <a:ext cx="4238640" cy="493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7A49-E739-472D-8A3E-60BA56DDA0BC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799CB6-E15D-4CD3-95BC-62E7D4875C1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2666880" cy="6095880"/>
          </a:xfrm>
          <a:prstGeom prst="rect">
            <a:avLst/>
          </a:prstGeom>
          <a:solidFill>
            <a:srgbClr val="0033cc"/>
          </a:solidFill>
          <a:ln w="9360">
            <a:solidFill>
              <a:srgbClr val="0033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olumn and Row Genera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754360" y="228600"/>
            <a:ext cx="6138720" cy="6324480"/>
          </a:xfrm>
          <a:prstGeom prst="rect">
            <a:avLst/>
          </a:prstGeom>
          <a:ln w="9360">
            <a:solidFill>
              <a:srgbClr val="0033cc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8E42-5E3F-4B0A-8655-C8BDA92E3FDE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3EF7DC-8D96-47E0-88EE-59611117B12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olumn and Row Generation:  Constraint Matrix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828800" y="1676520"/>
            <a:ext cx="5943600" cy="4700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C2A3-6BC4-4996-B661-3DDD7CB69AA2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A3067D-A8CC-493D-83E2-D19EBFFF218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.206J/16.77J/ESD.215J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   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Multi-commodity Network Flows:  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A Keypath Formulation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212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utlin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th formulation for multi-commodity flow problems revisit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Keypath form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xamp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Keypath solution algorith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074600" indent="-226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lumn gener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74600" indent="-226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ow gener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573A-5431-4906-8671-40289F9345C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03D3EF-171C-42A2-81AD-C8EDADB9CC9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The Benefit of the Keypath Concep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e are now minimizing the objective function and most of the objective coefficients are __________.  Therefore, this will guide the decision variables to values of __________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ow does this help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886200" y="2743200"/>
            <a:ext cx="144792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positive</a:t>
            </a:r>
            <a:endParaRPr b="0" lang="en-US" sz="2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2057400" y="3733920"/>
            <a:ext cx="19044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0</a:t>
            </a:r>
            <a:endParaRPr b="0" lang="en-US" sz="2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B3A5-70B9-40C9-A6FE-744155EF5F64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F40CB0-1411-4E72-BBEE-D8176E7355A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11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Solution Procedur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11360" y="971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se Both Column Generation and Row Gener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ctual flow of proble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Step 1- Define RMP for Iteration 1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: Set k =1.  Denote an initial subset of columns (A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) which is to be used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Step 2- Solve RMP for Iteration k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: Solve a problem with the subset of columns A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Step 3- Generate Rows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: Determine if any constraints are violated and express them explicitly in the constraint matrix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Step 4- Generate Columns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: Price some of the remaining columns, and add a group (A*) that have a reduced cost less than zero, i.e., A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Garamond"/>
              </a:rPr>
              <a:t>k+1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=[A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Garamond"/>
              </a:rPr>
              <a:t>k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|A*]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Step 5- Test Optimality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: If no columns or rows are added, terminate.  Otherwise, k =k+1, go to Step 2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2FC4-88ED-4FA2-8F55-9988254BCEBF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374589-D40A-45F4-AA1E-617A1B1FEF8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onclusions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ariable redefinition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llows relaxation of constraints and subsequent (limited) cut gener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oes not alter the pricing problem solu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09440" indent="-212400"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hortest paths with modified cos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llows problems with many commodities, as well as a large underlying network, to be solved with limited memory requiremen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DC2F-480C-464D-A0E9-46A41A455FB0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8A7EC9-7D9A-45EB-A576-5CA5DFDC799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Path Nota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Se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: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et of all network arc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K: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et of all commoditi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N:  set of all network nod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aramete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u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:  total capacity on arc ij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:  total quantity of commodity k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0" lang="en-US" sz="24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:  set of all paths for commodity k, for all k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00240" y="14479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Parameters (cont.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:  per unit cost of commodity k on path p =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c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lang="en-US" sz="24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lang="en-US" sz="2400" spc="-1" strike="noStrike" baseline="30000">
                <a:solidFill>
                  <a:srgbClr val="ffffff"/>
                </a:solidFill>
                <a:latin typeface="Garamond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 :  = 1 if path p contains arc ij; and = 0 otherwis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Decision Variabl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:  fraction of total quantity of commodity k assigned to path p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F7E9-103C-410B-9294-5D368B06DA09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0204D1-14EB-4D06-8C53-9FFCFEC0BB9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086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The Path Formulation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Revisited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026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MINIMIZE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k 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600" spc="-1" strike="noStrike" baseline="-4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Garamond"/>
              </a:rPr>
              <a:t>subject to:</a:t>
            </a:r>
            <a:r>
              <a:rPr b="1" i="1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600" spc="-1" strike="noStrike" baseline="-4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k 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d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Garamond"/>
              </a:rPr>
              <a:t>p 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 u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ij   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 ij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 f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= 1  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 k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 0 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 p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,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 k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.224J/ESD.204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821F-5D9F-4A59-BCF6-8FAF1A8BBD4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A9B987-C500-4D65-A9F9-391A7EC0884A}" type="datetime5">
              <a:rPr lang="en-US"/>
              <a:t>Jul 30, 2026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The Keypath Concep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path formulation for MCF problems can be recast equivalently as follow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564480" indent="-217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ssign all flow of commodity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k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o a selected path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,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alled the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keypath,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or each commodity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825120" indent="-173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ften the keypath is the minimum cost path for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k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825120" indent="-173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e resulting flow assignment is often infeasible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085760" indent="-17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One or more arc capacity constraints are violated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825120" indent="-173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f the resulting flows are feasible and the keypaths are minimum cost, the flow assignment is optima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564480" indent="-217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olve a linear programming formulation to minimize the cost of adjusting flows to achieve feasibilit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825120" indent="-173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low adjustments involve removing flow of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k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rom its keypath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and placing it on alternative path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p’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or each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K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D660-407D-4D71-9E4B-F1A2CE6FAF8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42B288-4D18-4CD3-851F-7FECC5DEFBA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Additional Keypath Nota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aramete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(k)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 :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keypath for commodity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67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Q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: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total initial (flow assigned to keypaths) on arc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ij =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k 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d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p(k)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r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(k)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 :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=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r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–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p(k)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=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r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-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j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p(k)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; change in cost when one unit of commodity k is shifted from keypath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p(k)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to path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r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(Note: typically non-negative if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p(k)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has minimum cost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67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ecision Variabl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r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(k)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:  fraction of total quantity of commodity k removed from keypath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p(k)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 to path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DB42-C60A-4526-8DDA-152BC565C4B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43A239-CCFD-4CEA-8453-CA9C2C34640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The Keypath Formula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0" y="1790640"/>
                <a:ext cx="9144000" cy="408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Min</m:t>
                          </m:r>
                        </m:e>
                        <m:e>
                          <m:nary>
                            <m:naryPr>
                              <m:chr m:val="∑"/>
                              <m:supHide m:val="1"/>
                            </m:naryPr>
                            <m:sub>
                              <m:r>
                                <m:t xml:space="preserve">k</m:t>
                              </m:r>
                              <m:r>
                                <m:t xml:space="preserve">∈</m:t>
                              </m:r>
                              <m:r>
                                <m:t xml:space="preserve">K</m:t>
                              </m:r>
                            </m:sub>
                            <m:sup/>
                            <m:e>
                              <m:r>
                                <m:t xml:space="preserve"> </m:t>
                              </m:r>
                              <m:nary>
                                <m:naryPr>
                                  <m:chr m:val="∑"/>
                                  <m:supHide m:val="1"/>
                                </m:naryPr>
                                <m:sub>
                                  <m:r>
                                    <m:t xml:space="preserve">r</m:t>
                                  </m:r>
                                  <m:r>
                                    <m:t xml:space="preserve">∈</m:t>
                                  </m:r>
                                  <m:sSup>
                                    <m:e>
                                      <m:r>
                                        <m:t xml:space="preserve">P</m:t>
                                      </m:r>
                                    </m:e>
                                    <m:sup>
                                      <m:r>
                                        <m:t xml:space="preserve">k</m:t>
                                      </m:r>
                                    </m:sup>
                                  </m:sSup>
                                </m:sub>
                                <m:sup/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c</m:t>
                                          </m:r>
                                        </m:e>
                                        <m:sub>
                                          <m:sSup>
                                            <m:e>
                                              <m:r>
                                                <m:t xml:space="preserve">p</m:t>
                                              </m:r>
                                              <m:r>
                                                <m:t xml:space="preserve">(</m:t>
                                              </m:r>
                                              <m:r>
                                                <m:t xml:space="preserve">k</m:t>
                                              </m:r>
                                              <m:r>
                                                <m:t xml:space="preserve">)</m:t>
                                              </m:r>
                                            </m:e>
                                            <m:sup>
                                              <m:r>
                                                <m:t xml:space="preserve">r</m:t>
                                              </m:r>
                                            </m:sup>
                                          </m:sSup>
                                        </m:sub>
                                      </m:sSub>
                                    </m:e>
                                  </m:d>
                                  <m:sSub>
                                    <m:e>
                                      <m:r>
                                        <m:t xml:space="preserve">d</m:t>
                                      </m:r>
                                    </m:e>
                                    <m:sub>
                                      <m:r>
                                        <m:t xml:space="preserve">k</m:t>
                                      </m:r>
                                    </m:sub>
                                  </m:sSub>
                                  <m:sSubSup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p</m:t>
                                      </m:r>
                                      <m:r>
                                        <m:t xml:space="preserve">(</m:t>
                                      </m:r>
                                      <m:r>
                                        <m:t xml:space="preserve">k</m:t>
                                      </m:r>
                                      <m:r>
                                        <m:t xml:space="preserve">)</m:t>
                                      </m:r>
                                    </m:sub>
                                    <m:sup>
                                      <m:r>
                                        <m:t xml:space="preserve">r</m:t>
                                      </m:r>
                                    </m:sup>
                                  </m:sSubSup>
                                </m:e>
                              </m:nary>
                            </m:e>
                          </m:nary>
                        </m:e>
                        <m:e/>
                        <m:e/>
                      </m:mr>
                      <m:mr>
                        <m:e>
                          <m:r>
                            <m:t xml:space="preserve">s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t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:</m:t>
                          </m:r>
                        </m:e>
                        <m:e/>
                        <m:e/>
                        <m:e/>
                      </m:mr>
                      <m:mr>
                        <m:e/>
                        <m:e>
                          <m:r>
                            <m:t xml:space="preserve">−</m:t>
                          </m:r>
                          <m:nary>
                            <m:naryPr>
                              <m:chr m:val="∑"/>
                              <m:supHide m:val="1"/>
                            </m:naryPr>
                            <m:sub>
                              <m:r>
                                <m:t xml:space="preserve">k</m:t>
                              </m:r>
                              <m:r>
                                <m:t xml:space="preserve">∈</m:t>
                              </m:r>
                              <m:r>
                                <m:t xml:space="preserve">K</m:t>
                              </m:r>
                            </m:sub>
                            <m:sup/>
                            <m:e>
                              <m:r>
                                <m:t xml:space="preserve"> </m:t>
                              </m:r>
                              <m:nary>
                                <m:naryPr>
                                  <m:chr m:val="∑"/>
                                  <m:supHide m:val="1"/>
                                </m:naryPr>
                                <m:sub>
                                  <m:r>
                                    <m:t xml:space="preserve">r</m:t>
                                  </m:r>
                                  <m:r>
                                    <m:t xml:space="preserve">∈</m:t>
                                  </m:r>
                                  <m:sSup>
                                    <m:e>
                                      <m:r>
                                        <m:t xml:space="preserve">P</m:t>
                                      </m:r>
                                    </m:e>
                                    <m:sup>
                                      <m:r>
                                        <m:t xml:space="preserve">k</m:t>
                                      </m:r>
                                    </m:sup>
                                  </m:sSup>
                                </m:sub>
                                <m:sup/>
                                <m:e>
                                  <m:sSubSup>
                                    <m:e>
                                      <m:r>
                                        <m:t xml:space="preserve">δ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ij</m:t>
                                      </m:r>
                                    </m:sub>
                                    <m:sup>
                                      <m:r>
                                        <m:t xml:space="preserve">p</m:t>
                                      </m:r>
                                      <m:r>
                                        <m:t xml:space="preserve">(</m:t>
                                      </m:r>
                                      <m:r>
                                        <m:t xml:space="preserve">k</m:t>
                                      </m:r>
                                      <m:r>
                                        <m:t xml:space="preserve">)</m:t>
                                      </m:r>
                                    </m:sup>
                                  </m:sSubSup>
                                  <m:sSub>
                                    <m:e>
                                      <m:r>
                                        <m:t xml:space="preserve">d</m:t>
                                      </m:r>
                                    </m:e>
                                    <m:sub>
                                      <m:r>
                                        <m:t xml:space="preserve">k</m:t>
                                      </m:r>
                                    </m:sub>
                                  </m:sSub>
                                  <m:sSubSup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p</m:t>
                                      </m:r>
                                      <m:r>
                                        <m:t xml:space="preserve">(</m:t>
                                      </m:r>
                                      <m:r>
                                        <m:t xml:space="preserve">k</m:t>
                                      </m:r>
                                      <m:r>
                                        <m:t xml:space="preserve">)</m:t>
                                      </m:r>
                                    </m:sub>
                                    <m:sup>
                                      <m:r>
                                        <m:t xml:space="preserve">r</m:t>
                                      </m:r>
                                    </m:sup>
                                  </m:sSubSup>
                                  <m:r>
                                    <m:t xml:space="preserve">+</m:t>
                                  </m:r>
                                </m:e>
                              </m:nary>
                            </m:e>
                          </m:nary>
                          <m:nary>
                            <m:naryPr>
                              <m:chr m:val="∑"/>
                              <m:supHide m:val="1"/>
                            </m:naryPr>
                            <m:sub>
                              <m:r>
                                <m:t xml:space="preserve">k</m:t>
                              </m:r>
                              <m:r>
                                <m:t xml:space="preserve">∈</m:t>
                              </m:r>
                              <m:r>
                                <m:t xml:space="preserve">K</m:t>
                              </m:r>
                            </m:sub>
                            <m:sup/>
                            <m:e>
                              <m:r>
                                <m:t xml:space="preserve"> </m:t>
                              </m:r>
                              <m:nary>
                                <m:naryPr>
                                  <m:chr m:val="∑"/>
                                  <m:supHide m:val="1"/>
                                </m:naryPr>
                                <m:sub>
                                  <m:r>
                                    <m:t xml:space="preserve">r</m:t>
                                  </m:r>
                                  <m:r>
                                    <m:t xml:space="preserve">∈</m:t>
                                  </m:r>
                                  <m:sSup>
                                    <m:e>
                                      <m:r>
                                        <m:t xml:space="preserve">P</m:t>
                                      </m:r>
                                    </m:e>
                                    <m:sup>
                                      <m:r>
                                        <m:t xml:space="preserve">k</m:t>
                                      </m:r>
                                    </m:sup>
                                  </m:sSup>
                                </m:sub>
                                <m:sup/>
                                <m:e>
                                  <m:sSubSup>
                                    <m:e>
                                      <m:r>
                                        <m:t xml:space="preserve">δ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ij</m:t>
                                      </m:r>
                                    </m:sub>
                                    <m:sup>
                                      <m:r>
                                        <m:t xml:space="preserve">r</m:t>
                                      </m:r>
                                    </m:sup>
                                  </m:sSubSup>
                                  <m:sSub>
                                    <m:e>
                                      <m:r>
                                        <m:t xml:space="preserve">d</m:t>
                                      </m:r>
                                    </m:e>
                                    <m:sub>
                                      <m:r>
                                        <m:t xml:space="preserve">k</m:t>
                                      </m:r>
                                    </m:sub>
                                  </m:sSub>
                                  <m:sSubSup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p</m:t>
                                      </m:r>
                                      <m:r>
                                        <m:t xml:space="preserve">(</m:t>
                                      </m:r>
                                      <m:r>
                                        <m:t xml:space="preserve">k</m:t>
                                      </m:r>
                                      <m:r>
                                        <m:t xml:space="preserve">)</m:t>
                                      </m:r>
                                    </m:sub>
                                    <m:sup>
                                      <m:r>
                                        <m:t xml:space="preserve">r</m:t>
                                      </m:r>
                                    </m:sup>
                                  </m:sSubSup>
                                </m:e>
                              </m:nary>
                            </m:e>
                          </m:nary>
                        </m:e>
                        <m:e/>
                        <m:e/>
                      </m:mr>
                      <m:mr>
                        <m:e/>
                        <m:e>
                          <m:r>
                            <m:t xml:space="preserve"> </m:t>
                          </m:r>
                          <m:r>
                            <m:t xml:space="preserve">≤</m:t>
                          </m:r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ij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ij</m:t>
                              </m:r>
                            </m:sub>
                          </m:sSub>
                        </m:e>
                        <m:e>
                          <m:r>
                            <m:t xml:space="preserve">∀</m:t>
                          </m:r>
                          <m:r>
                            <m:rPr>
                              <m:lit/>
                              <m:nor/>
                            </m:rPr>
                            <m:t xml:space="preserve">ij</m:t>
                          </m:r>
                          <m:r>
                            <m:t xml:space="preserve">∈</m:t>
                          </m:r>
                          <m:r>
                            <m:t xml:space="preserve">A</m:t>
                          </m:r>
                        </m:e>
                        <m:e/>
                      </m:mr>
                      <m:mr>
                        <m:e/>
                        <m:e>
                          <m:nary>
                            <m:naryPr>
                              <m:chr m:val="∑"/>
                              <m:supHide m:val="1"/>
                            </m:naryPr>
                            <m:sub>
                              <m:r>
                                <m:t xml:space="preserve">r</m:t>
                              </m:r>
                              <m:r>
                                <m:t xml:space="preserve">∈</m:t>
                              </m:r>
                              <m:sSup>
                                <m:e>
                                  <m:r>
                                    <m:t xml:space="preserve">P</m:t>
                                  </m:r>
                                </m:e>
                                <m:sup>
                                  <m:r>
                                    <m:t xml:space="preserve">k</m:t>
                                  </m:r>
                                </m:sup>
                              </m:sSup>
                            </m:sub>
                            <m:sup/>
                            <m:e>
                              <m:sSubSup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r>
                                    <m:t xml:space="preserve">p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k</m:t>
                                  </m:r>
                                  <m:r>
                                    <m:t xml:space="preserve">)</m:t>
                                  </m:r>
                                </m:sub>
                                <m:sup>
                                  <m:r>
                                    <m:t xml:space="preserve">r</m:t>
                                  </m:r>
                                </m:sup>
                              </m:sSubSup>
                              <m:r>
                                <m:t xml:space="preserve">1</m:t>
                              </m:r>
                            </m:e>
                          </m:nary>
                        </m:e>
                        <m:e>
                          <m:r>
                            <m:t xml:space="preserve">∀</m:t>
                          </m:r>
                          <m:r>
                            <m:t xml:space="preserve">k</m:t>
                          </m:r>
                          <m:r>
                            <m:t xml:space="preserve">∈</m:t>
                          </m:r>
                          <m:r>
                            <m:t xml:space="preserve">K</m:t>
                          </m:r>
                        </m:e>
                        <m:e/>
                      </m:mr>
                      <m:mr>
                        <m:e/>
                        <m:e>
                          <m:sSubSup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  <m:r>
                                <m:t xml:space="preserve">(</m:t>
                              </m:r>
                              <m:r>
                                <m:t xml:space="preserve">k</m:t>
                              </m:r>
                              <m:r>
                                <m:t xml:space="preserve">)</m:t>
                              </m:r>
                            </m:sub>
                            <m:sup>
                              <m:r>
                                <m:t xml:space="preserve">r</m:t>
                              </m:r>
                            </m:sup>
                          </m:sSubSup>
                          <m:r>
                            <m:t xml:space="preserve">0</m:t>
                          </m:r>
                        </m:e>
                        <m:e>
                          <m:r>
                            <m:t xml:space="preserve">∀</m:t>
                          </m:r>
                          <m:r>
                            <m:t xml:space="preserve">r</m:t>
                          </m:r>
                          <m:r>
                            <m:t xml:space="preserve">∈</m:t>
                          </m:r>
                          <m:sSup>
                            <m:e>
                              <m:r>
                                <m:t xml:space="preserve">P</m:t>
                              </m:r>
                            </m:e>
                            <m:sup>
                              <m:r>
                                <m:t xml:space="preserve">k</m:t>
                              </m:r>
                            </m:sup>
                          </m:sSup>
                        </m:e>
                        <m:e>
                          <m:r>
                            <m:t xml:space="preserve">∀</m:t>
                          </m:r>
                          <m:r>
                            <m:t xml:space="preserve">k</m:t>
                          </m:r>
                          <m:r>
                            <m:t xml:space="preserve">∈</m:t>
                          </m:r>
                          <m:r>
                            <m:t xml:space="preserve">K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C363-0E37-4EB1-809E-ADF10020C158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C984A4-7242-49DA-9B33-546CF0CA96F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Associated Dual Variable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560" y="1676520"/>
            <a:ext cx="84582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0"/>
          </a:bodyPr>
          <a:p>
            <a:pPr marL="2055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Dual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05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-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: the dual variable associated with the bundle constraint for arc ij (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is non-negative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05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-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:  the dual variable associated with the commodity constraints (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is non-negative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055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Economic Interpretatio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05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: the value of an additional unit of capacity on arc ij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05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/d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: the minimal cost to remove an additional unit of commodity 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k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from its keypath and place on another path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" name=""/>
          <p:cNvSpPr/>
          <p:nvPr/>
        </p:nvSpPr>
        <p:spPr>
          <a:xfrm>
            <a:off x="4932720" y="10539360"/>
            <a:ext cx="110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dcr10"/>
              </a:rPr>
              <a:t>1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668480" y="10395000"/>
            <a:ext cx="110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dcr10"/>
              </a:rPr>
              <a:t>1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1BF3-2F04-432A-AC4E-01B1F67D8D8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0C435A-A9EE-4B13-B5C8-E30E1E0464F7}" type="datetime1">
              <a:rPr lang="en-US"/>
              <a:t>07/30/26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Optimality Conditions for the Path Formula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90512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f*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nd 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*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*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re optimal for all k and all ij if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799"/>
              </a:spcBef>
              <a:buClr>
                <a:srgbClr val="ffffff"/>
              </a:buClr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imal feasibility is satisfi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799"/>
              </a:spcBef>
              <a:buClr>
                <a:srgbClr val="ffffff"/>
              </a:buClr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mentary slackness is satisfi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799"/>
              </a:spcBef>
              <a:buClr>
                <a:srgbClr val="ffffff"/>
              </a:buClr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ual feasibility is satisfied (reduced cost is non-negative for a minimization problem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.224J/ESD.204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BC48-58F3-4CBF-B614-EAE487C7E7A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EE8EC6-7379-493B-9AF9-F82F17535311}" type="datetime5">
              <a:rPr lang="en-US"/>
              <a:t>Jul 30, 20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4T03:11:32Z</dcterms:created>
  <dc:creator>Andrew P. Armacost</dc:creator>
  <dc:description/>
  <dc:language>en-US</dc:language>
  <cp:lastModifiedBy>CEE</cp:lastModifiedBy>
  <cp:lastPrinted>2000-05-28T17:01:40Z</cp:lastPrinted>
  <dcterms:modified xsi:type="dcterms:W3CDTF">2004-01-15T22:45:25Z</dcterms:modified>
  <cp:revision>408</cp:revision>
  <dc:subject/>
  <dc:title>Thesis Proposal Meeting</dc:title>
</cp:coreProperties>
</file>