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AA2AD5-BBAC-46CC-B949-C393C1813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71B683-7ADD-4B5B-872D-668587F49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39D825-A65D-499A-A07B-D5CA5D36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D9D6D4-6823-4B0A-B582-96DC1415A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C4846E-AA73-4201-B719-25EA4474A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BCD35D-D0B9-4CC9-92D1-5DF2F91B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74143D-06CD-40A0-B022-C53BBD3E0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1F388D-E859-47CA-8E77-EB77E2E1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F8F1D7-45A4-4961-97C3-963975B8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F4D27D-DF6D-4066-9469-015C0EFE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F524FD-F64D-4692-8538-70DCA80D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1A4FBA-8E62-45AE-AB07-4DE53B35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53FD1B-A505-4E54-9F67-6F969ED78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2FF4FC-80AB-414F-A0E8-CB7D9BA5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8D8550-A660-4304-8C08-EB19A5172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FA0CFE-DD1C-4ED1-84AA-849B0D1D8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F08ADA-5E75-4D99-9BE0-369168F4B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26C7B9-3D29-4B3F-886A-7AEF3DCB6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428-B1C0-40C4-9A4C-78C9D3DA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39E-FA81-46D6-A4ED-B56F7F73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045-BEF7-439F-ADC2-09A0AB36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B24-3E31-4DE0-A880-270DCFBC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CDC-69C4-43F2-9ED4-2FB45EF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BF7-4281-459E-9F3B-DFF2F27A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0B6-9E0D-4C62-ADED-E2BD5F6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6E9-AA50-4C2C-8AFD-C75B391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531-9DDA-4798-97C7-1164F3EF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B98-6993-4B36-B3CD-D01BCDD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963-0651-40DA-BBF4-0780E15A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580-B8D4-4E9D-94E3-EA5F33E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663-9FB3-463A-9675-9CA2E406AE3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5CF8-C35D-4075-AADD-693939305E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3E8-A0FB-4137-96CA-B9B0171CF9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203CF-FB8C-4C2F-9B3A-F124C3E725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1DB-CDB8-4A80-8E1F-BE14425FF2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74C52-F64A-4FC7-B7AB-8007A70B81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31A-E5BD-42E7-A031-B588767F22FD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0B6FB-9F0F-4462-BCA7-2F735149B4B2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2C1-C21A-4249-B882-BBF1739DDDD9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81CAE-4AC5-45C1-AB77-5B79CE648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F7C-A7D1-47F6-B44E-9C934B3CAB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E7E6B-5D94-4C30-8A98-F1E0FFBEB87C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F00-5A0A-4B39-A370-09DCB00122E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66011-FDC7-417C-B50B-A88FC1C09B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FD4-59CD-4A66-88DB-65DA2FA04F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26603-EFF1-4DD2-B0D6-EE081D364589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826-566F-469C-9FC0-E4FFBFFD8EE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0D86E-6683-4092-97CD-00B3451525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CD1-D8B4-47A2-A614-EB4DE13DBC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09A1C-49B6-4C84-B6FD-0307D03703C4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710-F7C3-4444-9B3C-29D7CF683D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2B1E7-FD71-4AED-89FE-BB85B6888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anch-and-price:  combination of branch-and-bound and column gen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EB3-774B-4C0E-95D3-DD73C2D827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894EE-5A59-4039-B2ED-E78D4499E076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D9B-248B-488A-A9F4-11402CDD56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5AC85-9640-4BF6-9F9A-60395C1E7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C15-938A-4179-A71E-56F0420570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03353-BB50-410E-B539-D58BDD478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070-3D02-4B33-93CD-8E1A97A9DD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96BF2-34C6-4FC7-8CD7-8E113EC565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D9C-1622-4FF1-A102-B3553B1F9A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06E15-C309-4CBA-BEAC-789BBCF2EBB5}" type="datetime5">
              <a:rPr lang="en-US"/>
              <a:t>Jul 30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856-759A-4A0E-99E2-4FC06B16F4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E767B-EC76-43B4-82AE-D34151D09328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467-4C7A-4BC5-971A-F2AD214023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5C17B-FB4B-49EC-B5D0-D1B043FFF239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A5F-1B4E-4AAD-A8AA-D6FFFF62D9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17B9F-00FF-4C47-B732-277694EBFE59}" type="datetime5">
              <a:rPr lang="en-US"/>
              <a:t>Jul 30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EA6-D876-4821-A92D-F7E82B3AD1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1949A-A25D-41A8-987A-F6E1CDC360AE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6EE-57A0-4741-84C9-9562151607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D568E-DC4D-4BBA-A7B9-C3C62C2E4518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E7B-1467-4B20-AEBB-18AA4ECDBC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5B01A-C8F8-4BC7-A2B9-F04B3B0FAC76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DED-74B1-418C-942B-3644F1DFDB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28CB4-475E-4585-9273-EBBA007B7F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530-9178-4452-A04B-C79B691180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118A1-3622-4CE4-B992-ACB00598984D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n-negative) an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unrestricted), the optimal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FF5-E3B8-4613-A379-BBBBF47622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9B7BD-746E-4BF0-A546-771A5FECB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5B9-CDFC-483B-B2CB-4923329F73B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9AB9E-FC49-4F1B-98DB-C832C4E3E018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304-D4D6-42C8-9916-C89CC02686D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32A1-D923-4132-8F4B-E95363E6E4BB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42E-5FFF-4492-AE51-B9887CC878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71DBC-D0BF-41E8-8FF6-CECF7B2686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CAC-29F7-4C67-BBFE-C818DD0FE7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94518-7DF7-4C36-A5A3-6FF4477A5FF8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7C0-A930-4039-8DDA-1466BC80D8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2C0E8-1ED7-4747-BDD6-905EC1B65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Computational Experi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st effect of adding most negative reduced cost column for each commodity vs. adding several negative reduced cost column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A11-763A-47CD-8554-A29CA9611B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8817-0C49-454D-9637-6E5C0D287472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Several Columns Per Commodit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basic column (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reduced cost = 0) for some pa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ll it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ple paths representing symmetric difference between most negative reduced co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C2C-406F-45E7-A87A-8C739475E6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E18B1-9F49-442E-80A4-487E88D49705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3474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996840" y="1911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7040" y="20638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7080" y="2139840"/>
            <a:ext cx="29196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11840" y="21398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05740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220968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05520" y="22860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486080"/>
            <a:ext cx="1347840" cy="57276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1752480"/>
            <a:ext cx="172872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96800" y="2424240"/>
            <a:ext cx="101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y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86680" y="1357200"/>
            <a:ext cx="623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1-  most negative reduced cost path f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6840" y="40449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4197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07080" y="42735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11840" y="42735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34340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197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3619440"/>
            <a:ext cx="1347840" cy="57312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3160" y="54928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73360" y="56451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83040" y="57214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8160" y="57214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638680"/>
            <a:ext cx="12952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5791320"/>
            <a:ext cx="1905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5334120"/>
            <a:ext cx="172908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800" y="2881440"/>
            <a:ext cx="207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d to L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802-43F4-4366-B3E4-B4CE86F1061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448D4-ACED-4B29-BED3-9130808A0788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84D-BCCB-4FA6-A47F-9F4629849F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1E362-89F7-48BB-8DC4-5DDAA38A9F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28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Path per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865160" y="1371600"/>
          <a:ext cx="5416560" cy="41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371600"/>
                    <a:ext cx="54165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936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407-FCFF-4680-BD8A-AE48EA771FA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0A1D3-84D4-401A-A4E9-2D339DC5786E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188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l Simple Path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44720" y="1374840"/>
          <a:ext cx="585612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374840"/>
                    <a:ext cx="58561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73340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5CB-344E-46E0-B549-689EE68171B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BEC6C-4F0B-458C-A86D-603A89B2253E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-Commodity Network Flow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ider the modified multi-commodity network flow proble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tegral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riction that each commodity must be assigned to exactly one p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(0.1)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procedure:   branch-and-bound, specialized to handle large-scale probl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C89-4D48-4CA4-944C-BC8CEC8CD5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EE861-7832-4BF0-A805-22ADC397E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commodity Flows:  Proble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(0,1)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808-305B-4EDD-9CF5-40F41C1492B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985CA-E733-4D3F-B526-F3523E5D5C28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4419720"/>
          <a:ext cx="7772400" cy="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772400" cy="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 flipH="1">
            <a:off x="3960360" y="2597040"/>
            <a:ext cx="870120" cy="40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1760" y="2597040"/>
            <a:ext cx="95868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49360" y="3006720"/>
            <a:ext cx="726840" cy="51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6960" y="3030480"/>
            <a:ext cx="450720" cy="52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23040" y="3054240"/>
            <a:ext cx="40464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08600" y="3043080"/>
            <a:ext cx="79380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762280" y="351144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25960" y="3533760"/>
            <a:ext cx="4903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19680" y="3544920"/>
            <a:ext cx="50472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83000" y="3568680"/>
            <a:ext cx="492120" cy="51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132600" y="35686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95920" y="3591000"/>
            <a:ext cx="55260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976640" y="355608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0320" y="3578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44960" y="349884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2432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402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976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8280" y="301932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7600" y="30081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10240" y="254016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23600" y="256392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11000" y="22320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/>
          <p:nvPr/>
        </p:nvSpPr>
        <p:spPr>
          <a:xfrm>
            <a:off x="2140560" y="5051520"/>
            <a:ext cx="478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possible solutions at le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des of tree (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solutions, 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 is the number of vari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72320" y="3089160"/>
            <a:ext cx="816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44320" y="308916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3960" y="2517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60440" y="31240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6480" y="314640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39400" y="3660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1520" y="35812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F77-7594-44AC-9AE9-63FC96CAA32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351A6-24D4-4A44-B6F2-14052D7FD8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211428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is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mar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enumeration strate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ranching, all possible solutions (e.g.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umber of path for al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enume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ounding, only a (usually) small subset of possible solutions are evaluated before a provably optimal solution i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696-BC73-4C2E-A91B-8E464DA5A6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20CBD-4D02-4681-B2F8-5F73D3E7D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unding: The Linear Programming (LP) Relax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the linear path-based MCF problem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jective is to minim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P relaxation repla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0,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LP solution 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IP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60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’s provide a bound on the lowest possible value of the optimal integer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28D-1B66-43AE-956E-4BDB91C9F1F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E9155-A3EE-4A23-AECF-33DD9105E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11000" y="1657080"/>
            <a:ext cx="80262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n IP with binary restrictions on all variables,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note the linear programming relaxation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no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ves (is optimal for)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at least one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call i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ny optimal solution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branch: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branch: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690-D7E0-489E-AC27-E8B85A5707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EC0EE-9475-4F58-AE11-28394857A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ictorial 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51460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44640" y="5867280"/>
            <a:ext cx="554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422440" y="2955960"/>
            <a:ext cx="1128960" cy="12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22440" y="4206960"/>
            <a:ext cx="701640" cy="10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122640" y="4876920"/>
            <a:ext cx="2865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987880" y="3565080"/>
            <a:ext cx="16668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534840" y="2987280"/>
            <a:ext cx="2606760" cy="59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31720" y="2955960"/>
            <a:ext cx="152280" cy="2394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49560" y="4968720"/>
            <a:ext cx="2239920" cy="776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78360" y="4435560"/>
            <a:ext cx="3200400" cy="12952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18280" y="2179800"/>
            <a:ext cx="1707840" cy="2712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209680" y="2482920"/>
            <a:ext cx="3581640" cy="792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0560" y="394956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3440" y="481644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2057400"/>
            <a:ext cx="3139920" cy="207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DD4-03D4-4ED2-AC25-8DBF2A6235C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BFF88-DE34-4CF1-A081-12769F943564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lationship between Bound and Tree Dep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t least one fractional variab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= LP(1) + [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0 or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1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1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CF9-03D7-42C8-AE82-432B2DB641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45B17-9E83-4008-B229-638E865B34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E9C-E5F2-4FA8-81F3-F6A921EC95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2ABDA-902A-43F4-8D9F-938F0CF742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ee Pru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737240" y="1371600"/>
            <a:ext cx="869760" cy="40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7920" y="1371600"/>
            <a:ext cx="95904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025880" y="1782720"/>
            <a:ext cx="72864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13120" y="1805040"/>
            <a:ext cx="45108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99200" y="1828800"/>
            <a:ext cx="404640" cy="4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85120" y="1817640"/>
            <a:ext cx="79344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538080" y="2286000"/>
            <a:ext cx="5050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2120" y="2308320"/>
            <a:ext cx="4921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697280" y="232092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60960" y="234324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908760" y="234324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72440" y="2365200"/>
            <a:ext cx="552240" cy="49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753160" y="23320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354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22560" y="227484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00480" y="2298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676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7560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179388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04120" y="178452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13143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26480" y="133992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25840" y="136044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7520" y="186372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360" y="19335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78320" y="19224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8320" y="241308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8932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11000" y="16002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762120"/>
            <a:ext cx="2844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cumbent:  Current b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asible (IP) solution value =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3714840"/>
            <a:ext cx="241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3029040"/>
            <a:ext cx="7213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UNE (FATHOM) tree at node 2 (solutions on the LHS of tree cannot be optimal.  1/2 of the solutions (nodes) do not need to be evaluate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2040" y="1122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712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891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179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084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4520" y="217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1340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46120" y="18651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3920" y="23907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036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45147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gral, PRUNE tree at node 2 (solutions in sub-tree at node 2 cannot be bette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15920" y="54291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P(2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feasible, PRUNE tree at node 2 (solutions in sub-tree at node 2 cannot be feasibl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5147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15920" y="54291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358-C432-430B-80ED-AD16BCA0B6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E16BC-9904-4CD2-890A-69E766C4F5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ning with rootnode (minimiza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un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e the current LP with this and all restrictions along the (back) path to the rootnode enforc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n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optimal LP value is greater than or equal to the incumbent solution: 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feasible: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tegral: Prune and update incumbent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some variable to an integer val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all nodes pru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F47-1658-4653-9C29-8CE1D81A42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41E51-0557-4B9E-BC53-E97C84F12395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tailored to solve large-scale integer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LP using column generation at each node of the branch-and-bound t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olumns might have to be generated to find an optimal solution to the constrained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 to design the branching decision so that the algorithm for the pricing is unchanged as the branch-and-bound tree is proces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DA0-4A8C-4566-813B-F4ABC2816C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A1775-736B-46C9-AF51-CDE9B884632D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 Revisite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385-2334-4ADB-A5A3-10A99E887E5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1DF59-A362-495C-ADEC-50BE5DF99C14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:  Branching and Compatibility with the Pric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ricing problem solution is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variable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removed from the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olution to the pricing problem (a shortest path problem) CANNOT generate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he shortest path, must instead fin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x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general, at nodes of dep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branch-and-bound tree, the pricing problem must potentially generat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40F-7330-4917-82E5-DD81373D79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812BE-11F0-4CD5-9A17-DE5BB5C66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n Alternative Branching Idea:  Branch on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mall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hose flow is spl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kes 2 paths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the divergence no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749600" y="3909960"/>
            <a:ext cx="6237000" cy="2023200"/>
            <a:chOff x="1749600" y="3909960"/>
            <a:chExt cx="6237000" cy="2023200"/>
          </a:xfrm>
        </p:grpSpPr>
        <p:sp>
          <p:nvSpPr>
            <p:cNvPr id="625" name=""/>
            <p:cNvSpPr/>
            <p:nvPr/>
          </p:nvSpPr>
          <p:spPr>
            <a:xfrm>
              <a:off x="3213000" y="3909960"/>
              <a:ext cx="2129040" cy="1436760"/>
            </a:xfrm>
            <a:custGeom>
              <a:avLst/>
              <a:gdLst/>
              <a:ahLst/>
              <a:rect l="l" t="t" r="r" b="b"/>
              <a:pathLst>
                <a:path w="1341" h="905">
                  <a:moveTo>
                    <a:pt x="7" y="904"/>
                  </a:moveTo>
                  <a:lnTo>
                    <a:pt x="13" y="862"/>
                  </a:lnTo>
                  <a:lnTo>
                    <a:pt x="13" y="826"/>
                  </a:lnTo>
                  <a:lnTo>
                    <a:pt x="0" y="789"/>
                  </a:lnTo>
                  <a:lnTo>
                    <a:pt x="0" y="753"/>
                  </a:lnTo>
                  <a:lnTo>
                    <a:pt x="0" y="716"/>
                  </a:lnTo>
                  <a:lnTo>
                    <a:pt x="13" y="680"/>
                  </a:lnTo>
                  <a:lnTo>
                    <a:pt x="53" y="643"/>
                  </a:lnTo>
                  <a:lnTo>
                    <a:pt x="80" y="607"/>
                  </a:lnTo>
                  <a:lnTo>
                    <a:pt x="120" y="583"/>
                  </a:lnTo>
                  <a:lnTo>
                    <a:pt x="172" y="559"/>
                  </a:lnTo>
                  <a:lnTo>
                    <a:pt x="212" y="559"/>
                  </a:lnTo>
                  <a:lnTo>
                    <a:pt x="265" y="546"/>
                  </a:lnTo>
                  <a:lnTo>
                    <a:pt x="318" y="535"/>
                  </a:lnTo>
                  <a:lnTo>
                    <a:pt x="358" y="535"/>
                  </a:lnTo>
                  <a:lnTo>
                    <a:pt x="398" y="522"/>
                  </a:lnTo>
                  <a:lnTo>
                    <a:pt x="438" y="510"/>
                  </a:lnTo>
                  <a:lnTo>
                    <a:pt x="478" y="473"/>
                  </a:lnTo>
                  <a:lnTo>
                    <a:pt x="504" y="437"/>
                  </a:lnTo>
                  <a:lnTo>
                    <a:pt x="544" y="401"/>
                  </a:lnTo>
                  <a:lnTo>
                    <a:pt x="544" y="364"/>
                  </a:lnTo>
                  <a:lnTo>
                    <a:pt x="557" y="328"/>
                  </a:lnTo>
                  <a:lnTo>
                    <a:pt x="570" y="291"/>
                  </a:lnTo>
                  <a:lnTo>
                    <a:pt x="597" y="255"/>
                  </a:lnTo>
                  <a:lnTo>
                    <a:pt x="610" y="218"/>
                  </a:lnTo>
                  <a:lnTo>
                    <a:pt x="624" y="182"/>
                  </a:lnTo>
                  <a:lnTo>
                    <a:pt x="636" y="145"/>
                  </a:lnTo>
                  <a:lnTo>
                    <a:pt x="664" y="109"/>
                  </a:lnTo>
                  <a:lnTo>
                    <a:pt x="690" y="48"/>
                  </a:lnTo>
                  <a:lnTo>
                    <a:pt x="716" y="12"/>
                  </a:lnTo>
                  <a:lnTo>
                    <a:pt x="756" y="0"/>
                  </a:lnTo>
                  <a:lnTo>
                    <a:pt x="796" y="0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16" y="24"/>
                  </a:lnTo>
                  <a:lnTo>
                    <a:pt x="955" y="61"/>
                  </a:lnTo>
                  <a:lnTo>
                    <a:pt x="1008" y="72"/>
                  </a:lnTo>
                  <a:lnTo>
                    <a:pt x="1048" y="97"/>
                  </a:lnTo>
                  <a:lnTo>
                    <a:pt x="1088" y="109"/>
                  </a:lnTo>
                  <a:lnTo>
                    <a:pt x="1128" y="121"/>
                  </a:lnTo>
                  <a:lnTo>
                    <a:pt x="1168" y="134"/>
                  </a:lnTo>
                  <a:lnTo>
                    <a:pt x="1208" y="145"/>
                  </a:lnTo>
                  <a:lnTo>
                    <a:pt x="1220" y="182"/>
                  </a:lnTo>
                  <a:lnTo>
                    <a:pt x="1260" y="206"/>
                  </a:lnTo>
                  <a:lnTo>
                    <a:pt x="1300" y="218"/>
                  </a:lnTo>
                  <a:lnTo>
                    <a:pt x="1340" y="24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55880" y="4124160"/>
              <a:ext cx="53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46440" y="4622760"/>
              <a:ext cx="21240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31040" y="4622760"/>
              <a:ext cx="2127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5240" y="4273560"/>
              <a:ext cx="2145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4800" y="4765680"/>
              <a:ext cx="1203120" cy="64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03960" y="4416480"/>
              <a:ext cx="2103480" cy="460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49600" y="424188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32760" y="491796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46560" y="4454640"/>
              <a:ext cx="2022480" cy="892080"/>
            </a:xfrm>
            <a:custGeom>
              <a:avLst/>
              <a:gdLst/>
              <a:ahLst/>
              <a:rect l="l" t="t" r="r" b="b"/>
              <a:pathLst>
                <a:path w="1274" h="562">
                  <a:moveTo>
                    <a:pt x="0" y="504"/>
                  </a:moveTo>
                  <a:lnTo>
                    <a:pt x="53" y="496"/>
                  </a:lnTo>
                  <a:lnTo>
                    <a:pt x="95" y="496"/>
                  </a:lnTo>
                  <a:lnTo>
                    <a:pt x="136" y="496"/>
                  </a:lnTo>
                  <a:lnTo>
                    <a:pt x="190" y="518"/>
                  </a:lnTo>
                  <a:lnTo>
                    <a:pt x="231" y="540"/>
                  </a:lnTo>
                  <a:lnTo>
                    <a:pt x="273" y="561"/>
                  </a:lnTo>
                  <a:lnTo>
                    <a:pt x="314" y="561"/>
                  </a:lnTo>
                  <a:lnTo>
                    <a:pt x="355" y="561"/>
                  </a:lnTo>
                  <a:lnTo>
                    <a:pt x="396" y="561"/>
                  </a:lnTo>
                  <a:lnTo>
                    <a:pt x="451" y="561"/>
                  </a:lnTo>
                  <a:lnTo>
                    <a:pt x="492" y="561"/>
                  </a:lnTo>
                  <a:lnTo>
                    <a:pt x="533" y="561"/>
                  </a:lnTo>
                  <a:lnTo>
                    <a:pt x="574" y="540"/>
                  </a:lnTo>
                  <a:lnTo>
                    <a:pt x="601" y="507"/>
                  </a:lnTo>
                  <a:lnTo>
                    <a:pt x="615" y="475"/>
                  </a:lnTo>
                  <a:lnTo>
                    <a:pt x="643" y="442"/>
                  </a:lnTo>
                  <a:lnTo>
                    <a:pt x="657" y="410"/>
                  </a:lnTo>
                  <a:lnTo>
                    <a:pt x="698" y="377"/>
                  </a:lnTo>
                  <a:lnTo>
                    <a:pt x="752" y="346"/>
                  </a:lnTo>
                  <a:lnTo>
                    <a:pt x="807" y="324"/>
                  </a:lnTo>
                  <a:lnTo>
                    <a:pt x="849" y="313"/>
                  </a:lnTo>
                  <a:lnTo>
                    <a:pt x="917" y="291"/>
                  </a:lnTo>
                  <a:lnTo>
                    <a:pt x="958" y="291"/>
                  </a:lnTo>
                  <a:lnTo>
                    <a:pt x="999" y="281"/>
                  </a:lnTo>
                  <a:lnTo>
                    <a:pt x="1054" y="281"/>
                  </a:lnTo>
                  <a:lnTo>
                    <a:pt x="1095" y="270"/>
                  </a:lnTo>
                  <a:lnTo>
                    <a:pt x="1163" y="270"/>
                  </a:lnTo>
                  <a:lnTo>
                    <a:pt x="1205" y="270"/>
                  </a:lnTo>
                  <a:lnTo>
                    <a:pt x="1246" y="259"/>
                  </a:lnTo>
                  <a:lnTo>
                    <a:pt x="1246" y="227"/>
                  </a:lnTo>
                  <a:lnTo>
                    <a:pt x="1246" y="195"/>
                  </a:lnTo>
                  <a:lnTo>
                    <a:pt x="1246" y="162"/>
                  </a:lnTo>
                  <a:lnTo>
                    <a:pt x="1246" y="130"/>
                  </a:lnTo>
                  <a:lnTo>
                    <a:pt x="1246" y="97"/>
                  </a:lnTo>
                  <a:lnTo>
                    <a:pt x="1260" y="65"/>
                  </a:lnTo>
                  <a:lnTo>
                    <a:pt x="1260" y="32"/>
                  </a:lnTo>
                  <a:lnTo>
                    <a:pt x="1273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1000" y="4940280"/>
              <a:ext cx="5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21200" y="547848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147840" y="5121360"/>
            <a:ext cx="214560" cy="264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DFE-3919-431F-A160-385E9835C1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6EFC1-ED07-46B7-AFD8-486FC2015DE5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vergence No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 a2, a3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a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a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 a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3278160"/>
            <a:ext cx="4572000" cy="2589120"/>
            <a:chOff x="2133720" y="3278160"/>
            <a:chExt cx="4572000" cy="2589120"/>
          </a:xfrm>
        </p:grpSpPr>
        <p:sp>
          <p:nvSpPr>
            <p:cNvPr id="641" name=""/>
            <p:cNvSpPr/>
            <p:nvPr/>
          </p:nvSpPr>
          <p:spPr>
            <a:xfrm>
              <a:off x="4273560" y="4370400"/>
              <a:ext cx="291960" cy="320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6720" y="37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133720" y="4611600"/>
              <a:ext cx="2209680" cy="8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286000" y="4696920"/>
              <a:ext cx="2133720" cy="9176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3778200"/>
              <a:ext cx="2133720" cy="7524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72000" y="3278160"/>
              <a:ext cx="1981080" cy="1168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72000" y="4111560"/>
              <a:ext cx="205740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4613400"/>
              <a:ext cx="2133720" cy="417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95680" y="4697280"/>
              <a:ext cx="2133720" cy="1170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76560" y="385128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52880" y="51037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00240" y="3348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28840" y="451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0E3-7237-4394-AAAC-59A78DA86D2D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40191-FEE6-4071-BCD3-851A4EE3BC02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two branches, one wh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other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"/>
          <p:cNvSpPr/>
          <p:nvPr/>
        </p:nvSpPr>
        <p:spPr>
          <a:xfrm>
            <a:off x="2346480" y="2712960"/>
            <a:ext cx="42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971800" y="2722680"/>
                <a:ext cx="31240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01840" y="4637160"/>
                <a:ext cx="39610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2D1-51AF-4648-BF37-0302BF6F7D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03CB1-F97B-471F-82EE-F4295CD94A35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Conventional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ght telecommunications test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nodes, 130 arcs, 585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experiment on an IBM RS6000/5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of the eight test problems, run time of 360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easible solution wa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0E3-B0EE-4882-B3AE-EB8019EB9D2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176B2-B7E0-43F5-9E83-E8165F771E30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Our New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066680" y="1601640"/>
          <a:ext cx="7766280" cy="41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1640"/>
                    <a:ext cx="7766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738360" y="5472000"/>
            <a:ext cx="762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est problems have 50 nodes, 130 arcs, 585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s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B4C-9180-4223-89B8-5263BA31BD68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A39A5-67D6-4DB1-B07F-993557DB3C20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851-1B35-4680-8AA6-1129B81BAA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34008-3A51-4687-9ECD-C6D95FD167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430-A4E7-42E6-9F9A-8789ECBB321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FD385-3041-4666-9572-AEEBD954B8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strategy should preserve the structure of the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 on “small” decisions, not the variables in the column generation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2C6-F019-4268-A9B1-1A7D44C1B6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2AA47-C043-40AD-8E3A-53923021B3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CDD-2BB2-4CAF-99EF-53FCB50741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67D48-157C-4043-B63B-05F111B993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C7E-B3F9-47C4-B74F-6222C13965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B9354-AAC3-4D1C-97F3-2103C51A35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504-90D3-4DFC-8725-567118A0AA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5698C-D018-4DAE-B74E-F571F80070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2:52Z</dcterms:modified>
  <cp:revision>396</cp:revision>
  <dc:subject/>
  <dc:title>Thesis Proposal Meeting</dc:title>
</cp:coreProperties>
</file>